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68B-F4B5-4175-AB22-02CEA93C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258-5AFC-4A62-BB07-EF2B710C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EE7-3E71-4B3D-8AE9-37A32121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5F2-C72E-4DF4-91FA-156E28FF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06A2-7826-4254-AA40-3237FEB9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26FE-106A-4DB2-9B16-2185F103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69D4-867C-4F95-89BC-69FE5D99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7244-072B-43DD-A267-D980478D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5D88-482F-45C1-863F-A8C54728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2800-E4D0-4EC6-A538-774E28B6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8951-395C-4015-9581-2A91A4F6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F85-16D6-4C2D-9FC3-1340CC32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E5A6-8374-471D-9E9E-5325A9D7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4383-D98D-41C7-A883-9D29DC3C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9AC2-9036-4E11-83B3-816568BA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6AB8-5FA9-4A86-97B0-0828F571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D1D6-98C2-44FC-97CA-2A7566C6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A1BBA-4BFE-4E4D-921F-34AC3563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49998-7F0D-4E3F-9DCC-058F63EF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F9C98-CFA3-4F06-AD60-216FB044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8545C-0D30-4EFB-87FD-1E87E96E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ADD0-8BCC-4D1B-96A1-4FDA86BF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9D42-8B75-483B-9DB1-225AA069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FF24E-E1FC-4E6E-82FF-0A71FFCF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0DFF-5826-4195-934A-1975C0A9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89497-5958-4C84-B9B5-3599FEF6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AAA2-2CFF-418D-99DB-A6B3F44F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B98C0-2DEC-4A9A-BA1F-64E9F808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F161-C3BF-4AF1-A260-273F4579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63AB-9518-4903-9ED9-AAEC5E48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86418-5F95-429E-8CD0-4B7AB2F6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2C188-27D3-4261-B2A0-E927EF09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73B58-9FE9-40FA-90F0-3560CF63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616-2313-4481-BD32-2DA854DC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9CCF7-DA1E-4342-B170-75F43F5B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5C61C-D057-428C-8E63-CDDAB7AE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3A61E-39AD-46B0-BBD2-8C34A0EE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3C794-FC08-4E18-AA56-7F7F6AAD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6270D-6118-4D50-989B-AC0B9EC2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2A2F1-0851-43D5-BDD4-D30E4EC5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568CF-C2A3-4884-A588-BF14CAFE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96137-C8F2-4741-BF63-FEA7BB9B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3E289-04AD-4FBC-9A59-06EBE752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20DDD-B711-436C-8441-604E0E65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77F-CCFD-462F-B300-DACBB23C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FA5D2-3659-46E6-82E5-E686F8E7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4E3D2-AB74-4E08-83B1-7EC361C9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6DC73-ED43-409E-BDE6-A9F7125A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1D9D5-09B5-437A-9947-BE33F616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916EE-2A99-423B-83E8-68781129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52F66-AF30-48CB-944B-85C0580B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3D2A4-4D4A-46D7-80FF-1C271227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8A7E2-568C-4E6C-B0BB-8111E09C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FFCBC-248E-464F-9693-BD520037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43B06-9701-407C-B498-47DC4403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25B-0461-4588-858F-0BB34BBB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37701-4DAE-413A-B561-5EAAF1F3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DF89B-1C4E-4249-A05F-B3A57CAE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82475-9506-419B-9F42-54600C13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E4213-5BC6-4733-835C-3C230BE1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8B0A6-93F1-4F83-B5D8-A55B1120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30A7C-BDB2-469C-9F87-B3FF711C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6B4A3-201B-4491-824F-782BA0CF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B5401-E094-46D0-A138-3DFAC6C7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9C297-D5FA-4030-913E-CEE5FF57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D216F-2CEE-4CF3-A493-6B4591D6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9C8-2D3D-4125-A59F-CD1BE208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56460-33F3-4BA4-B8C7-E828ACCE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89D07-B788-478A-8A60-9B9A5914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E1697-90A5-41DA-9DAA-8E21C061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6E615-CDB8-46E4-96B5-3AD5ACEE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3714D-EA77-44FD-8C73-75D15C49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94AC5-E676-4D3C-8E76-4705C659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164D8-E8C7-446E-88F9-A4D51F4F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95628-A5DC-46E7-BD47-E7F9056C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0FAA1-021D-4767-8674-D5F47838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1A11A-249A-48BB-9A15-4BE50A8F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51D-23D2-4925-9062-72F4C33C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9C474-E68B-499E-88F3-2CBC4D07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174FC-636D-42BE-927A-A6208D0C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9D48C-0E74-4B43-AA5F-EEEE191F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7A1B5-BCFB-423B-8C41-F11A179D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04D77-85CF-4EE3-8EA4-487E2FEF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B83-743C-4DEF-9BD5-3670C74D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1B56-E636-4A66-840A-FA2515D10C0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6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370E-8C36-4C51-B451-80AD107A7BED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B88F-2706-435D-BFE9-EA19D7F2ADB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8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7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0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9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E4BF-56EA-4922-A7AC-90EE7C6B345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3775-2DC5-424E-9ABC-8FD8CC493A7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26E7-F113-4C39-B3D1-D009E6A4BE38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36B7-88B6-4010-A095-FA5BCB0774A9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masmates-igv.blogspot.com/" TargetMode="External"/><Relationship Id="rId3" Type="http://schemas.openxmlformats.org/officeDocument/2006/relationships/hyperlink" Target="http://masmates-igv.blogspot.com/" TargetMode="External"/><Relationship Id="rId4" Type="http://schemas.openxmlformats.org/officeDocument/2006/relationships/hyperlink" Target="http://masmates-igv.blogspot.com/" TargetMode="External"/><Relationship Id="rId5" Type="http://schemas.openxmlformats.org/officeDocument/2006/relationships/hyperlink" Target="http://masmates-igv.blogspot.com/" TargetMode="External"/><Relationship Id="rId6" Type="http://schemas.openxmlformats.org/officeDocument/2006/relationships/hyperlink" Target="http://masmates-igv.blogspot.com/" TargetMode="External"/><Relationship Id="rId7" Type="http://schemas.openxmlformats.org/officeDocument/2006/relationships/hyperlink" Target="http://masmates-igv.blogspot.com/" TargetMode="External"/><Relationship Id="rId8" Type="http://schemas.openxmlformats.org/officeDocument/2006/relationships/hyperlink" Target="http://rojasreli.blogspot.com/" TargetMode="External"/><Relationship Id="rId9" Type="http://schemas.openxmlformats.org/officeDocument/2006/relationships/hyperlink" Target="http://rojasreli.blogspot.com/" TargetMode="External"/><Relationship Id="rId10" Type="http://schemas.openxmlformats.org/officeDocument/2006/relationships/hyperlink" Target="http://rojasreli.blogspot.com/" TargetMode="External"/><Relationship Id="rId11" Type="http://schemas.openxmlformats.org/officeDocument/2006/relationships/hyperlink" Target="http://rojasreli.blogspot.com/" TargetMode="External"/><Relationship Id="rId12" Type="http://schemas.openxmlformats.org/officeDocument/2006/relationships/hyperlink" Target="http://www.juegoseducativosonline.blogspot.com/" TargetMode="External"/><Relationship Id="rId13" Type="http://schemas.openxmlformats.org/officeDocument/2006/relationships/hyperlink" Target="http://www.juegoseducativosonline.blogspot.com/" TargetMode="External"/><Relationship Id="rId14" Type="http://schemas.openxmlformats.org/officeDocument/2006/relationships/hyperlink" Target="http://www.juegoseducativosonline.blogspot.com/" TargetMode="External"/><Relationship Id="rId15" Type="http://schemas.openxmlformats.org/officeDocument/2006/relationships/hyperlink" Target="http://www.juegoseducativosonline.blogspot.com/" TargetMode="External"/><Relationship Id="rId16" Type="http://schemas.openxmlformats.org/officeDocument/2006/relationships/hyperlink" Target="http://plasticayvisual.edublogs.org/" TargetMode="External"/><Relationship Id="rId17" Type="http://schemas.openxmlformats.org/officeDocument/2006/relationships/hyperlink" Target="http://plasticayvisual.edublogs.org/" TargetMode="External"/><Relationship Id="rId18" Type="http://schemas.openxmlformats.org/officeDocument/2006/relationships/hyperlink" Target="http://plasticayvisual.edublogs.org/" TargetMode="External"/><Relationship Id="rId19" Type="http://schemas.openxmlformats.org/officeDocument/2006/relationships/hyperlink" Target="http://plasticayvisual.edublogs.org/" TargetMode="External"/><Relationship Id="rId20" Type="http://schemas.openxmlformats.org/officeDocument/2006/relationships/hyperlink" Target="http://educadultos.blogcindario.com/" TargetMode="External"/><Relationship Id="rId21" Type="http://schemas.openxmlformats.org/officeDocument/2006/relationships/hyperlink" Target="http://educadultos.blogcindario.com/" TargetMode="External"/><Relationship Id="rId22" Type="http://schemas.openxmlformats.org/officeDocument/2006/relationships/hyperlink" Target="http://educadultos.blogcindario.com/" TargetMode="External"/><Relationship Id="rId23" Type="http://schemas.openxmlformats.org/officeDocument/2006/relationships/hyperlink" Target="http://educadultos.blogcindario.com/" TargetMode="External"/><Relationship Id="rId24" Type="http://schemas.openxmlformats.org/officeDocument/2006/relationships/hyperlink" Target="http://fisica-quimica.blogspot.com/" TargetMode="External"/><Relationship Id="rId25" Type="http://schemas.openxmlformats.org/officeDocument/2006/relationships/hyperlink" Target="http://fisica-quimica.blogspot.com/" TargetMode="External"/><Relationship Id="rId26" Type="http://schemas.openxmlformats.org/officeDocument/2006/relationships/hyperlink" Target="http://fisica-quimica.blogspot.com/" TargetMode="External"/><Relationship Id="rId27" Type="http://schemas.openxmlformats.org/officeDocument/2006/relationships/hyperlink" Target="http://fisica-quimica.blogspot.com/" TargetMode="External"/><Relationship Id="rId28" Type="http://schemas.openxmlformats.org/officeDocument/2006/relationships/hyperlink" Target="http://fisica-quimica.blogspot.com/" TargetMode="External"/><Relationship Id="rId29" Type="http://schemas.openxmlformats.org/officeDocument/2006/relationships/hyperlink" Target="http://fisica-quimica.blogspot.com/" TargetMode="External"/><Relationship Id="rId3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1 Título" descr=""/>
          <p:cNvPicPr/>
          <p:nvPr/>
        </p:nvPicPr>
        <p:blipFill>
          <a:blip r:embed="rId1"/>
          <a:stretch/>
        </p:blipFill>
        <p:spPr>
          <a:xfrm>
            <a:off x="536400" y="1627200"/>
            <a:ext cx="8332920" cy="1487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3855960" cy="30686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788000" y="5589720"/>
            <a:ext cx="3671640" cy="93492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ego Villalba Asper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 donde profesores, catedráticos o investigadores comparten opiniones o experiencias relativas a las materias en que trabaja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Por ejempl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ttp://aulablog.com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ttp://edubloggerargento.ning.com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ttp://eduspaces.net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rcRect l="0" t="18337" r="0" b="3543"/>
          <a:stretch/>
        </p:blipFill>
        <p:spPr>
          <a:xfrm>
            <a:off x="0" y="285840"/>
            <a:ext cx="91440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 especializado en un tema o rama específico, donde se da entrada  a opiniones, noticias o novedades y está dirigido al público en genera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jempl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ttp://www.eduvlog.org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rcRect l="0" t="14651" r="0" b="6250"/>
          <a:stretch/>
        </p:blipFill>
        <p:spPr>
          <a:xfrm>
            <a:off x="0" y="504720"/>
            <a:ext cx="9144000" cy="57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09160" cy="15476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s dedicados a la enseñanza desde la creación, configuración y gestión de los mismos, y realizan a su vez reflexión sobre la calidad y la innovación de las TIC (Tecnología de Información y Comunicación) en la educació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jempl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http://blogeducativo.blogia.com/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http://jjdeharo.blogspot.com/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17579" r="0" b="6250"/>
          <a:stretch/>
        </p:blipFill>
        <p:spPr>
          <a:xfrm>
            <a:off x="0" y="50004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s creados en portales blogs , en este destacan el Blogger de Google y el Wordpres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s creados dentro de plataformas virtuales como el Mood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s con dominio propio por ejemplo www.miblog.edu (Más difícil y caro de implementar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Un </a:t>
            </a:r>
            <a:r>
              <a:rPr b="1" lang="es-ES" sz="3000" spc="-1" strike="noStrike">
                <a:solidFill>
                  <a:srgbClr val="ffffff"/>
                </a:solidFill>
                <a:latin typeface="Century Gothic"/>
              </a:rPr>
              <a:t>blog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, weblog, diario o bitácora, es un sitio web periódicamente actualizado que recopila cronológicamente información, apareciendo primero el más reciente y con la posibilidad de enviar comentarios al respect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Hay de tipo personal, periodístico, empresarial o corporativo, tecnológico, educativo, políticos, etc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s aquel blog que se usa como apoyo  o como herramienta en el proceso educativ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Algunas característica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Es barato por no decir gratuit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Es fácil su manej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Permite dividirlo en categorías y etiqueta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Se puede integrar fácilmente con videos, podcast, imágenes, RS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Es interactiv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Los blogs se pueden utilizar en todos los niveles educativos  incluso a nivel de educación para adultos y para diversas materia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Ejemplo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masmates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-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igv.blogspot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8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9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0"/>
              </a:rPr>
              <a:t>rojasreli.blogspot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1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2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3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4"/>
              </a:rPr>
              <a:t>www.juegoseducativosonline.blogspot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5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6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7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8"/>
              </a:rPr>
              <a:t>plasticayvisual.edublogs.org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9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0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1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2"/>
              </a:rPr>
              <a:t>educadultos.blogcindario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3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4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5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6"/>
              </a:rPr>
              <a:t>fisica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7"/>
              </a:rPr>
              <a:t>-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8"/>
              </a:rPr>
              <a:t>quimica.blogspot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9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rve para aumentar la eficacia de la clase y del aprendizaj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lumno y profesor introducen cualquier tipo de informació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punt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mentario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mpliaciones de contenidos de la clas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comendacion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ugerencia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 apoyo  a la docenci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 aprendizaje o ejercici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 comunicación entre docentes e investigado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o medio de divulgació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 seguimiento de las TIC en la educació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irven para dar apoyo material a la docencia, seguimiento o evaluación de una clase presencia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Para tal fin, es necesari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entury Gothic"/>
              </a:rPr>
              <a:t>Blog del docente </a:t>
            </a: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que tiene su propio blog donde proporciona el material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entury Gothic"/>
              </a:rPr>
              <a:t>Blog del alumno</a:t>
            </a: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 que tiene su propio blog donde desarrolle las actividad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entury Gothic"/>
              </a:rPr>
              <a:t>Blog docente-alumno</a:t>
            </a: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, en ese mismo espacio el docente espera que el alumno responda o particip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45520" cy="140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 donde se exponen cada día distintos recursos (mediante acceso a otras páginas web) con el fin de aprender o ejercitar los conocimientos sobre un determinado tem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jemplo: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http://recursostic-cole.blogspot.com/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rcRect l="0" t="17776" r="0" b="6053"/>
          <a:stretch/>
        </p:blipFill>
        <p:spPr>
          <a:xfrm>
            <a:off x="0" y="6429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7:00:53Z</dcterms:created>
  <dc:creator>miguel cordova</dc:creator>
  <dc:description/>
  <dc:language>en-US</dc:language>
  <cp:lastModifiedBy>Ana</cp:lastModifiedBy>
  <dcterms:modified xsi:type="dcterms:W3CDTF">2010-01-26T21:18:56Z</dcterms:modified>
  <cp:revision>15</cp:revision>
  <dc:subject/>
  <dc:title>Diapositiva 1</dc:title>
</cp:coreProperties>
</file>