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CC5C-682E-45E8-9944-431303FE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5567-0793-4693-919B-EB3A2CED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1BE7-B027-463F-8CE0-888F25B4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D890-F90B-4955-801A-6781C73A1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7E1D-739E-4C5C-9D84-28AD4E6E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CD39-FBDB-4187-9786-D04AA64B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FC6D-71AD-4679-8918-F88F757A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9160-92EE-4577-B874-77217B88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ED2D-0BB7-47E4-8B3C-8F7F7BF7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9C22-BDC2-48C6-BEE8-B3BE36B5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495D-321D-413E-AEE5-C93BFD40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0470-AF68-4AA7-8545-699A5AF9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7681-FC88-4951-B877-FC7A9C6F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255D-953A-4160-BA52-83FEE3E3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2388-8F59-4610-AACA-5D64DC61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93B9-9A75-4920-ADC6-2CBB3FCAD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239A-E48C-47CE-A0FC-2B5FEC0EF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E1172-1967-4B9B-BB12-4D8DB49CF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1937F-849C-44C7-A181-C11CB39D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4F431-566C-4279-B2F1-826FE18E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A18DA-DAB4-4A5D-B79C-D0E46948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36A25-D16C-46B5-806E-9687A02E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A280-B827-4B16-81F2-12419297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1A076-7F0B-47F1-92BD-0BC1879F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B8110-3FCF-439C-974B-DE65D7F4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9CFBE-2154-41AA-A6B5-6919E4A8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9D942-E70A-49FA-8649-ED1E24E4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D3EFA-95E7-4BC5-8CBE-F9969E67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DF3EE-0396-48E2-B637-A6FED234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95ECE-894B-4038-8C57-A9D26841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AA43D-5016-4F0A-A990-EAEFF8FAF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89639-C4D9-416A-AB43-31227C4A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9925F-6B6B-4C7D-A60B-C2ED6B1B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AF00-5554-4535-97C9-7697FCF6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59720-1FAD-4FC5-8769-4EB73628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DC868-4BB9-4B8E-A207-6A7BD8DA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1B5FB-D19F-4B8E-9791-BB556D8C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E0277-E9DB-45BF-87F3-B02C43B5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5981F-8A43-48F5-B149-02CEC173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3AE24-A0B3-4FF6-BDD3-027B4E4B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CC1E2-BEBD-487B-9E57-586E7C88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650C1-84F0-44E7-964E-E185D7845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5B437-E909-4B73-9AE9-81876F28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017D7-2A84-48E9-9F63-427AB4A62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1819-7CE7-4FD6-AB07-CB002850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EFD49-04F3-451F-9309-C32C1ADF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36280-BC27-4A76-B543-2CA157B5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52A0F-7890-4AC8-AA38-46F11FDD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96946-DC00-484E-B56E-A2D44E38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A0359-19A2-4DE6-BEF5-00B8E7D2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0AF4C-1A45-4F8D-80A8-8103AB18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2EA49-9FF5-42C9-9972-600B0B16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2515F-9604-4DFA-B053-C7EAFF8B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F057F-67EE-49DC-9923-75DEFE25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8DB3B-C728-4998-A420-D638FDCD9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1A47-096D-4BB7-A484-E6C64F88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26881-61D8-456F-B2CC-414621FEE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A1562-EC4D-4CCE-BA0F-4980D8B7E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4CB2C-C667-40D5-974A-9307AEF7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9369A-9FF4-486C-8CAB-36703C44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29FFF-4860-41D2-B57B-8F6E6BBB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521A6-28CB-4FB8-A157-E9DA35EF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DC939-4EA0-48A8-95F3-CB1649D0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46C84-286B-4ACB-A599-23326170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4A0E1-D178-476F-BD77-BCC0C1E8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67355-E46E-4DCE-8BC8-F6059708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45E2-FB25-4A33-96B6-CDA4FEB0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5ECC7-5DF4-4B5F-A198-AC18ED87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0201E-D687-4A4B-B0BE-3934B0C1A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7A348-DA1F-416C-A56D-A6D01D60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481D5-A28B-42C7-8289-6F24E034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59143-2F4B-4294-AB94-B8688B69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2A196-9446-4F4E-B57F-CBA58309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5F063-0F03-4E1E-ADB4-9544D784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DC673-88B9-4B41-8B04-3531E80F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AD0A8-ED7B-4D10-A362-3F332BD2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D38B3-2BFA-49BA-A646-3B5AD5A1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E105-B333-4DF7-B75C-B3C2341D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D4B03-2477-4B68-9E82-49D46201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50130-3E7E-4CD8-81F5-8D2BF8CE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A6427-FDF4-4A42-93F1-486C6DA3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14AB1-C18C-4927-BAEC-78AB3E30A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45E76-10C4-432C-9450-FD0977C8C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D704-AC02-4D3E-AB63-F3B075EE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94A9-0978-47F5-B1C6-2B810C07A59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6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17B7-754F-4817-879D-0011632D204F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B44E-A4CC-477F-8DE9-0F2A4344CDD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8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7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10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9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4514-DAAB-4A55-8386-41D09AFB2702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049F-08CA-4CF3-A0EF-54DE9CF1DF4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9083-A3BA-4E7F-96ED-B2248AB1D716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03C0-AC1C-4014-9CD4-14B133C31101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masmates-igv.blogspot.com/" TargetMode="External"/><Relationship Id="rId3" Type="http://schemas.openxmlformats.org/officeDocument/2006/relationships/hyperlink" Target="http://masmates-igv.blogspot.com/" TargetMode="External"/><Relationship Id="rId4" Type="http://schemas.openxmlformats.org/officeDocument/2006/relationships/hyperlink" Target="http://masmates-igv.blogspot.com/" TargetMode="External"/><Relationship Id="rId5" Type="http://schemas.openxmlformats.org/officeDocument/2006/relationships/hyperlink" Target="http://masmates-igv.blogspot.com/" TargetMode="External"/><Relationship Id="rId6" Type="http://schemas.openxmlformats.org/officeDocument/2006/relationships/hyperlink" Target="http://masmates-igv.blogspot.com/" TargetMode="External"/><Relationship Id="rId7" Type="http://schemas.openxmlformats.org/officeDocument/2006/relationships/hyperlink" Target="http://masmates-igv.blogspot.com/" TargetMode="External"/><Relationship Id="rId8" Type="http://schemas.openxmlformats.org/officeDocument/2006/relationships/hyperlink" Target="http://rojasreli.blogspot.com/" TargetMode="External"/><Relationship Id="rId9" Type="http://schemas.openxmlformats.org/officeDocument/2006/relationships/hyperlink" Target="http://rojasreli.blogspot.com/" TargetMode="External"/><Relationship Id="rId10" Type="http://schemas.openxmlformats.org/officeDocument/2006/relationships/hyperlink" Target="http://rojasreli.blogspot.com/" TargetMode="External"/><Relationship Id="rId11" Type="http://schemas.openxmlformats.org/officeDocument/2006/relationships/hyperlink" Target="http://rojasreli.blogspot.com/" TargetMode="External"/><Relationship Id="rId12" Type="http://schemas.openxmlformats.org/officeDocument/2006/relationships/hyperlink" Target="http://www.juegoseducativosonline.blogspot.com/" TargetMode="External"/><Relationship Id="rId13" Type="http://schemas.openxmlformats.org/officeDocument/2006/relationships/hyperlink" Target="http://www.juegoseducativosonline.blogspot.com/" TargetMode="External"/><Relationship Id="rId14" Type="http://schemas.openxmlformats.org/officeDocument/2006/relationships/hyperlink" Target="http://www.juegoseducativosonline.blogspot.com/" TargetMode="External"/><Relationship Id="rId15" Type="http://schemas.openxmlformats.org/officeDocument/2006/relationships/hyperlink" Target="http://www.juegoseducativosonline.blogspot.com/" TargetMode="External"/><Relationship Id="rId16" Type="http://schemas.openxmlformats.org/officeDocument/2006/relationships/hyperlink" Target="http://plasticayvisual.edublogs.org/" TargetMode="External"/><Relationship Id="rId17" Type="http://schemas.openxmlformats.org/officeDocument/2006/relationships/hyperlink" Target="http://plasticayvisual.edublogs.org/" TargetMode="External"/><Relationship Id="rId18" Type="http://schemas.openxmlformats.org/officeDocument/2006/relationships/hyperlink" Target="http://plasticayvisual.edublogs.org/" TargetMode="External"/><Relationship Id="rId19" Type="http://schemas.openxmlformats.org/officeDocument/2006/relationships/hyperlink" Target="http://plasticayvisual.edublogs.org/" TargetMode="External"/><Relationship Id="rId20" Type="http://schemas.openxmlformats.org/officeDocument/2006/relationships/hyperlink" Target="http://educadultos.blogcindario.com/" TargetMode="External"/><Relationship Id="rId21" Type="http://schemas.openxmlformats.org/officeDocument/2006/relationships/hyperlink" Target="http://educadultos.blogcindario.com/" TargetMode="External"/><Relationship Id="rId22" Type="http://schemas.openxmlformats.org/officeDocument/2006/relationships/hyperlink" Target="http://educadultos.blogcindario.com/" TargetMode="External"/><Relationship Id="rId23" Type="http://schemas.openxmlformats.org/officeDocument/2006/relationships/hyperlink" Target="http://educadultos.blogcindario.com/" TargetMode="External"/><Relationship Id="rId24" Type="http://schemas.openxmlformats.org/officeDocument/2006/relationships/hyperlink" Target="http://fisica-quimica.blogspot.com/" TargetMode="External"/><Relationship Id="rId25" Type="http://schemas.openxmlformats.org/officeDocument/2006/relationships/hyperlink" Target="http://fisica-quimica.blogspot.com/" TargetMode="External"/><Relationship Id="rId26" Type="http://schemas.openxmlformats.org/officeDocument/2006/relationships/hyperlink" Target="http://fisica-quimica.blogspot.com/" TargetMode="External"/><Relationship Id="rId27" Type="http://schemas.openxmlformats.org/officeDocument/2006/relationships/hyperlink" Target="http://fisica-quimica.blogspot.com/" TargetMode="External"/><Relationship Id="rId28" Type="http://schemas.openxmlformats.org/officeDocument/2006/relationships/hyperlink" Target="http://fisica-quimica.blogspot.com/" TargetMode="External"/><Relationship Id="rId29" Type="http://schemas.openxmlformats.org/officeDocument/2006/relationships/hyperlink" Target="http://fisica-quimica.blogspot.com/" TargetMode="External"/><Relationship Id="rId30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1 Título" descr=""/>
          <p:cNvPicPr/>
          <p:nvPr/>
        </p:nvPicPr>
        <p:blipFill>
          <a:blip r:embed="rId1"/>
          <a:stretch/>
        </p:blipFill>
        <p:spPr>
          <a:xfrm>
            <a:off x="536400" y="1627200"/>
            <a:ext cx="8332920" cy="1487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" descr=""/>
          <p:cNvPicPr/>
          <p:nvPr/>
        </p:nvPicPr>
        <p:blipFill>
          <a:blip r:embed="rId2"/>
          <a:stretch/>
        </p:blipFill>
        <p:spPr>
          <a:xfrm>
            <a:off x="324000" y="3573360"/>
            <a:ext cx="3855960" cy="30686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4788000" y="5589720"/>
            <a:ext cx="3671640" cy="93492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ego Villalba Asperil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Blog donde profesores, catedráticos o investigadores comparten opiniones o experiencias relativas a las materias en que trabaja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Por ejemplo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http://aulablog.com/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http://edubloggerargento.ning.com/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http://eduspaces.net/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rcRect l="0" t="18337" r="0" b="3543"/>
          <a:stretch/>
        </p:blipFill>
        <p:spPr>
          <a:xfrm>
            <a:off x="0" y="285840"/>
            <a:ext cx="914400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Blog especializado en un tema o rama específico, donde se da entrada  a opiniones, noticias o novedades y está dirigido al público en general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Ejemplo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http://www.eduvlog.org/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1"/>
          <a:srcRect l="0" t="14651" r="0" b="6250"/>
          <a:stretch/>
        </p:blipFill>
        <p:spPr>
          <a:xfrm>
            <a:off x="0" y="504720"/>
            <a:ext cx="9144000" cy="57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309160" cy="154764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Blogs dedicados a la enseñanza desde la creación, configuración y gestión de los mismos, y realizan a su vez reflexión sobre la calidad y la innovación de las TIC (Tecnología de Información y Comunicación) en la educació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Ejemplo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http://blogeducativo.blogia.com/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http://jjdeharo.blogspot.com/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rcRect l="0" t="17579" r="0" b="6250"/>
          <a:stretch/>
        </p:blipFill>
        <p:spPr>
          <a:xfrm>
            <a:off x="0" y="50004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Blogs creados en portales blogs , en este destacan el Blogger de Google y el Wordpress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Blogs creados dentro de plataformas virtuales como el Mood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Blogs con dominio propio por ejemplo www.miblog.edu (Más difícil y caro de implementar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Un </a:t>
            </a:r>
            <a:r>
              <a:rPr b="1" lang="es-ES" sz="3000" spc="-1" strike="noStrike">
                <a:solidFill>
                  <a:srgbClr val="ffffff"/>
                </a:solidFill>
                <a:latin typeface="Century Gothic"/>
              </a:rPr>
              <a:t>blog</a:t>
            </a: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, weblog, diario o bitácora, es un sitio web periódicamente actualizado que recopila cronológicamente información, apareciendo primero el más reciente y con la posibilidad de enviar comentarios al respecto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Hay de tipo personal, periodístico, empresarial o corporativo, tecnológico, educativo, políticos, etc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5717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Es aquel blog que se usa como apoyo  o como herramienta en el proceso educativo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Algunas características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Es barato por no decir gratuito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Es fácil su manejo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Permite dividirlo en categorías y etiqueta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Se puede integrar fácilmente con videos, podcast, imágenes, RS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Es interactivo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-37476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</a:rPr>
              <a:t>Los blogs se pueden utilizar en todos los niveles educativos  incluso a nivel de educación para adultos y para diversas materia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</a:rPr>
              <a:t>Ejemplos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http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3"/>
              </a:rPr>
              <a:t>://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4"/>
              </a:rPr>
              <a:t>masmates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5"/>
              </a:rPr>
              <a:t>-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6"/>
              </a:rPr>
              <a:t>igv.blogspot.com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7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8"/>
              </a:rPr>
              <a:t>http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9"/>
              </a:rPr>
              <a:t>://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10"/>
              </a:rPr>
              <a:t>rojasreli.blogspot.com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11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12"/>
              </a:rPr>
              <a:t>http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13"/>
              </a:rPr>
              <a:t>://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14"/>
              </a:rPr>
              <a:t>www.juegoseducativosonline.blogspot.com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15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16"/>
              </a:rPr>
              <a:t>http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17"/>
              </a:rPr>
              <a:t>://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18"/>
              </a:rPr>
              <a:t>plasticayvisual.edublogs.org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19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20"/>
              </a:rPr>
              <a:t>http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21"/>
              </a:rPr>
              <a:t>://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22"/>
              </a:rPr>
              <a:t>educadultos.blogcindario.com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23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24"/>
              </a:rPr>
              <a:t>http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25"/>
              </a:rPr>
              <a:t>://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26"/>
              </a:rPr>
              <a:t>fisica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27"/>
              </a:rPr>
              <a:t>-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28"/>
              </a:rPr>
              <a:t>quimica.blogspot.com</a:t>
            </a:r>
            <a:r>
              <a:rPr b="0" lang="es-ES" sz="2400" spc="-1" strike="noStrike" u="sng">
                <a:solidFill>
                  <a:srgbClr val="17bbfd"/>
                </a:solidFill>
                <a:uFillTx/>
                <a:latin typeface="Century Gothic"/>
                <a:hlinkClick r:id="rId29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rve para aumentar la eficacia de la clase y del aprendizaj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lumno y profesor introducen cualquier tipo de información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punt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omentario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mpliaciones de contenidos de la clas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Recomendacion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ugerencia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 apoyo  a la docenci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 aprendizaje o ejercicio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 comunicación entre docentes e investigado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o medio de divulgació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 seguimiento de las TIC en la educació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Sirven para dar apoyo material a la docencia, seguimiento o evaluación de una clase presencial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Para tal fin, es necesario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13960" indent="-28296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entury Gothic"/>
              </a:rPr>
              <a:t>Blog del docente </a:t>
            </a: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que tiene su propio blog donde proporciona el material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13960" indent="-28296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entury Gothic"/>
              </a:rPr>
              <a:t>Blog del alumno</a:t>
            </a: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 que tiene su propio blog donde desarrolle las actividad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13960" indent="-28296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entury Gothic"/>
              </a:rPr>
              <a:t>Blog docente-alumno</a:t>
            </a: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, en ese mismo espacio el docente espera que el alumno responda o participe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13960" indent="-28296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345520" cy="14079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Blog donde se exponen cada día distintos recursos (mediante acceso a otras páginas web) con el fin de aprender o ejercitar los conocimientos sobre un determinado tema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Ejemplo: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http://recursostic-cole.blogspot.com/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0" name="Picture 3" descr=""/>
          <p:cNvPicPr/>
          <p:nvPr/>
        </p:nvPicPr>
        <p:blipFill>
          <a:blip r:embed="rId1"/>
          <a:srcRect l="0" t="17776" r="0" b="6053"/>
          <a:stretch/>
        </p:blipFill>
        <p:spPr>
          <a:xfrm>
            <a:off x="0" y="64296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7:00:53Z</dcterms:created>
  <dc:creator>miguel cordova</dc:creator>
  <dc:description/>
  <dc:language>en-US</dc:language>
  <cp:lastModifiedBy>Ana</cp:lastModifiedBy>
  <dcterms:modified xsi:type="dcterms:W3CDTF">2010-01-26T21:18:56Z</dcterms:modified>
  <cp:revision>15</cp:revision>
  <dc:subject/>
  <dc:title>Diapositiva 1</dc:title>
</cp:coreProperties>
</file>