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04B3-E67D-4280-9A49-C6F104839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A013-59AD-4435-BE6F-D1AFF577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5440-FD42-4845-8EE8-FA8FA6436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23B3-0DF7-460C-8586-6E6E96CA1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0EC7-0F86-4225-99FD-1D1BAE6AD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C0D8-5302-49D6-85BA-8BB876B9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5D98-16AC-457F-9641-D3D48625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2F0A-BFA4-418D-AF79-F9B0FF9B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F951-6653-4B26-AE6E-AA1ED3D1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A4CA-811F-4AF9-A0DD-F81161A4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94BD-8A1F-4097-8D09-2CF40413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836E-DBE1-4368-A7B2-FCE3AE14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5D06-3BE9-4FF4-B3DB-1E4EA333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F828-E691-4E21-B0AC-954B62B0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C10C-9B93-4B6B-AE86-081EAC2F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8619-4DEF-41B6-AC68-DAE17487D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1FBC-DAE1-4FB1-95DA-0591AD85C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883B4-CD06-4FAE-974D-3A7884991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E7322-4F30-4595-A0A5-7D909133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42BA8-EF1E-4F84-9F8E-F08F2997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A3799-4282-477E-82B1-15C41C27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969BC-0FF9-4B31-AA73-1030F85B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0F3E-70DD-4E52-A01D-75A454B6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2B2C2-8447-4F9E-8105-4C7CB408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3A7CA-4577-4597-953E-0D7EBA4B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A725F-6DF7-4394-9499-FB8F3BDF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A743A-C9B5-4C7E-BBB4-035076BD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2CB6F-6705-4C1E-BE60-B093B3AD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12676-1A1E-4246-BFAB-BBCC37DC7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A0C14-5166-47E9-BE9F-70786FE42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FE999-4AA7-44F4-9860-CE156E3A3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91D81-2515-4EAC-8779-DE11888B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15621-256B-4CF8-ABF2-F67B885B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66FF-9439-46DB-9241-EFC34063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5F7E8-B909-4B1A-9B48-BFC6C36D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2F7FF-A035-4153-B8DE-E523ADE7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8EE09-9DBC-4842-AAC3-509FD916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31980-D357-4314-97D9-BE456881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BA05F-AA17-4D58-85D1-1066DA9F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94A08-D4E9-4CC7-BB5B-9A1FBF6B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8F2D8-63EB-4292-B4B8-8071C0A5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019B5-45EB-4CB8-BEB7-482F8AD14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03B08-380D-4957-B13B-C75BA4B6E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CACDB-4B10-4AEB-93AD-111588B4A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D98F-2E6C-45A6-8BF6-0C1F5522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27A01-622B-482F-8D2D-AD96A8F8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0EF27-9D4B-4C12-B782-58DFD41F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72FA4-597A-4B8C-8180-E8ED2CE6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583E2-9F87-4E37-A596-652A5DC0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2FD47-EE5D-4A70-B519-FF2C955C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B1657-C37F-4D8E-ABC8-0A8FE024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F316F-F776-43CD-9967-FD7153CA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89104-7988-49B2-A52B-D912817C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8F8E3-6043-4FF3-85AB-E047ADFB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2BDD1-C012-4D76-8F7F-5D14E32DB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B8BE-8B91-4D1D-94D8-7C767CCB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7C0A7-150A-4BE3-B5FE-9934C0EA7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66315-AFEE-4594-8C1D-7D8A9C6C6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CC64D-EAC3-4900-AAD9-67A5BDED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56F46-E7FE-47B6-A8F3-96A25A9A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A8F0E-94E6-450C-A9A6-6F022FEB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395AF-A05D-4817-A4F7-569FE1EF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66358-69C7-4360-8C41-DF17554C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191C3-E426-4C73-B73F-6B4E53DE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E4C2A-B5C1-4F36-8ACE-4A762BC4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9C032-8A73-4568-B03C-542911A8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7577-86D8-4381-BE44-FB568062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EC158-0799-4B5C-9549-DC64B796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54864-AD1F-45B9-81F7-AB340E6AC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8CA60-D9C2-4BA2-AEF5-955265B4D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D278F-3E9B-4046-A1DA-9E0C6A9E5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AC7AF-3AE4-49FF-9FE5-57CCA9EF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CFCE2-F064-4A57-BD6E-8C890D90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1BE21-6DC9-4BBD-8737-9A774495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A6A44-9F0A-42CB-96AE-769F16FC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919DD-96EB-4A9D-8582-B7E4A024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0B394-C23D-42BD-9A76-43CD3195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2A4F-1FE9-48AE-A581-3AE0D651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9C394-D961-4025-BF6D-74F90CF5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082A5-1154-40A9-A7A3-D88D165B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AB1A5-D82A-474B-988F-8F2FE170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DEF0C-72F4-4C50-A608-019ED2D12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F13EB-B3BD-4B6A-9BAA-C47FAEC87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9710-59C2-438D-934A-71632EF0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1CA1-CA78-41BC-BB5B-95F51E37BA7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6 Triángulo isósceles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F197-C534-4B0C-8038-106CF3EF08A6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22C9-2237-4799-ADB7-FF156DF8742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8 Triángulo rectángulo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7 Triángulo isósceles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10 Conector recto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9 Conector recto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F705-3314-477B-B6A5-2A5BD1DDBB4B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C9CA-899C-445F-8699-6C7CEFFF183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F57A-E8F3-4115-A000-BE3BE5690A3A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BADC-44CC-4E27-B3C1-EEA701811456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masmates-igv.blogspot.com/" TargetMode="External"/><Relationship Id="rId3" Type="http://schemas.openxmlformats.org/officeDocument/2006/relationships/hyperlink" Target="http://masmates-igv.blogspot.com/" TargetMode="External"/><Relationship Id="rId4" Type="http://schemas.openxmlformats.org/officeDocument/2006/relationships/hyperlink" Target="http://masmates-igv.blogspot.com/" TargetMode="External"/><Relationship Id="rId5" Type="http://schemas.openxmlformats.org/officeDocument/2006/relationships/hyperlink" Target="http://masmates-igv.blogspot.com/" TargetMode="External"/><Relationship Id="rId6" Type="http://schemas.openxmlformats.org/officeDocument/2006/relationships/hyperlink" Target="http://masmates-igv.blogspot.com/" TargetMode="External"/><Relationship Id="rId7" Type="http://schemas.openxmlformats.org/officeDocument/2006/relationships/hyperlink" Target="http://masmates-igv.blogspot.com/" TargetMode="External"/><Relationship Id="rId8" Type="http://schemas.openxmlformats.org/officeDocument/2006/relationships/hyperlink" Target="http://rojasreli.blogspot.com/" TargetMode="External"/><Relationship Id="rId9" Type="http://schemas.openxmlformats.org/officeDocument/2006/relationships/hyperlink" Target="http://rojasreli.blogspot.com/" TargetMode="External"/><Relationship Id="rId10" Type="http://schemas.openxmlformats.org/officeDocument/2006/relationships/hyperlink" Target="http://rojasreli.blogspot.com/" TargetMode="External"/><Relationship Id="rId11" Type="http://schemas.openxmlformats.org/officeDocument/2006/relationships/hyperlink" Target="http://rojasreli.blogspot.com/" TargetMode="External"/><Relationship Id="rId12" Type="http://schemas.openxmlformats.org/officeDocument/2006/relationships/hyperlink" Target="http://www.juegoseducativosonline.blogspot.com/" TargetMode="External"/><Relationship Id="rId13" Type="http://schemas.openxmlformats.org/officeDocument/2006/relationships/hyperlink" Target="http://www.juegoseducativosonline.blogspot.com/" TargetMode="External"/><Relationship Id="rId14" Type="http://schemas.openxmlformats.org/officeDocument/2006/relationships/hyperlink" Target="http://www.juegoseducativosonline.blogspot.com/" TargetMode="External"/><Relationship Id="rId15" Type="http://schemas.openxmlformats.org/officeDocument/2006/relationships/hyperlink" Target="http://www.juegoseducativosonline.blogspot.com/" TargetMode="External"/><Relationship Id="rId16" Type="http://schemas.openxmlformats.org/officeDocument/2006/relationships/hyperlink" Target="http://plasticayvisual.edublogs.org/" TargetMode="External"/><Relationship Id="rId17" Type="http://schemas.openxmlformats.org/officeDocument/2006/relationships/hyperlink" Target="http://plasticayvisual.edublogs.org/" TargetMode="External"/><Relationship Id="rId18" Type="http://schemas.openxmlformats.org/officeDocument/2006/relationships/hyperlink" Target="http://plasticayvisual.edublogs.org/" TargetMode="External"/><Relationship Id="rId19" Type="http://schemas.openxmlformats.org/officeDocument/2006/relationships/hyperlink" Target="http://plasticayvisual.edublogs.org/" TargetMode="External"/><Relationship Id="rId20" Type="http://schemas.openxmlformats.org/officeDocument/2006/relationships/hyperlink" Target="http://educadultos.blogcindario.com/" TargetMode="External"/><Relationship Id="rId21" Type="http://schemas.openxmlformats.org/officeDocument/2006/relationships/hyperlink" Target="http://educadultos.blogcindario.com/" TargetMode="External"/><Relationship Id="rId22" Type="http://schemas.openxmlformats.org/officeDocument/2006/relationships/hyperlink" Target="http://educadultos.blogcindario.com/" TargetMode="External"/><Relationship Id="rId23" Type="http://schemas.openxmlformats.org/officeDocument/2006/relationships/hyperlink" Target="http://educadultos.blogcindario.com/" TargetMode="External"/><Relationship Id="rId24" Type="http://schemas.openxmlformats.org/officeDocument/2006/relationships/hyperlink" Target="http://fisica-quimica.blogspot.com/" TargetMode="External"/><Relationship Id="rId25" Type="http://schemas.openxmlformats.org/officeDocument/2006/relationships/hyperlink" Target="http://fisica-quimica.blogspot.com/" TargetMode="External"/><Relationship Id="rId26" Type="http://schemas.openxmlformats.org/officeDocument/2006/relationships/hyperlink" Target="http://fisica-quimica.blogspot.com/" TargetMode="External"/><Relationship Id="rId27" Type="http://schemas.openxmlformats.org/officeDocument/2006/relationships/hyperlink" Target="http://fisica-quimica.blogspot.com/" TargetMode="External"/><Relationship Id="rId28" Type="http://schemas.openxmlformats.org/officeDocument/2006/relationships/hyperlink" Target="http://fisica-quimica.blogspot.com/" TargetMode="External"/><Relationship Id="rId29" Type="http://schemas.openxmlformats.org/officeDocument/2006/relationships/hyperlink" Target="http://fisica-quimica.blogspot.com/" TargetMode="External"/><Relationship Id="rId30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1 Título" descr=""/>
          <p:cNvPicPr/>
          <p:nvPr/>
        </p:nvPicPr>
        <p:blipFill>
          <a:blip r:embed="rId1"/>
          <a:stretch/>
        </p:blipFill>
        <p:spPr>
          <a:xfrm>
            <a:off x="536400" y="1627200"/>
            <a:ext cx="8332920" cy="1487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" descr=""/>
          <p:cNvPicPr/>
          <p:nvPr/>
        </p:nvPicPr>
        <p:blipFill>
          <a:blip r:embed="rId2"/>
          <a:stretch/>
        </p:blipFill>
        <p:spPr>
          <a:xfrm>
            <a:off x="324000" y="3573360"/>
            <a:ext cx="3855960" cy="306864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4788000" y="5589720"/>
            <a:ext cx="3671640" cy="93492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ego Villalba Asperil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1 Título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Blog donde profesores, catedráticos o investigadores comparten opiniones o experiencias relativas a las materias en que trabajan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Por ejemplo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entury Gothic"/>
              </a:rPr>
              <a:t>http://aulablog.com/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entury Gothic"/>
              </a:rPr>
              <a:t>http://edubloggerargento.ning.com/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entury Gothic"/>
              </a:rPr>
              <a:t>http://eduspaces.net/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5" name="Picture 2" descr=""/>
          <p:cNvPicPr/>
          <p:nvPr/>
        </p:nvPicPr>
        <p:blipFill>
          <a:blip r:embed="rId1"/>
          <a:srcRect l="0" t="18337" r="0" b="3543"/>
          <a:stretch/>
        </p:blipFill>
        <p:spPr>
          <a:xfrm>
            <a:off x="0" y="285840"/>
            <a:ext cx="914400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1 Título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Blog especializado en un tema o rama específico, donde se da entrada  a opiniones, noticias o novedades y está dirigido al público en general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Ejemplo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just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entury Gothic"/>
              </a:rPr>
              <a:t>http://www.eduvlog.org/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1"/>
          <a:srcRect l="0" t="14651" r="0" b="6250"/>
          <a:stretch/>
        </p:blipFill>
        <p:spPr>
          <a:xfrm>
            <a:off x="0" y="504720"/>
            <a:ext cx="9144000" cy="57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1 Título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309160" cy="154764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Blogs dedicados a la enseñanza desde la creación, configuración y gestión de los mismos, y realizan a su vez reflexión sobre la calidad y la innovación de las TIC (Tecnología de Información y Comunicación) en la educación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Ejemplo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http://blogeducativo.blogia.com/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http://jjdeharo.blogspot.com/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rcRect l="0" t="17579" r="0" b="6250"/>
          <a:stretch/>
        </p:blipFill>
        <p:spPr>
          <a:xfrm>
            <a:off x="0" y="500040"/>
            <a:ext cx="91440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1 Título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Blogs creados en portales blogs , en este destacan el Blogger de Google y el Wordpress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Blogs creados dentro de plataformas virtuales como el Moodl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Blogs con dominio propio por ejemplo www.miblog.edu (Más difícil y caro de implementar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1 Título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5720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Un </a:t>
            </a:r>
            <a:r>
              <a:rPr b="1" lang="es-ES" sz="3000" spc="-1" strike="noStrike">
                <a:solidFill>
                  <a:srgbClr val="ffffff"/>
                </a:solidFill>
                <a:latin typeface="Century Gothic"/>
              </a:rPr>
              <a:t>blog</a:t>
            </a: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, weblog, diario o bitácora, es un sitio web periódicamente actualizado que recopila cronológicamente información, apareciendo primero el más reciente y con la posibilidad de enviar comentarios al respecto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Hay de tipo personal, periodístico, empresarial o corporativo, tecnológico, educativo, políticos, etc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1 Título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5717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Es aquel blog que se usa como apoyo  o como herramienta en el proceso educativo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Algunas características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entury Gothic"/>
              </a:rPr>
              <a:t>Es barato por no decir gratuito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entury Gothic"/>
              </a:rPr>
              <a:t>Es fácil su manejo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entury Gothic"/>
              </a:rPr>
              <a:t>Permite dividirlo en categorías y etiqueta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entury Gothic"/>
              </a:rPr>
              <a:t>Se puede integrar fácilmente con videos, podcast, imágenes, RS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entury Gothic"/>
              </a:rPr>
              <a:t>Es interactivo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1 Título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-37476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entury Gothic"/>
              </a:rPr>
              <a:t>Los blogs se pueden utilizar en todos los niveles educativos  incluso a nivel de educación para adultos y para diversas materia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entury Gothic"/>
              </a:rPr>
              <a:t>Ejemplos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http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3"/>
              </a:rPr>
              <a:t>://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4"/>
              </a:rPr>
              <a:t>masmates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5"/>
              </a:rPr>
              <a:t>-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6"/>
              </a:rPr>
              <a:t>igv.blogspot.com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7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8"/>
              </a:rPr>
              <a:t>http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9"/>
              </a:rPr>
              <a:t>://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10"/>
              </a:rPr>
              <a:t>rojasreli.blogspot.com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11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12"/>
              </a:rPr>
              <a:t>http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13"/>
              </a:rPr>
              <a:t>://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14"/>
              </a:rPr>
              <a:t>www.juegoseducativosonline.blogspot.com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15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16"/>
              </a:rPr>
              <a:t>http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17"/>
              </a:rPr>
              <a:t>://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18"/>
              </a:rPr>
              <a:t>plasticayvisual.edublogs.org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19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20"/>
              </a:rPr>
              <a:t>http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21"/>
              </a:rPr>
              <a:t>://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22"/>
              </a:rPr>
              <a:t>educadultos.blogcindario.com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23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24"/>
              </a:rPr>
              <a:t>http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25"/>
              </a:rPr>
              <a:t>://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26"/>
              </a:rPr>
              <a:t>fisica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27"/>
              </a:rPr>
              <a:t>-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28"/>
              </a:rPr>
              <a:t>quimica.blogspot.com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29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1 Título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rve para aumentar la eficacia de la clase y del aprendizaj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lumno y profesor introducen cualquier tipo de información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just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punte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just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omentario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just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mpliaciones de contenidos de la clas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just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Recomendacione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just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ugerencia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1 Título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 apoyo  a la docenci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 aprendizaje o ejercicio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 comunicación entre docentes e investigado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o medio de divulgació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 seguimiento de las TIC en la educació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1 Título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Sirven para dar apoyo material a la docencia, seguimiento o evaluación de una clase presencial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Para tal fin, es necesario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13960" indent="-28296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entury Gothic"/>
              </a:rPr>
              <a:t>Blog del docente </a:t>
            </a:r>
            <a:r>
              <a:rPr b="0" lang="es-ES" sz="2600" spc="-1" strike="noStrike">
                <a:solidFill>
                  <a:srgbClr val="ffffff"/>
                </a:solidFill>
                <a:latin typeface="Century Gothic"/>
              </a:rPr>
              <a:t>que tiene su propio blog donde proporciona el material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13960" indent="-28296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entury Gothic"/>
              </a:rPr>
              <a:t>Blog del alumno</a:t>
            </a:r>
            <a:r>
              <a:rPr b="0" lang="es-ES" sz="2600" spc="-1" strike="noStrike">
                <a:solidFill>
                  <a:srgbClr val="ffffff"/>
                </a:solidFill>
                <a:latin typeface="Century Gothic"/>
              </a:rPr>
              <a:t> que tiene su propio blog donde desarrolle las actividade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13960" indent="-28296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entury Gothic"/>
              </a:rPr>
              <a:t>Blog docente-alumno</a:t>
            </a:r>
            <a:r>
              <a:rPr b="0" lang="es-ES" sz="2600" spc="-1" strike="noStrike">
                <a:solidFill>
                  <a:srgbClr val="ffffff"/>
                </a:solidFill>
                <a:latin typeface="Century Gothic"/>
              </a:rPr>
              <a:t>, en ese mismo espacio el docente espera que el alumno responda o participe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13960" indent="-28296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1 Título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345520" cy="14079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Blog donde se exponen cada día distintos recursos (mediante acceso a otras páginas web) con el fin de aprender o ejercitar los conocimientos sobre un determinado tema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Ejemplo: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http://recursostic-cole.blogspot.com/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0" name="Picture 3" descr=""/>
          <p:cNvPicPr/>
          <p:nvPr/>
        </p:nvPicPr>
        <p:blipFill>
          <a:blip r:embed="rId1"/>
          <a:srcRect l="0" t="17776" r="0" b="6053"/>
          <a:stretch/>
        </p:blipFill>
        <p:spPr>
          <a:xfrm>
            <a:off x="0" y="64296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7:00:53Z</dcterms:created>
  <dc:creator>miguel cordova</dc:creator>
  <dc:description/>
  <dc:language>en-US</dc:language>
  <cp:lastModifiedBy>Ana</cp:lastModifiedBy>
  <dcterms:modified xsi:type="dcterms:W3CDTF">2010-01-26T21:18:56Z</dcterms:modified>
  <cp:revision>15</cp:revision>
  <dc:subject/>
  <dc:title>Diapositiva 1</dc:title>
</cp:coreProperties>
</file>