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71F-755E-4305-BBF4-F77773BB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18A-689A-4730-87D2-5102AC6B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911-3974-4974-B1BF-1EEE6840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736-EEDD-4AE3-99F7-E0224E37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406A-2B6B-467A-A14F-FB9EAA3C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9966-199D-4C2A-96F3-85A553AF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0348-5357-4FC5-AC39-69D06998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DB4C-F89A-4C00-AB15-4D721119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6606-4C9C-4EEF-A529-F387EB92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B4D2-E755-495D-AF4F-392A8B68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905E-2868-4DD9-A53D-2DB9F18D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B29-2811-46ED-9B6E-8A86B384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715D-9620-405C-A358-CAB1BA56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CA7C-51CF-417B-80F7-07B19C2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7F60-1CC5-4DD5-BF8D-2E2666FA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4960-82E1-460D-BB36-02041E89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6669-614C-4E13-9A18-5D0A81D9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7F17-DEE6-4CFD-8053-DB352872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8DDD-CA75-4D07-9244-60A26434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6449-DC46-4CF0-A917-100D4C46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47E9-9028-4909-A8D5-594340D0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00B0-3F8F-44CB-8F62-4C178D1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AF9-73EE-40C7-AC8C-0B2C00F4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AC62-3859-494C-BD4D-C61194E5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0F07-A1E6-4294-B0A8-11D8E728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6127B-24C2-4656-95D8-C3EA1BA7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E3CA-7732-4052-9091-1A90601E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E5DA-AAF3-4BE4-8E82-49E1969A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12FA-E8E4-4CE5-B70A-158BD471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1FA55-7A61-442C-8D0C-5B0370BE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69DB9-7A9F-4D7D-B54A-E6D0FE92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640E-0085-4E74-ACB8-8D25295C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8F918-B28B-4A7A-8339-1895911A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939-A00F-452B-ACBF-4CF87E09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0836-8837-4F8D-A0F0-8EA05F17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81BCA-786E-4FB6-8F4D-6F3A3035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0A36F-077A-4A13-A3DA-38000260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58E1D-7C76-4900-9DA6-11FE193B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BEEA-A81D-42AC-8B19-C590FDD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4A264-F528-49A9-8906-E44AFA41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C8D1-2AA5-4B9C-BD9C-21EB339D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8D08E-5E21-43EE-BEB9-3DB6DB08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3E68-8BB9-43C9-9E46-9806EB9E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FFAF8-F158-4137-AB42-632017E0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215-F616-43A2-BADD-B97009B4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FD47-6FB7-4433-9DB3-2E958AA0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6D10B-5692-48DC-836D-15142D25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9A1A4-8556-4769-BD03-ABB8BA90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68A23-86CC-48DD-A023-45653D85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58559-FBE8-4A0C-A581-24739980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0346D-8246-49F8-BA11-CFC0B9A7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FFC3E-E294-41FA-AB22-8CC4923B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9D61-5AF5-4AEC-BA96-272C9194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EDDC-9546-461D-B420-E36D1909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C75D-ED09-4DD9-A35A-081155CD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994-B8C6-474A-9F05-9AAD041E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2C44D-9693-4FA3-8820-991A6EBC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898E1-8E1A-473F-B528-C4BA04E0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60F81-5CFD-4B52-9366-30A2DD48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30FD0-C8ED-49AB-8FC2-BC2A31AA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95129-6361-4EC9-9875-AF110B6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63333-E7BE-4ACE-9B97-F7AFBA4B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F914B-209B-4D2D-9DAB-94F217BF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2485D-ED97-4317-810C-8EBA998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5202B-22F8-4B88-AD3B-E89013EF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5D57B-6337-43BC-972F-2B16935E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358-1B60-49CE-97FE-315F9D78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0A38C-3749-44F0-9BE6-C6912189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5D852-866A-49C1-92BF-C92D5706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6DF85-4302-4931-B534-F19DC5DC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0B38B-CD2D-4CE2-8C06-46AF6904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51FAF-009A-4ECC-AA54-1F95D517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3789F-7630-46D2-B81C-F6427862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35574-E1A2-40C1-92FB-9B6BB452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BAB19-28A7-497F-AC3D-EAA36266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2F8AF-5669-4C74-907C-73D57C07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9AE7F-5F20-41C5-800F-4C82B36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463-C624-4256-88EC-5F6CBCF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F0D44-DD69-4549-9727-DC5A14BF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738AC-7A2C-464B-8FF5-D9EA3A05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9C8E1-CD99-4F08-886E-760045E8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C846B-6ADD-4E82-9373-950C2431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26206-F780-4035-BA7D-3848F49E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16F-C6A1-44C1-B94A-AB021971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F397-90E2-4F0E-BDB8-22C375A317D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6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508A-088E-48BC-807C-148FF12EE5B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E2B-B757-4B97-8BBE-5AC171D10F4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8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0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9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BA6D-27B6-42D4-86B6-6809AC0BD47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B65C-F72F-4306-AC29-D86DB9240F9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F14C-AD01-4DDD-B61F-5905847D671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EF0F-B1BF-484B-9CA5-929DC2AC8955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asmates-igv.blogspot.com/" TargetMode="External"/><Relationship Id="rId3" Type="http://schemas.openxmlformats.org/officeDocument/2006/relationships/hyperlink" Target="http://masmates-igv.blogspot.com/" TargetMode="External"/><Relationship Id="rId4" Type="http://schemas.openxmlformats.org/officeDocument/2006/relationships/hyperlink" Target="http://masmates-igv.blogspot.com/" TargetMode="External"/><Relationship Id="rId5" Type="http://schemas.openxmlformats.org/officeDocument/2006/relationships/hyperlink" Target="http://masmates-igv.blogspot.com/" TargetMode="External"/><Relationship Id="rId6" Type="http://schemas.openxmlformats.org/officeDocument/2006/relationships/hyperlink" Target="http://masmates-igv.blogspot.com/" TargetMode="External"/><Relationship Id="rId7" Type="http://schemas.openxmlformats.org/officeDocument/2006/relationships/hyperlink" Target="http://masmates-igv.blogspot.com/" TargetMode="External"/><Relationship Id="rId8" Type="http://schemas.openxmlformats.org/officeDocument/2006/relationships/hyperlink" Target="http://rojasreli.blogspot.com/" TargetMode="External"/><Relationship Id="rId9" Type="http://schemas.openxmlformats.org/officeDocument/2006/relationships/hyperlink" Target="http://rojasreli.blogspot.com/" TargetMode="External"/><Relationship Id="rId10" Type="http://schemas.openxmlformats.org/officeDocument/2006/relationships/hyperlink" Target="http://rojasreli.blogspot.com/" TargetMode="External"/><Relationship Id="rId11" Type="http://schemas.openxmlformats.org/officeDocument/2006/relationships/hyperlink" Target="http://rojasreli.blogspot.com/" TargetMode="External"/><Relationship Id="rId12" Type="http://schemas.openxmlformats.org/officeDocument/2006/relationships/hyperlink" Target="http://www.juegoseducativosonline.blogspot.com/" TargetMode="External"/><Relationship Id="rId13" Type="http://schemas.openxmlformats.org/officeDocument/2006/relationships/hyperlink" Target="http://www.juegoseducativosonline.blogspot.com/" TargetMode="External"/><Relationship Id="rId14" Type="http://schemas.openxmlformats.org/officeDocument/2006/relationships/hyperlink" Target="http://www.juegoseducativosonline.blogspot.com/" TargetMode="External"/><Relationship Id="rId15" Type="http://schemas.openxmlformats.org/officeDocument/2006/relationships/hyperlink" Target="http://www.juegoseducativosonline.blogspot.com/" TargetMode="External"/><Relationship Id="rId16" Type="http://schemas.openxmlformats.org/officeDocument/2006/relationships/hyperlink" Target="http://plasticayvisual.edublogs.org/" TargetMode="External"/><Relationship Id="rId17" Type="http://schemas.openxmlformats.org/officeDocument/2006/relationships/hyperlink" Target="http://plasticayvisual.edublogs.org/" TargetMode="External"/><Relationship Id="rId18" Type="http://schemas.openxmlformats.org/officeDocument/2006/relationships/hyperlink" Target="http://plasticayvisual.edublogs.org/" TargetMode="External"/><Relationship Id="rId19" Type="http://schemas.openxmlformats.org/officeDocument/2006/relationships/hyperlink" Target="http://plasticayvisual.edublogs.org/" TargetMode="External"/><Relationship Id="rId20" Type="http://schemas.openxmlformats.org/officeDocument/2006/relationships/hyperlink" Target="http://educadultos.blogcindario.com/" TargetMode="External"/><Relationship Id="rId21" Type="http://schemas.openxmlformats.org/officeDocument/2006/relationships/hyperlink" Target="http://educadultos.blogcindario.com/" TargetMode="External"/><Relationship Id="rId22" Type="http://schemas.openxmlformats.org/officeDocument/2006/relationships/hyperlink" Target="http://educadultos.blogcindario.com/" TargetMode="External"/><Relationship Id="rId23" Type="http://schemas.openxmlformats.org/officeDocument/2006/relationships/hyperlink" Target="http://educadultos.blogcindario.com/" TargetMode="External"/><Relationship Id="rId24" Type="http://schemas.openxmlformats.org/officeDocument/2006/relationships/hyperlink" Target="http://fisica-quimica.blogspot.com/" TargetMode="External"/><Relationship Id="rId25" Type="http://schemas.openxmlformats.org/officeDocument/2006/relationships/hyperlink" Target="http://fisica-quimica.blogspot.com/" TargetMode="External"/><Relationship Id="rId26" Type="http://schemas.openxmlformats.org/officeDocument/2006/relationships/hyperlink" Target="http://fisica-quimica.blogspot.com/" TargetMode="External"/><Relationship Id="rId27" Type="http://schemas.openxmlformats.org/officeDocument/2006/relationships/hyperlink" Target="http://fisica-quimica.blogspot.com/" TargetMode="External"/><Relationship Id="rId28" Type="http://schemas.openxmlformats.org/officeDocument/2006/relationships/hyperlink" Target="http://fisica-quimica.blogspot.com/" TargetMode="External"/><Relationship Id="rId29" Type="http://schemas.openxmlformats.org/officeDocument/2006/relationships/hyperlink" Target="http://fisica-quimica.blogspot.com/" TargetMode="External"/><Relationship Id="rId3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1 Título" descr=""/>
          <p:cNvPicPr/>
          <p:nvPr/>
        </p:nvPicPr>
        <p:blipFill>
          <a:blip r:embed="rId1"/>
          <a:stretch/>
        </p:blipFill>
        <p:spPr>
          <a:xfrm>
            <a:off x="536400" y="1627200"/>
            <a:ext cx="8332920" cy="1487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855960" cy="3068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788000" y="5589720"/>
            <a:ext cx="3671640" cy="93492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ego Villalba Asper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donde profesores, catedráticos o investigadores comparten opiniones o experiencias relativas a las materias en que trabaja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or 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aulablog.com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edubloggerargento.ning.com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eduspaces.net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0" t="18337" r="0" b="3543"/>
          <a:stretch/>
        </p:blipFill>
        <p:spPr>
          <a:xfrm>
            <a:off x="0" y="285840"/>
            <a:ext cx="91440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especializado en un tema o rama específico, donde se da entrada  a opiniones, noticias o novedades y está dirigido al público en gener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www.eduvlog.org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rcRect l="0" t="14651" r="0" b="6250"/>
          <a:stretch/>
        </p:blipFill>
        <p:spPr>
          <a:xfrm>
            <a:off x="0" y="504720"/>
            <a:ext cx="914400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09160" cy="15476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dedicados a la enseñanza desde la creación, configuración y gestión de los mismos, y realizan a su vez reflexión sobre la calidad y la innovación de las TIC (Tecnología de Información y Comunicación) en la educació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blogeducativo.blogia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jjdeharo.blogspot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17579" r="0" b="6250"/>
          <a:stretch/>
        </p:blipFill>
        <p:spPr>
          <a:xfrm>
            <a:off x="0" y="50004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reados en portales blogs , en este destacan el Blogger de Google y el Wordpres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reados dentro de plataformas virtuales como el Mood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on dominio propio por ejemplo www.miblog.edu (Más difícil y caro de implementa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Un </a:t>
            </a: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blog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, weblog, diario o bitácora, es un sitio web periódicamente actualizado que recopila cronológicamente información, apareciendo primero el más reciente y con la posibilidad de enviar comentarios al respect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ay de tipo personal, periodístico, empresarial o corporativo, tecnológico, educativo, políticos, et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s aquel blog que se usa como apoyo  o como herramienta en el proceso educativ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Algunas característica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barato por no decir gratuit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fácil su manej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Permite dividirlo en categorías y etiqueta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Se puede integrar fácilmente con videos, podcast, imágenes, RS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interactiv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Los blogs se pueden utilizar en todos los niveles educativos  incluso a nivel de educación para adultos y para diversas materia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Ejemplo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masmates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-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igv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8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9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0"/>
              </a:rPr>
              <a:t>rojasreli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2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3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4"/>
              </a:rPr>
              <a:t>www.juegoseducativosonline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5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6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7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8"/>
              </a:rPr>
              <a:t>plasticayvisual.edublogs.org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9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0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1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2"/>
              </a:rPr>
              <a:t>educadultos.blogcindario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3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4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5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6"/>
              </a:rPr>
              <a:t>fisica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7"/>
              </a:rPr>
              <a:t>-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8"/>
              </a:rPr>
              <a:t>quimica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9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rve para aumentar la eficacia de la clase y del aprendizaj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lumno y profesor introducen cualquier tipo de informació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punt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mentario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mpliaciones de contenidos de la cl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comendacion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ugerencia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apoyo  a la docenc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aprendizaje o ejercici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comunicación entre docentes e investigado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o medio de divulgació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seguimiento de las TIC en la educació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irven para dar apoyo material a la docencia, seguimiento o evaluación de una clase presenci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ara tal fin, es necesari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el docente 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que tiene su propio blog donde proporciona el material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el alumno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 que tiene su propio blog donde desarrolle las actividad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ocente-alumno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, en ese mismo espacio el docente espera que el alumno responda o particip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4552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donde se exponen cada día distintos recursos (mediante acceso a otras páginas web) con el fin de aprender o ejercitar los conocimientos sobre un determinado tem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recursostic-cole.blogspot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rcRect l="0" t="17776" r="0" b="6053"/>
          <a:stretch/>
        </p:blipFill>
        <p:spPr>
          <a:xfrm>
            <a:off x="0" y="6429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7:00:53Z</dcterms:created>
  <dc:creator>miguel cordova</dc:creator>
  <dc:description/>
  <dc:language>en-US</dc:language>
  <cp:lastModifiedBy>Ana</cp:lastModifiedBy>
  <dcterms:modified xsi:type="dcterms:W3CDTF">2010-01-26T21:18:56Z</dcterms:modified>
  <cp:revision>15</cp:revision>
  <dc:subject/>
  <dc:title>Diapositiva 1</dc:title>
</cp:coreProperties>
</file>