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323-B302-4573-9708-2FC81574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43E-39E5-4AD6-80F4-000971F3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0FF-8F33-454D-82BC-913F7FB3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749-11DB-4AE2-93ED-CD0C3A53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7CE3-3E4B-40DD-840A-7419010F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77A6-0B91-4DB5-A0FC-C0408EB6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60C4-8B8F-4724-B976-B9ED810A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D085-899A-4F18-8C97-A2ACC88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9CFB-F9DB-4158-AFEF-C2D3256F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98F2-7D9A-417A-AB4D-9585907C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0DEB-E5AB-437C-B3D0-3A7CDE62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AF6-4A57-4803-B4C1-6ADED706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07EB-6255-4DF1-96FD-14D17573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BF77-42CA-4224-BEE4-24A15969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51B5-BBD4-408D-BC5B-446347BE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DD4C-BD03-4DB6-9495-74CA8B7A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8EFB-6DDF-48A4-A374-B7CDDE80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D94-6C2D-4F56-AD07-08CDB0EE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895-1AFC-459D-8C78-E5A152BD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95A-7853-4C53-AF76-8E8E7A8A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1A6-BDEE-4527-A186-00DB6D06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979-5366-47A7-8EC3-3A8D131D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14A-E7E0-42F4-A901-EBC8A009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4B6-E26A-4C73-BDDA-046EFD8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6144-F541-4E37-ADD8-AB3D6EC4977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EB58-75FF-44CA-ACC2-D6E716D7C5E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ACTIVIDADES DIDÁCT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SEÑO CURRICULAR II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rso: 2009-20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nia Navarr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bén Niet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ncisco Monfor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aprendizaj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Imagen 2" descr=""/>
          <p:cNvPicPr/>
          <p:nvPr/>
        </p:nvPicPr>
        <p:blipFill>
          <a:blip r:embed="rId1"/>
          <a:stretch/>
        </p:blipFill>
        <p:spPr>
          <a:xfrm>
            <a:off x="2357280" y="1928880"/>
            <a:ext cx="1532160" cy="1569960"/>
          </a:xfrm>
          <a:prstGeom prst="rect">
            <a:avLst/>
          </a:prstGeom>
          <a:ln w="0">
            <a:noFill/>
          </a:ln>
        </p:spPr>
      </p:pic>
      <p:pic>
        <p:nvPicPr>
          <p:cNvPr id="176" name="Imagen 3" descr=""/>
          <p:cNvPicPr/>
          <p:nvPr/>
        </p:nvPicPr>
        <p:blipFill>
          <a:blip r:embed="rId2"/>
          <a:stretch/>
        </p:blipFill>
        <p:spPr>
          <a:xfrm>
            <a:off x="2357280" y="3643200"/>
            <a:ext cx="5007240" cy="2675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4928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49280" y="48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refuerz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Imagen 4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4143240" cy="2643120"/>
          </a:xfrm>
          <a:prstGeom prst="rect">
            <a:avLst/>
          </a:prstGeom>
          <a:ln w="0">
            <a:noFill/>
          </a:ln>
        </p:spPr>
      </p:pic>
      <p:pic>
        <p:nvPicPr>
          <p:cNvPr id="182" name="Imagen 5" descr=""/>
          <p:cNvPicPr/>
          <p:nvPr/>
        </p:nvPicPr>
        <p:blipFill>
          <a:blip r:embed="rId2"/>
          <a:stretch/>
        </p:blipFill>
        <p:spPr>
          <a:xfrm>
            <a:off x="5500800" y="3500280"/>
            <a:ext cx="1431720" cy="101304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"/>
          <p:cNvPicPr/>
          <p:nvPr/>
        </p:nvPicPr>
        <p:blipFill>
          <a:blip r:embed="rId3"/>
          <a:stretch/>
        </p:blipFill>
        <p:spPr>
          <a:xfrm>
            <a:off x="5500800" y="4513320"/>
            <a:ext cx="242244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4928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49280" y="29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ampli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Imagen 7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8170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resu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Imagen 8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7867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O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in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Al terminar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aborar conclus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ructurar aprendizaj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yudar a avanzar en la comprensión de los asuntos plante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evalu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utoevalu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evalu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Imagen 9" descr=""/>
          <p:cNvPicPr/>
          <p:nvPr/>
        </p:nvPicPr>
        <p:blipFill>
          <a:blip r:embed="rId1"/>
          <a:stretch/>
        </p:blipFill>
        <p:spPr>
          <a:xfrm>
            <a:off x="2143080" y="1643040"/>
            <a:ext cx="5194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28760" y="828720"/>
          <a:ext cx="7143480" cy="4467240"/>
        </p:xfrm>
        <a:graphic>
          <a:graphicData uri="http://schemas.openxmlformats.org/drawingml/2006/table">
            <a:tbl>
              <a:tblPr/>
              <a:tblGrid>
                <a:gridCol w="928440"/>
                <a:gridCol w="1452600"/>
                <a:gridCol w="1308240"/>
                <a:gridCol w="1454040"/>
                <a:gridCol w="2000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rez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ó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iguar los conocimientos prev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gida de la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o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rcicios de diagnos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s inic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endiz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quirir los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ón análi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uestas y deb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ita/Itiner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e/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icación del Profes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borar periódicos, mu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borar i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alizar documentación escrita, mapas, planos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e personal o gru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de simu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ió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ucigra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idades en Fla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ámicas de grupo o individ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lazar concep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os grupales o individ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uer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dir y asentar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e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pl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ar e incrementar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contenidos adquir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ración (Resumen, reestructuración.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r la adquisición de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ámenes escritos u o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s obje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rcicios Resuel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"/>
          <p:cNvSpPr/>
          <p:nvPr/>
        </p:nvSpPr>
        <p:spPr>
          <a:xfrm>
            <a:off x="714240" y="142920"/>
            <a:ext cx="68709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adro RESU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rquéz F. y Moreno J.L. Informática Windows 4º ESO. McGraw Hill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formática Windows 4º ESO. Guía didáctica. McGraw Hill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oreno J. et al. Tecnología 3º ESO. Proyecto Exedra. Oxford. 200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Vejo P. Tecnología 1º ESO. McGraw Hill. 200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687096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71360"/>
            <a:ext cx="769608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emento fundamental de la programación didácti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on la manera de llevar a cabo las experiencias de aprendizaj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 la forma de conseguir los objetivos y de asimilar los contenid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Recogerán contenidos de los diversos tipos y regularán las acciones y comportamientos del aprendizaj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las actividades estarán contenidos, de manera explícita o implícita: el espacio, los recursos, las personas que participan, el tipo de agrupamiento, el tipo de tarea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ra estructurar las actividades es recomendab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conocido a lo desconoc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fácil a lo difíc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concreto a lo abstrac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particular a lo gen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CRITERIOS A UTILIZ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sean vari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motiv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usen recursos y métodos vari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revisión del tiempo para su realiz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TIPOS DE ACTIVIDA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uebas inici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jercicios de diagnosti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ncuestas y deba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ovocar polémic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esentar situaciones enigmátic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Visita/Itinera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Cine/vide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xplicación del Profesor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aborar periódicos, mur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aborar infor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Analizar documentación escrita, mapas, planos,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Informe personal o grupa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Juego de simul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eriódi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uebas objetiv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ucigram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tividades en Flas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námicas de grupo o individu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ámenes escritos u or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jercicios Resuel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lazar concep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bajos grupales o individu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960" y="12139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diagnóstic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eriguar los conocimientos previos del alumn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aprendiza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quirir los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refuerz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idir y asentar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ampliación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arrollar e incrementar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resume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licar contenidos adquir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evaluación/autoevaluación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ar la adquisición de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56920" y="785880"/>
            <a:ext cx="4040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gún su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lid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enfo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recogida de la inform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recuer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organiz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análi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generación (Inferencia, predicción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integración (Resumen, reestructuración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evalu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gún las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destrezas esenciales básic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 consegui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nici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Al inicio de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entrar la temática y aproximarse al obje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Generar curiosidad y ampliar el campo de la motiv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ctivar las ideas que se tienen sobre el asunto y cuestionar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ner en común las ideas y debatir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diagnóstico ó nivel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diagnóstico o nivelac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Imagen 6" descr=""/>
          <p:cNvPicPr/>
          <p:nvPr/>
        </p:nvPicPr>
        <p:blipFill>
          <a:blip r:embed="rId1"/>
          <a:stretch/>
        </p:blipFill>
        <p:spPr>
          <a:xfrm>
            <a:off x="2286000" y="1785960"/>
            <a:ext cx="429732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O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entr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Durante el trascurso de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acilitar nuevas informac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ermitir construir sobre lo que se sa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bordar los asuntos plante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prendizaj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refuerz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mpli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resum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6:52:45Z</dcterms:created>
  <dc:creator>usuarioxp</dc:creator>
  <dc:description/>
  <dc:language>en-US</dc:language>
  <cp:lastModifiedBy>Familia</cp:lastModifiedBy>
  <dcterms:modified xsi:type="dcterms:W3CDTF">2009-12-21T12:28:14Z</dcterms:modified>
  <cp:revision>93</cp:revision>
  <dc:subject/>
  <dc:title>PROGRAMACIÓN DIDÁCTICA</dc:title>
</cp:coreProperties>
</file>