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FC8-5625-4253-BE7B-8FDFB085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E01-E729-46A8-A8E6-ED6B4FE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899-9FF2-4752-9C38-F26817C3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55D-77EE-407A-8E87-449B7D33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743-1B65-4533-95E6-A1383A8E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ABB8-DF70-45CD-B0EE-1755A65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D069-85B7-4943-A3CF-36F7CD34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3025-F39F-45C7-B546-FA33025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A978-DA79-4686-BD44-0127E55E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25E3-2421-4C75-A3A8-CE2DEC89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69C-B960-4717-9765-DA1353D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C01-2373-46F9-9EA8-AF849456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CB1-63B2-41DB-806D-9C6C64E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B9B-4C99-4DE2-BA74-0119209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C2F7-15C7-4D51-8A64-062F5EBB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A585-D295-4FED-9F91-60E500FF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671F-767F-4E60-A6B4-46A83F24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7CC-93C9-47C3-BD30-DDC8A432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5F5-59D5-46F7-8593-DD128075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491-510A-4178-8D18-A9210546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3C2-375D-48EE-B3EB-1FE4005F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EB1-046A-4D94-BB22-B23BEDD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22D-7B9F-4BB0-AFAB-44F508F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6C1-2121-4705-8A5B-572DEE8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455E-87EB-4E4A-8528-817414F408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4EE1-A911-4DA7-842F-902D4095E5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ACTIVIDADES DIDÁC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EÑO CURRICULAR II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so: 2009-20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ia Navarr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bén Niet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ncisco Monfor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prendiz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Imagen 2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153216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3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5007240" cy="267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928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4928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f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Imagen 4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"/>
          <p:cNvPicPr/>
          <p:nvPr/>
        </p:nvPicPr>
        <p:blipFill>
          <a:blip r:embed="rId2"/>
          <a:stretch/>
        </p:blipFill>
        <p:spPr>
          <a:xfrm>
            <a:off x="5500800" y="3500280"/>
            <a:ext cx="1431720" cy="1013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"/>
          <p:cNvPicPr/>
          <p:nvPr/>
        </p:nvPicPr>
        <p:blipFill>
          <a:blip r:embed="rId3"/>
          <a:stretch/>
        </p:blipFill>
        <p:spPr>
          <a:xfrm>
            <a:off x="5500800" y="4513320"/>
            <a:ext cx="242244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49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49280" y="29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mpli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Imagen 7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su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Imagen 8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terminar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aborar conclu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ructurar aprendizaj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yudar a avanzar en la comprensión de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uto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evalu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Imagen 9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5194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828720"/>
          <a:ext cx="7143480" cy="4467240"/>
        </p:xfrm>
        <a:graphic>
          <a:graphicData uri="http://schemas.openxmlformats.org/drawingml/2006/table">
            <a:tbl>
              <a:tblPr/>
              <a:tblGrid>
                <a:gridCol w="928440"/>
                <a:gridCol w="1452600"/>
                <a:gridCol w="1308240"/>
                <a:gridCol w="1454040"/>
                <a:gridCol w="200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rez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iguar los conocimientos prev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gida de la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de diagno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ini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quirir los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análi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uestas y deb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a/Itine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e/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icación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periódicos, mu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i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ar documentación escrita, mapas, plano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e personal o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de simu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ió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ci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es en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ámicas de grupo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lazar concep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os grupales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ue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ir y as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e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r e increm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contenidos adquir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ción (Resumen, reestructuración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r la adquisición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ámenes escritos u o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obje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Resue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714240" y="142920"/>
            <a:ext cx="687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dro RES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quéz F. y Moreno J.L. Informática Windows 4º ESO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ormática Windows 4º ESO. Guía didáctica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eno J. et al. Tecnología 3º ESO. Proyecto Exedra. Oxford. 200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ejo P. Tecnología 1º ESO. McGraw Hill.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6960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emento fundamental de la programación didáct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la manera de llevar a cabo las experiencias de aprendiza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la forma de conseguir los objetivos y de asimilar los conteni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cogerán contenidos de los diversos tipos y regularán las acciones y comportamientos del aprendiza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las actividades estarán contenidos, de manera explícita o implícita: el espacio, los recursos, las personas que participan, el tipo de agrupamiento, el tipo de tarea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estructurar las actividades es recomenda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ocido a lo descono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fácil a lo difíc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creto a lo abstra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particular a lo gen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RITERIOS A UTILIZ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ean vari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mot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usen recursos y métodos var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revisión del tiempo para su re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IPOS DE ACTIVIDA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uebas inici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de diagnost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cuestas y deba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ovocar polém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ar situaciones enigmát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isita/Itinera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ine/vide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plicación del Profesor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periódicos, mu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infor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nalizar documentación escrita, mapas, planos,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nforme personal o grupa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ego de simul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eriód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uebas obje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ucigra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idades en Fl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námicas de grupo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ámenes escritos u o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Resuel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zar concep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bajos grupales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960" y="12139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iagnósti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iguar los conocimientos previos del alum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prendiza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quirir los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fuerz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idir y as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mpli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arrollar e increm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sum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r contenidos adquir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evaluación/autoevalu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ar la adquisición de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56920" y="785880"/>
            <a:ext cx="4040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su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nfo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ogida de la inform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uer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análi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generación (Inferencia, predic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integración (Resumen, reestructura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l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trezas esenciales básic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consegu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ici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inici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entrar la temática y aproximarse al obje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enerar curiosidad y ampliar el campo de la motiv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ctivar las ideas que se tienen sobre el asunto y cuestiona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ner en común las ideas y debati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diagnóstico ó nivel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diagnóstico o nivelac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Imagen 6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973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entr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Durante el trascurs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acilitar nuevas inform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ermitir construir sobre lo que se sa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bordar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prendiza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fuerz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mpli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sum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6:52:45Z</dcterms:created>
  <dc:creator>usuarioxp</dc:creator>
  <dc:description/>
  <dc:language>en-US</dc:language>
  <cp:lastModifiedBy>Familia</cp:lastModifiedBy>
  <dcterms:modified xsi:type="dcterms:W3CDTF">2009-12-21T12:28:14Z</dcterms:modified>
  <cp:revision>93</cp:revision>
  <dc:subject/>
  <dc:title>PROGRAMACIÓN DIDÁCTICA</dc:title>
</cp:coreProperties>
</file>