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630-C1D9-4F85-BCAC-A3D65528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E84-2C1E-48BD-915B-C2941FB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B63-315A-4EB1-8923-7BD57451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C73-6FEF-4053-910F-F89BB1E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94D-E1F6-4AF5-B52A-9B5AB30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329-FE39-4E7D-987B-FE530CA8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AD9-72F3-4B1C-807E-AF2CC05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30C-3471-4576-AF00-0E9D323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C78-EFDF-46D0-96C5-3B0EC33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1D7-FFB1-43F1-A744-091CFF98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651E-9441-44E0-BFE6-4D6706B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93F-BCA5-44B0-B07B-D180683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B892-3D5F-48AE-B01F-9B5C107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3285-9C07-41AE-994B-68C092B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D7D-821E-4450-8DAF-1EF1B7B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793-4BA0-4F3D-B1C7-E1A7C0CF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3256-15AF-4A06-A2E2-1E76FAA7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521-162C-46F3-A743-F742A3F9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189-31F5-48DF-9182-619C8F9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4CF-8B12-478C-8FB1-51E003F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06F-2CF5-44E2-BA19-27108ACB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075-37F7-4BF5-9FD5-B68C5F7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60B-06B0-44CB-9D7E-2EE03C5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0D3-F290-4E61-92F8-FDEA5FA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CAC-54E3-41C3-BE4B-388D54BA82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999-D9FB-4C4E-B9DC-6619DF383C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ACTIVIDADES DIDÁC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EÑO CURRICULAR II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so: 2009-20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ia Navarr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bén Niet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ncisco Monfor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prendiz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Imagen 2" descr=""/>
          <p:cNvPicPr/>
          <p:nvPr/>
        </p:nvPicPr>
        <p:blipFill>
          <a:blip r:embed="rId1"/>
          <a:stretch/>
        </p:blipFill>
        <p:spPr>
          <a:xfrm>
            <a:off x="2357280" y="1928880"/>
            <a:ext cx="153216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3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5007240" cy="267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4928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4928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f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Imagen 4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4143240" cy="26431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"/>
          <p:cNvPicPr/>
          <p:nvPr/>
        </p:nvPicPr>
        <p:blipFill>
          <a:blip r:embed="rId2"/>
          <a:stretch/>
        </p:blipFill>
        <p:spPr>
          <a:xfrm>
            <a:off x="5500800" y="3500280"/>
            <a:ext cx="1431720" cy="1013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"/>
          <p:cNvPicPr/>
          <p:nvPr/>
        </p:nvPicPr>
        <p:blipFill>
          <a:blip r:embed="rId3"/>
          <a:stretch/>
        </p:blipFill>
        <p:spPr>
          <a:xfrm>
            <a:off x="5500800" y="4513320"/>
            <a:ext cx="242244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49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49280" y="29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ampli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Imagen 7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resu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Imagen 8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7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terminar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aborar conclus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ructurar aprendizaj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yudar a avanzar en la comprensión de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utoevalu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evalu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Imagen 9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5194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828720"/>
          <a:ext cx="7143480" cy="4467240"/>
        </p:xfrm>
        <a:graphic>
          <a:graphicData uri="http://schemas.openxmlformats.org/drawingml/2006/table">
            <a:tbl>
              <a:tblPr/>
              <a:tblGrid>
                <a:gridCol w="928440"/>
                <a:gridCol w="1452600"/>
                <a:gridCol w="1308240"/>
                <a:gridCol w="1454040"/>
                <a:gridCol w="200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rez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ó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iguar los conocimientos prev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gida de la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de diagno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ini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quirir los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análi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uestas y deb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a/Itine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e/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icación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periódicos, mu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r i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ar documentación escrita, mapas, plano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e personal o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de simu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ió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ci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es en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ámicas de grupo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lazar concep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os grupales o individ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ue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ir y as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e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r e incrementar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contenidos adquir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ción (Resumen, reestructuración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r la adquisición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ámenes escritos u o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s obje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rcicios Resue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714240" y="142920"/>
            <a:ext cx="687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dro RES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quéz F. y Moreno J.L. Informática Windows 4º ESO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ormática Windows 4º ESO. Guía didáctica. McGraw Hill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eno J. et al. Tecnología 3º ESO. Proyecto Exedra. Oxford. 200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ejo P. Tecnología 1º ESO. McGraw Hill.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6960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emento fundamental de la programación didáct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la manera de llevar a cabo las experiencias de aprendiza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la forma de conseguir los objetivos y de asimilar los conteni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cogerán contenidos de los diversos tipos y regularán las acciones y comportamientos del aprendizaj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las actividades estarán contenidos, de manera explícita o implícita: el espacio, los recursos, las personas que participan, el tipo de agrupamiento, el tipo de tarea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estructurar las actividades es recomenda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ocido a lo descono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fácil a lo difíc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concreto a lo abstra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lo particular a lo gen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RITERIOS A UTILIZ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ean vari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mot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usen recursos y métodos var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revisión del tiempo para su re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IPOS DE ACTIVIDA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uebas inici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de diagnost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cuestas y deba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ovocar polém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esentar situaciones enigmátic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isita/Itinera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ine/vide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xplicación del Profesor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periódicos, mu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laborar infor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nalizar documentación escrita, mapas, planos,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nforme personal o grupa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ego de simul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eriód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Pruebas obje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ucigram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tividades en Fl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námicas de grupo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ámenes escritos u or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jercicios Resuel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zar concep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bajos grupales o individua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960" y="12139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iagnósti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iguar los conocimientos previos del alum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prendiza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quirir los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fuerz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idir y as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ampli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arrollar e incrementar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resum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r contenidos adquir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evaluación/autoevaluación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ar la adquisición de conte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56920" y="785880"/>
            <a:ext cx="4040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su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nfo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ogida de la inform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recuer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análi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generación (Inferencia, predic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integración (Resumen, reestructuración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evalu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gún l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trezas esenciales básic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consegu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Ó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ici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Al inici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entrar la temática y aproximarse al obje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enerar curiosidad y ampliar el campo de la motiv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ctivar las ideas que se tienen sobre el asunto y cuestiona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ner en común las ideas y debatir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diagnóstico ó nivel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jemplo de actividad de diagnóstico o nivelac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Imagen 6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973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6870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ASIFICACION DE LAS AC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2960" y="2142720"/>
            <a:ext cx="7696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entral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Durante el trascurso de la unidad didáct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acilitar nuevas informaci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ermitir construir sobre lo que se sa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bordar los asuntos plante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prendiza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fuerz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ampli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 resum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828684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1" marL="572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ú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fase del proc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eñanza-aprendiz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6:52:45Z</dcterms:created>
  <dc:creator>usuarioxp</dc:creator>
  <dc:description/>
  <dc:language>en-US</dc:language>
  <cp:lastModifiedBy>Familia</cp:lastModifiedBy>
  <dcterms:modified xsi:type="dcterms:W3CDTF">2009-12-21T12:28:14Z</dcterms:modified>
  <cp:revision>93</cp:revision>
  <dc:subject/>
  <dc:title>PROGRAMACIÓN DIDÁCTICA</dc:title>
</cp:coreProperties>
</file>