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3C29-1166-4113-B74A-A8227BCBE5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9C0F-9F95-4EC6-B02B-23D6B59FDB2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F70B-A7C4-4010-960C-3FC5517E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57B9-3F26-4AED-962C-100E2D2E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178D-C536-4C91-A74D-59255EF29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39B9-3941-4736-B2D6-E216CBD0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4478-BB52-4BCF-BC2E-B358D6DE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F46-4DB2-4D96-B858-2B58FF08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C992-0C79-4693-8578-07B7E130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4D52-A5B2-4B62-A69D-F345BF83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280" y="189000"/>
            <a:ext cx="79311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591C-1ED2-4892-A7F4-9DB5D2B8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5D88-532F-4023-B6C9-4837F3C7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03E3-025D-4D70-B77B-C1D66346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BB68-950B-4587-9134-32465737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349C-FE75-465F-96E1-5B31DE54204A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95640" y="6453000"/>
            <a:ext cx="4681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76720" y="6453000"/>
            <a:ext cx="1809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F6F9-21F6-4112-8D40-CD58F4AA6459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3A1E-4A16-4FA1-BA1A-9EBE76CB90BE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3556-33B5-412F-B970-A7086447ABC8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UT 3. Recursos metodológicos e institucionales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 Y DESARROLLO CURRICULAR DE LA TECNOLOGÍA E INFORMÁTICA II. METODOLOGÍA, RECURSOS Y SISTEMAS DE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C146-34E1-4D7A-B584-7D84989ED16C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E1D3-B68D-4A8C-BB38-401346F16B42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Delph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licación Web para la gestión académ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sado por los profesores (faltas de asistencia, notas, etc.) y equipo directivo/secretaría (gestión de profesorado y alumnado, matriculación, evaluaciones,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12892" t="18553" r="15038" b="23829"/>
          <a:stretch/>
        </p:blipFill>
        <p:spPr>
          <a:xfrm>
            <a:off x="642960" y="3000240"/>
            <a:ext cx="804240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apá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ftware Web  (considerado un complemento a Delphos) orientado a la comunicación entre PADRES, ALUMNOS y PROFES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cluye las famosas PDAs. Una para cada profesor, que puede pasar lista con e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transmisión a la aplicación y a los padres es “instantáne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ttp://educacion.jccm.es/delphos-papa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E6EC-F12B-4FE6-80C3-CFC86BE072DA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6B7F-57F6-42BC-9CDA-B2B6857AFA96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7072200" y="714240"/>
            <a:ext cx="1609920" cy="571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www.educa.jccm.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ortal web con información para Alumnos, Padres y Profesor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ermite acceso a la Intran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ttps://www.educa.jccm.es/educa-jccm/cm/intr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 accede con la cuenta de correo institucio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cluye: Solicitud de Tarjeta (Carnet), Situación Actual, Trienios / Sexenios, Nómina, Impresos de Solicitud, Formación, Convocatorias, Aplicaciones, etc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4427-C49C-42E8-B524-2A0EB3A14301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C819-C153-40E6-8153-FAE188609203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Web de Centr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ejería de Industria aloja webs de centros educativos de Castilla-La Manch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ww.iesvaldehierro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ttp://edu.jccm.es/cp/ntra.sra.de.la.muel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yuda y fomenta la utilización del gestor de contenidos gratuito JOOM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ttp://edu.jccm.es/jooml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A891-957C-4A4B-9387-7991F14DEBF4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33C0-C620-4648-A578-F29233C397C4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orreo electrónico para docent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lquier profesor de Castilla-La Mancha  (unos 28.000) posee correo electrónico institu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des obtener/recordar contraseña con los datos de la última nóm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ttps://correoweb.jccm.e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AD1D-FB3E-42BD-931A-E3C10A0244AA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BB42-EED0-4070-A7B1-FFD90527516F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FB36-B860-4C87-A380-720FF13AD323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4AC2-27D6-4E9E-8C86-E6BFF44D9C4C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ulas Althi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rantiza al menos un Aula Informática por cen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mario Rack + Servidor + Conexión ADS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stema de control remoto de los equipos (software/hardware). + Congel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ructura de Islas. Modelo controvert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6858000" y="4775040"/>
            <a:ext cx="2057400" cy="1582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1857240" y="4786200"/>
            <a:ext cx="2178360" cy="1643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4286160" y="4786200"/>
            <a:ext cx="2281320" cy="1590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350E-B0DD-4E4D-B7F7-CFFC81CD968C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146A-9B35-4BF6-9E1C-C58DEDE6A276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lan de Conectividad Integra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 WIFI. SSID:Alth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ta de conectividad inalámbrica a todo el cen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rovecha infraestructura de aulas Althia (ADSL, servidor, et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cluy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dotación de varios cañones a todos los centros (su número depende del tipo de centr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tátiles, utilizados según criterio del cen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algunos centros los cañones se han complementado con otros comprados independientemente. También se sueles colgar en aulas, de informática, taller, biblioteca, plá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9314-0D70-403B-8488-93972974175B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7336-0FB8-4B16-AC2A-1B252C819B1A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ortátiles a todo el profesorado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shiba Satellite P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GB RAM. Intel Core 2 Duo 2 GH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indows XP + Microsoft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linux + OpenOffi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estionado por Consejería (Delegaciones), no por los cen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jemplo: Servicio técnico 902 103 259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Lunes a Domingo de 08:00 horas a 22:00 ho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+ Información en www.educa.jccm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se contemplan portátiles para las medias jorn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7528-3D60-4988-BEC1-19244CB781DB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4CF7-9A9F-43C3-9DA0-68F5092FDDCA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Aula informática para ciclos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dota de un aula con unos veinte equipos informáticos para ciclos de informática (entre otr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renovaciones se solicitan a la Delegación (lent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neralmente se complementa con otro aula instalada por el centro (ciclos de dos cursos académic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ulas taller para tecnología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ndo se crea un centro o surge la necesidad, se crean aulas taller, donde la Consejería suministra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ncos de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erramie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31F0-3BFE-4C81-B6E4-A67637EE104D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6079-F18D-46B8-B22D-3D8BE1A9BDEB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Recursos Metodológicos y Didáctic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erramientas” que podemos utilizar en cl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C410-96FD-484D-A89D-D04CD780619B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538A-E94A-4052-93E3-D62497BC0EA5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ulas taller para ciclos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de suministrar otro material para los talleres de los ciclos de informática, como herramientas, polímetros, analizador de red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59E3-EC39-406B-950C-7B3769FBF6E4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C9B1-8FC1-4A7E-91F6-5A2FC417A73D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1368-1C4E-49C7-BEA5-F8AE9E86CABB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35C9-642C-463E-915A-CB3685AF986E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Técnicas generales para motiva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sitas a industrias/centros de proceso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licaciones interdisciplinares de la tecnolog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álisis de procesos y dispositivos tecnológicos de la vida cotidi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anificación de experime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eño de Plantas Pilo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Webquest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 un tipo de actividad didáctica que consiste en una investigación guiada, con recursos principalmente procedentes de Internet, que promueve la utilización de habilidades cognitivas superiores, el trabajo cooperativo y la autonomía de los alumnos e incluye una evaluaci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a WebQuest contiene siempre los siguientes punt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D5B0-950E-40DA-8CDE-516BB228B7BA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AAD7-F783-4BA0-914E-D0888B23DD9D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Virtualización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 Educación Virtual nos referimos a un entorno de aprendizaje donde estudiante y profesor están separados en el tiempo o el espacio. Los contenidos se entregan mediante alguna plataforma tecnológica, Internet, etc (E-Learning). La comunicación entre ambos también es por este métod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estrella actual es Moodle (Moodle se clasifica como software LM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13A9-2A5E-4EB0-91B2-8BE6C018AE19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02DC-C778-47E2-8E3D-573C655111DB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prendizaje colaborativo. Software groupware. Wikis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l aprendizaje colaborativo (Collaborative Learning) es un sistema de enseñanza-aprendizaje basado en propiciar el desarrollo de habilidades mixtas donde cada miembro del grupo es responsable tanto de su aprendizaje como del de los demá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plica tecnología en lo posible. Ejemplos son el software groupware o la utilización de Wikis (MediaWiki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1F59-07C9-4711-88B7-3DCE90E54E32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C8C8-BEBE-4A0E-913F-0734CF903A13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portafolio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Colección de evidencias de todo tipo que permiten al docente y al alumno reflexionar sobre el proceso de aprendizaj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Es un método de enseñanza, aprendizaje y evaluación que consiste en la aportación de producciones de diferente índole por parte del estudian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Portafolio digital (e-portfolio, digital portfolio): evidencias electrónicas texto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archivos, imágenes, vídeos, audio, entradas de blogs, foros, hiperenlaces, et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iste software específico, pero puede ser tan simple como una web, un blog, o una carpeta con evidenci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A789-62A4-450E-885C-1CA37F354C7A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EF37-1E1E-491C-A5BE-8B37E1865758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Mapas mentales/conceptuales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Un mapa mental (mind map en inglés) es un diagrama usado para representar las palabras, ideas, tareas, u otros conceptos ligados y dispuestos radialmente alrededor de una palabra clave o de una idea central. Se utiliza para la generación, visualización, estructura, y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clasificación taxonómica de las idea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, y como ayuda interna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para el estudio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organización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solución de problema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toma de decisione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escritura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jemplo: XMind. http://www.xmind.net/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E54E-78FF-43E8-AA88-8739DE392EBA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3F84-56A4-494B-9D4F-4840E8352A9E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Recursos institucional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 que nos vamos a encontrar en cualquier centro y que “debemos” utiliz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97F1-B44F-4295-B50E-FBDE8F83C73C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2105-5192-47DA-B954-2AE13F471F08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2:09Z</dcterms:created>
  <dc:creator>Angel</dc:creator>
  <dc:description/>
  <dc:language>en-US</dc:language>
  <cp:lastModifiedBy> </cp:lastModifiedBy>
  <dcterms:modified xsi:type="dcterms:W3CDTF">2010-01-12T17:04:23Z</dcterms:modified>
  <cp:revision>13</cp:revision>
  <dc:subject/>
  <dc:title>Unidad didáctica: </dc:title>
</cp:coreProperties>
</file>