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E69A-1BF0-4A71-AB72-553608AA67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7A19-AC6F-4A64-ADD4-38B21178A8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B0F-60B3-4237-994B-7CF90AEA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4A3-A537-4344-83B9-544ECECD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083-9B52-49E0-8E68-CB10F326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E23-0582-4952-84D0-DC506760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1E8-CF63-4537-9529-44BBF320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340-1BC3-4011-A967-BF0B98E2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261-BA51-44EA-B3DB-A4F1F51E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B18-9798-42FE-BF2A-B84982D9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189000"/>
            <a:ext cx="79311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0EB-16CE-4743-8559-388693CE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7B1-9ADA-4317-987F-858A6447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FF8-9EA5-470C-8004-F3B2431B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615-E124-4BB9-94EA-4CDF7425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4EA6-2470-4922-85DE-2823D5127A68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95640" y="6453000"/>
            <a:ext cx="4681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76720" y="6453000"/>
            <a:ext cx="1809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9B31-C820-4F6D-AB65-7B534B645002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7490-FDF7-4001-8B5C-F61C792E47FA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0573-0AD8-4EC7-AE7B-080AA50851BA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UT 3. Recursos metodológicos e institucionale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Y DESARROLLO CURRICULAR DE LA TECNOLOGÍA E INFORMÁTICA II. METODOLOGÍA, RECURSOS Y SISTEMAS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D33C-6F2F-48A4-995D-96CE1F3C9FE2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1A9F-F482-4CA3-8E93-2497A937AC9C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Delph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ón Web para la gestión acadé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ado por los profesores (faltas de asistencia, notas, etc.) y equipo directivo/secretaría (gestión de profesorado y alumnado, matriculación, evaluacione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12892" t="18553" r="15038" b="23829"/>
          <a:stretch/>
        </p:blipFill>
        <p:spPr>
          <a:xfrm>
            <a:off x="642960" y="3000240"/>
            <a:ext cx="80424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apá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ftware Web  (considerado un complemento a Delphos) orientado a la comunicación entre PADRES, ALUMNOS y PROFES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luye las famosas PDAs. Una para cada profesor, que puede pasar lista con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transmisión a la aplicación y a los padres es “instantáne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educacion.jccm.es/delphos-papa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2152-DA47-408D-BE57-EBF283DCCCE0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CC34-FD49-4D92-B8E9-2A374203933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072200" y="714240"/>
            <a:ext cx="1609920" cy="5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ww.educa.jccm.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ortal web con información para Alumnos, Padres y Profeso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mite acceso a la Intran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ttps://www.educa.jccm.es/educa-jccm/cm/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accede con la cuenta de correo institu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luye: Solicitud de Tarjeta (Carnet), Situación Actual, Trienios / Sexenios, Nómina, Impresos de Solicitud, Formación, Convocatorias, Aplicaciones, etc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8E7A-97FE-43D9-984F-F6AFA67D4F4F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AC4E-BE31-4EB4-B491-6F4CCC15869C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b de Centr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ejería de Industria aloja webs de centros educativos de Castilla-La Manc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ww.iesvaldehierro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edu.jccm.es/cp/ntra.sra.de.la.muel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yuda y fomenta la utilización del gestor de contenidos gratuito JOOM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edu.jccm.es/jooml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43AE-F18D-41E5-90AF-7640B9B929EF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0F80-9465-4200-93B9-C8A06AFA1431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rreo electrónico para docent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lquier profesor de Castilla-La Mancha  (unos 28.000) posee correo electrónico institu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s obtener/recordar contraseña con los datos de la última nó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s://correoweb.jccm.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EF73-3566-43E2-A93D-A0C1FBA29A88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D49F-8D39-4602-BFEF-9E16E5800D6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AED7-19EF-4F02-A021-4ECD0DEE0211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A3B9-3C57-4E25-B4ED-5668E6FCED7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Althi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rantiza al menos un Aula Informática por ce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mario Rack + Servidor + Conexión AD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ntrol remoto de los equipos (software/hardware). + Congel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uctura de Islas. Modelo controve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858000" y="4775040"/>
            <a:ext cx="2057400" cy="1582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1857240" y="4786200"/>
            <a:ext cx="2178360" cy="1643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4286160" y="4786200"/>
            <a:ext cx="2281320" cy="159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3D77-9489-464C-9DD7-D09043908F62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03B9-3C47-4EEA-A404-0510DDB4DB03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lan de Conectividad Integra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 WIFI. SSID:Alth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ta de conectividad inalámbrica a todo el cen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ovecha infraestructura de aulas Althia (ADSL, servidor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dotación de varios cañones a todos los centros (su número depende del tipo de cent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tátiles, utilizados según criterio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algunos centros los cañones se han complementado con otros comprados independientemente. También se sueles colgar en aulas, de informática, taller, biblioteca, p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0598-D710-4F38-BB7A-4352F947E6E3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CA5E-7B9C-4D16-B857-3A34A56DE6F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rtátiles a todo el profesorado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shiba Satellite P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GB RAM. Intel Core 2 Duo 2 G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indows XP + Microsof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linux + OpenOffi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ionado por Consejería (Delegaciones), no por los cen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: Servicio técnico 902 103 259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unes a Domingo de 08:00 horas a 22:00 h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+ Información en www.educa.jccm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se contemplan portátiles para las medias jor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8BF5-4F27-4AFC-9045-25A5C067AD39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FDD2-6BAA-4177-8C63-47C04F0665D0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Aula informática para ciclo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ota de un aula con unos veinte equipos informáticos para ciclos de informática (entre otr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novaciones se solicitan a la Delegación (len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mente se complementa con otro aula instalada por el centro (ciclos de dos cursos académic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taller para tecnologí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se crea un centro o surge la necesidad, se crean aulas taller, donde la Consejería suministra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nco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rami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28F7-EE63-4D68-982B-A30A871BD67B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9330-B7BA-4189-B7C4-6CFC7C611D78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Recursos Metodológicos y Didáctic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rramientas” que podemos utilizar en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40CF-7DE6-4266-8083-6A55CE0242F5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DD33-B00C-4A0E-B220-8F65846C94CC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taller para ciclo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 suministrar otro material para los talleres de los ciclos de informática, como herramientas, polímetros, analizador de re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0189-8BC0-4FEE-8601-F976595AD971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6EB7-637D-4554-84A7-5FBD446965E0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B46B-DEB1-48A1-944B-4B67CBE8F4B8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BCDA-7DB3-425C-9CFA-557160658C12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écnicas generales para motiv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sitas a industrias/centros de proces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ones interdisciplinares de la tecnolog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procesos y dispositivos tecnológicos de la vida cotidi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ficación de experi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Plantas Pil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bquest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un tipo de actividad didáctica que consiste en una investigación guiada, con recursos principalmente procedentes de Internet, que promueve la utilización de habilidades cognitivas superiores, el trabajo cooperativo y la autonomía de los alumnos e incluye una evaluaci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a WebQuest contiene siempre los siguientes punt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BD1C-132F-4104-BC32-9FD83564C47A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4BD7-9122-4DBA-AB93-34FBCA92B2E7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irtualización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 Educación Virtual nos referimos a un entorno de aprendizaje donde estudiante y profesor están separados en el tiempo o el espacio. Los contenidos se entregan mediante alguna plataforma tecnológica, Internet, etc (E-Learning). La comunicación entre ambos también es por este méto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estrella actual es Moodle (Moodle se clasifica como software LM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5066-BCE8-4F56-B613-B288B9089DA8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4C11-85D0-474F-9708-307B96AB5B64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prendizaje colaborativo. Software groupware. Wiki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aprendizaje colaborativo (Collaborative Learning) es un sistema de enseñanza-aprendizaje basado en propiciar el desarrollo de habilidades mixtas donde cada miembro del grupo es responsable tanto de su aprendizaje como del de los demá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plica tecnología en lo posible. Ejemplos son el software groupware o la utilización de Wikis (MediaWik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8985-CB15-4F8C-BBBE-3D96740DA60B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39A8-5E0C-4DED-9903-053367E3AF0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ortafolio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olección de evidencias de todo tipo que permiten al docente y al alumno reflexionar sobre el proceso de aprendizaj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s un método de enseñanza, aprendizaje y evaluación que consiste en la aportación de producciones de diferente índole por parte del estudia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ortafolio digital (e-portfolio, digital portfolio): evidencias electrónicas text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archivos, imágenes, vídeos, audio, entradas de blogs, foros, hiperenlaces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iste software específico, pero puede ser tan simple como una web, un blog, o una carpeta con evid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8BD1-5B1C-404E-AD95-2F1B20EBFE8E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BFD2-4EC0-496E-B563-09885CAFFEAC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Mapas mentales/conceptuale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Un mapa mental (mind map en inglés) es un diagrama usado para representar las palabras, ideas, tareas, u otros conceptos ligados y dispuestos radialmente alrededor de una palabra clave o de una idea central. Se utiliza para la generación, visualización, estructura, y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clasificación taxonómica de las idea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y como ayuda interna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para el estudi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organización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solución de problema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toma de decision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escritur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jemplo: XMind. http://www.xmind.net/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2D44-8CF0-4D00-9984-3590E95682D2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23AB-B650-4B3A-95DE-51DB1199F9E4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Recursos instituciona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 que nos vamos a encontrar en cualquier centro y que “debemos” utiliz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C122-65A8-49E8-B63A-D2A323C7229C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7A07-112D-4E60-B184-4DAC63BD522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2:09Z</dcterms:created>
  <dc:creator>Angel</dc:creator>
  <dc:description/>
  <dc:language>en-US</dc:language>
  <cp:lastModifiedBy> </cp:lastModifiedBy>
  <dcterms:modified xsi:type="dcterms:W3CDTF">2010-01-12T17:04:23Z</dcterms:modified>
  <cp:revision>13</cp:revision>
  <dc:subject/>
  <dc:title>Unidad didáctica: </dc:title>
</cp:coreProperties>
</file>