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7966-E212-4730-AF16-6A18D4F2BAB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DF1F-D860-443B-B0EB-D96F8B95DAD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DD4E-FB8F-4440-B503-CEC150CE5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3F0D-8AFE-4AA0-AA6A-62241D83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0DB7-6494-4464-BA37-708620857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DEAC-B5ED-4D26-947F-503C9977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0D7E-345A-4BA5-B38A-A1BE8F48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41CB-6F56-465B-A860-3F73D02D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D417-6DAF-457E-9931-17C3EAF9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2C70-D87A-4F8A-B3F5-481BA301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280" y="189000"/>
            <a:ext cx="79311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7F6C-8E0C-41A4-8F84-7365B5DF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7F51-648B-48F5-B927-705AD6E7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ECE1-3B5F-4650-A4CA-9715F9C2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D749-32D5-477F-9CCF-BE1A1F1F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670E-9979-4114-9F39-54A49B13D10B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195640" y="6453000"/>
            <a:ext cx="4681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76720" y="6453000"/>
            <a:ext cx="1809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78E2-3327-4EFF-895B-B29741BFF22D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55DC-A6FD-4E00-B2D7-5094733F3AD9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3157-1397-4D2C-8541-A62E5EBD2C6F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UT 3. Recursos metodológicos e institucionales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14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EÑO Y DESARROLLO CURRICULAR DE LA TECNOLOGÍA E INFORMÁTICA II. METODOLOGÍA, RECURSOS Y SISTEMAS DE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F915-F82B-4D1B-B837-757E5082C6D3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B29C-7017-447F-A0C0-015C8B950DE6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Delph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licación Web para la gestión académ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sado por los profesores (faltas de asistencia, notas, etc.) y equipo directivo/secretaría (gestión de profesorado y alumnado, matriculación, evaluaciones, et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12892" t="18553" r="15038" b="23829"/>
          <a:stretch/>
        </p:blipFill>
        <p:spPr>
          <a:xfrm>
            <a:off x="642960" y="3000240"/>
            <a:ext cx="8042400" cy="38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Papá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ftware Web  (considerado un complemento a Delphos) orientado a la comunicación entre PADRES, ALUMNOS y PROFES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cluye las famosas PDAs. Una para cada profesor, que puede pasar lista con el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transmisión a la aplicación y a los padres es “instantánea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ttp://educacion.jccm.es/delphos-papa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F2CF-5AE8-4634-8E05-9982D6279990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A674-372E-4B7B-8649-18B815F509A8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7072200" y="714240"/>
            <a:ext cx="1609920" cy="571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www.educa.jccm.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ortal web con información para Alumnos, Padres y Profesor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ermite acceso a la Intrane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https://www.educa.jccm.es/educa-jccm/cm/intra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e accede con la cuenta de correo institucio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cluye: Solicitud de Tarjeta (Carnet), Situación Actual, Trienios / Sexenios, Nómina, Impresos de Solicitud, Formación, Convocatorias, Aplicaciones, etc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1F2A-1173-4567-9D8E-E5A941A73538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72DB-1E28-441D-B765-7A0DCAA434E7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Web de Centr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sejería de Industria aloja webs de centros educativos de Castilla-La Manch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www.iesvaldehierro.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ttp://edu.jccm.es/cp/ntra.sra.de.la.muel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yuda y fomenta la utilización del gestor de contenidos gratuito JOOM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ttp://edu.jccm.es/jooml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9568-D0F9-47C6-92F7-7EB15FA0F96F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CB67-32F1-4FA3-A875-620C8A0EB62E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Correo electrónico para docent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alquier profesor de Castilla-La Mancha  (unos 28.000) posee correo electrónico institu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edes obtener/recordar contraseña con los datos de la última nóm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ttps://correoweb.jccm.e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DA93-599E-4417-8779-1C1DA4855EB9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66FF-806D-4ECE-905F-072663E85357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46FB-3047-4CC5-842E-F997EFD9DF5F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8CBD-96E8-4A99-9DDE-A4EC9A9E59FE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Aulas Althi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arantiza al menos un Aula Informática por cen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rmario Rack + Servidor + Conexión ADS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stema de control remoto de los equipos (software/hardware). + Congel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ructura de Islas. Modelo controvert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6858000" y="4775040"/>
            <a:ext cx="2057400" cy="1582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1857240" y="4786200"/>
            <a:ext cx="2178360" cy="1643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4286160" y="4786200"/>
            <a:ext cx="2281320" cy="1590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9F2D-DCB2-4F15-A255-18497D6DC833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54B2-A7E2-4318-B6C1-BBACF6682DC4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Plan de Conectividad Integral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d WIFI. SSID:Alth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ota de conectividad inalámbrica a todo el cent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provecha infraestructura de aulas Althia (ADSL, servidor, et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cluy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dotación de varios cañones a todos los centros (su número depende del tipo de centr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rtátiles, utilizados según criterio del cen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algunos centros los cañones se han complementado con otros comprados independientemente. También se sueles colgar en aulas, de informática, taller, biblioteca, plá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3754-EFD2-406A-BA06-5342028E3284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0DAF-767F-4F41-9504-E47466423379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Portátiles a todo el profesorado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shiba Satellite P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GB RAM. Intel Core 2 Duo 2 GH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indows XP + Microsoft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olinux + OpenOffi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estionado por Consejería (Delegaciones), no por los cen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jemplo: Servicio técnico 902 103 259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e Lunes a Domingo de 08:00 horas a 22:00 ho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+ Información en www.educa.jccm.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se contemplan portátiles para las medias jorn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5B17-375A-4E23-8B78-CCB61F220883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64B9-2AD5-4C52-8548-001DC24D8E6D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Aula informática para ciclos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dota de un aula con unos veinte equipos informáticos para ciclos de informática (entre otr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renovaciones se solicitan a la Delegación (lent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neralmente se complementa con otro aula instalada por el centro (ciclos de dos cursos académic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Aulas taller para tecnología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ando se crea un centro o surge la necesidad, se crean aulas taller, donde la Consejería suministra mate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ncos de 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erramie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6F3C-C72E-4A78-B29A-75D95387BB52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B2A1-26CE-43AC-A1BA-38EF7674CF8E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Recursos Metodológicos y Didáctic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erramientas” que podemos utilizar en cl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1EF5-83DF-4CA9-BE5D-E81005B219C2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BA7C-4532-4388-8FA0-66296F0DB654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Aulas taller para ciclos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ede suministrar otro material para los talleres de los ciclos de informática, como herramientas, polímetros, analizador de red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24BD-62E4-4FB9-BEEE-4114A80334F4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386A-1ADD-4326-8488-327F1984E530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5A1B-D90F-419E-8CE8-E06D6320A6F2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0188-4742-489F-B592-EFF0A880676B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Técnicas generales para motivar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isitas a industrias/centros de proceso de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plicaciones interdisciplinares de la tecnolog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álisis de procesos y dispositivos tecnológicos de la vida cotidi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lanificación de experimen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seño de Plantas Pilo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Webquest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 un tipo de actividad didáctica que consiste en una investigación guiada, con recursos principalmente procedentes de Internet, que promueve la utilización de habilidades cognitivas superiores, el trabajo cooperativo y la autonomía de los alumnos e incluye una evaluaci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a WebQuest contiene siempre los siguientes punt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u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603F-5CC7-4B6E-990D-260F1D807A8D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944C-A41C-42E1-B17D-7B2A8B4B8CBE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Virtualización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 Educación Virtual nos referimos a un entorno de aprendizaje donde estudiante y profesor están separados en el tiempo o el espacio. Los contenidos se entregan mediante alguna plataforma tecnológica, Internet, etc (E-Learning). La comunicación entre ambos también es por este métod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estrella actual es Moodle (Moodle se clasifica como software LM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3862-728A-4C31-B99A-B9247437E574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565B-A5BE-43A0-AAF5-7D995288B386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Aprendizaje colaborativo. Software groupware. Wikis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l aprendizaje colaborativo (Collaborative Learning) es un sistema de enseñanza-aprendizaje basado en propiciar el desarrollo de habilidades mixtas donde cada miembro del grupo es responsable tanto de su aprendizaje como del de los demá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plica tecnología en lo posible. Ejemplos son el software groupware o la utilización de Wikis (MediaWiki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7B3C-FC89-47BC-81F8-A6E5700AE381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515E-00ED-422C-8503-92B74CDC2A1D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l portafolio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Colección de evidencias de todo tipo que permiten al docente y al alumno reflexionar sobre el proceso de aprendizaj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Es un método de enseñanza, aprendizaje y evaluación que consiste en la aportación de producciones de diferente índole por parte del estudian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Portafolio digital (e-portfolio, digital portfolio): evidencias electrónicas texto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archivos, imágenes, vídeos, audio, entradas de blogs, foros, hiperenlaces, etc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iste software específico, pero puede ser tan simple como una web, un blog, o una carpeta con evidenci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72FE-2E54-4AB8-AF46-68412CB7C53C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9A14-628A-4C3C-9E5F-3BE42BAC8E70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Mapas mentales/conceptuales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Un mapa mental (mind map en inglés) es un diagrama usado para representar las palabras, ideas, tareas, u otros conceptos ligados y dispuestos radialmente alrededor de una palabra clave o de una idea central. Se utiliza para la generación, visualización, estructura, y </a:t>
            </a:r>
            <a:r>
              <a:rPr b="0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clasificación taxonómica de las ideas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, y como ayuda interna </a:t>
            </a:r>
            <a:r>
              <a:rPr b="0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para el estudio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organización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solución de problemas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toma de decisiones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escritura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jemplo: XMind. http://www.xmind.net/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84FB-3504-462D-BC01-394E86F21657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1662-3A2D-4BE6-A4CF-0B1936CD06BD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Recursos institucional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 que nos vamos a encontrar en cualquier centro y que “debemos” utiliz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5D0F-2C9A-4688-80F4-1E4AF09EC5EE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0818-22D4-49DA-9970-39EC88DF507C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2:09Z</dcterms:created>
  <dc:creator>Angel</dc:creator>
  <dc:description/>
  <dc:language>en-US</dc:language>
  <cp:lastModifiedBy> </cp:lastModifiedBy>
  <dcterms:modified xsi:type="dcterms:W3CDTF">2010-01-12T17:04:23Z</dcterms:modified>
  <cp:revision>13</cp:revision>
  <dc:subject/>
  <dc:title>Unidad didáctica: </dc:title>
</cp:coreProperties>
</file>