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759D-1216-40C8-AAEA-A139F52174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99A3-7213-4418-80DD-60C72602E9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B11-5F91-4DE2-9854-C4D597DC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86F-4411-4712-BFB8-D01FC26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583-7602-4149-8345-3FE97DA2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38C-402D-4284-A8E8-60B43B4B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946-0B11-4894-9051-C1CA8704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9E2-F96B-4623-9F54-E8AFD917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CAC-5B32-493B-80B5-4913818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760-6741-4B80-BA3C-24BB496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9311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E3C-57B0-457B-84A0-62C5A89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57B-2D0A-4688-9D17-A8F6E34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47F-4726-4BF7-B517-74F3110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F4B-FACC-400E-BC45-030188A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05AC-AA86-4F5E-B1BD-E6A6A7EACAB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95640" y="6453000"/>
            <a:ext cx="46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76720" y="6453000"/>
            <a:ext cx="1809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FE6A-90BC-47A9-98AC-835E3CA9432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1C9-5663-431B-852F-37A89EC45C7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3ACA-14A2-4065-9A19-526336D810F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T 3. Recursos metodológicos e institucional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Y DESARROLLO CURRICULAR DE LA TECNOLOGÍA E INFORMÁTICA II. METODOLOGÍA, RECURSOS Y SISTEM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9A2-1318-45E5-B706-11BE0DAA2AB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C6C-A50B-4698-B162-456DD8EBAD0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lph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ón Web para la gestión acadé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do por los profesores (faltas de asistencia, notas, etc.) y equipo directivo/secretaría (gestión de profesorado y alumnado, matriculación, evaluacion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2892" t="18553" r="15038" b="23829"/>
          <a:stretch/>
        </p:blipFill>
        <p:spPr>
          <a:xfrm>
            <a:off x="642960" y="3000240"/>
            <a:ext cx="80424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pá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tware Web  (considerado un complemento a Delphos) orientado a la comunicación entre PADRES, ALUMNOS y PROFE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las famosas PDAs. Una para cada profesor, que puede pasar lista con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ansmisión a la aplicación y a los padres es “instantáne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cacion.jccm.es/delphos-pap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F2CA-2B16-43E6-983E-561E3D471A9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AC9-6768-4BA7-B265-57A43C4DE2A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72200" y="714240"/>
            <a:ext cx="16099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educa.jccm.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l web con información para Alumnos, Padres y Profes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mite acceso a la Intran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ttps://www.educa.jccm.es/educa-jccm/cm/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accede con la cuenta de correo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luye: Solicitud de Tarjeta (Carnet), Situación Actual, Trienios / Sexenios, Nómina, Impresos de Solicitud, Formación, Convocatorias, Aplicaciones, etc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1F9-6BCE-4ECD-9B3E-115BC968BBB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92BA-087C-4563-8F4B-B1A4BD5ECD7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 de Centr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ejería de Industria aloja webs de centros educativos de Castilla-La Man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iesvaldehierr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du.jccm.es/cp/ntra.sra.de.la.muel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y fomenta la utilización del gestor de contenidos gratuito JOOM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.jccm.es/joom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F3D-A53A-452C-99C1-27300E4107F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A9A-984A-48C8-8E5D-7C734177DD1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rreo electrónico para docen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 profesor de Castilla-La Mancha  (unos 28.000) posee correo electrónico institu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s obtener/recordar contraseña con los datos de la última nó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s://correoweb.jccm.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1ADA-1423-4D32-8E8F-5D129DBAD2E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70E-5B93-4D5B-A219-12DE653BF41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CBC6-EB5C-4A1C-96DD-909CA1FA576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AE5-3713-4583-8381-CD9238F671C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Althi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rantiza al menos un Aula Informática por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mario Rack + Servidor + Conexión AD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ntrol remoto de los equipos (software/hardware). + Conge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Islas. Modelo contro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58000" y="4775040"/>
            <a:ext cx="2057400" cy="15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17836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86160" y="4786200"/>
            <a:ext cx="2281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604-1BE9-418E-B04D-6A76AE050EE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1E0-3B51-430A-8D37-2FA29C3D849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 de Conectividad Integr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WIFI. SSID:Alt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ta de conectividad inalámbrica a todo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 infraestructura de aulas Althia (ADSL, servidor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dotación de varios cañones a todos los centros (su número depende del tipo de cen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átiles, utilizados según criterio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entros los cañones se han complementado con otros comprados independientemente. También se sueles colgar en aulas, de informática, taller, biblioteca, p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B319-3645-48D8-AE20-06DBC35BD70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28FC-40ED-444B-83E0-0616C8A3E60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tátiles a todo el profesorad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shiba Satellite P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GB RAM. Intel Core 2 Duo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indows XP +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ux + OpenOffi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onado por Consejería (Delegaciones), no por los cen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Servicio técnico 902 103 259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unes a Domingo de 08:00 horas a 22:00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nformación en www.educa.jcc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 contemplan portátiles para las medias jor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6219-99C9-4EEA-A3D1-C2CE475CC55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10D-D989-416C-8E7F-15A9197ED66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ula informática para ciclo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ota de un aula con unos veinte equipos informáticos para ciclos de informática (entre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novaciones se solicitan a la Delegación (len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 se complementa con otro aula instalada por el centro (ciclos de dos cursos académic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tecnologí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crea un centro o surge la necesidad, se crean aulas taller, donde la Consejería suministra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DE7-72CF-4EF6-80CB-DA693FC6FD1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6152-A9FF-42CC-8261-8D32FC7434A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Metodológicos y Didáctic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” que podemos utilizar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B94-A38F-4278-B576-EEAAFEF935E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BEC-486D-4D11-B071-AE3C0851F0C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cicl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uministrar otro material para los talleres de los ciclos de informática, como herramientas, polímetros, analizador de re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0029-3576-45EB-9482-548F3DF3FA6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1E7-DBB8-41EC-AF7E-EFA150C3BE4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73BF-C97D-4456-9C78-F007613256C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277-0445-4A08-9DEA-AE2E0E436A6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écnicas generales para motiv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s a industrias/centros de proces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ones interdisciplinares de la tecn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rocesos y dispositivos tecnológicos de la vida cotid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 de exper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Plantas Pil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ques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un tipo de actividad didáctica que consiste en una investigación guiada, con recursos principalmente procedentes de Internet, que promueve la utilización de habilidades cognitivas superiores, el trabajo cooperativo y la autonomía de los alumnos e incluye una evalu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WebQuest contiene siempre los siguientes pu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FC3-2400-4754-B60A-0967E54C9B4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C8B-9207-425E-B3F1-6F2ED929417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rtualizació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 Educación Virtual nos referimos a un entorno de aprendizaje donde estudiante y profesor están separados en el tiempo o el espacio. Los contenidos se entregan mediante alguna plataforma tecnológica, Internet, etc (E-Learning). La comunicación entre ambos también es por este mé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estrella actual es Moodle (Moodle se clasifica como software L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C38-C768-4EEF-A1AB-6CB219A3B576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55F-561B-4264-978B-D2EAB049BB0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rendizaje colaborativo. Software groupware. Wiki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aprendizaje colaborativo (Collaborative Learning) es un sistema de enseñanza-aprendizaje basado en propiciar el desarrollo de habilidades mixtas donde cada miembro del grupo es responsable tanto de su aprendizaje como del de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 tecnología en lo posible. Ejemplos son el software groupware o la utilización de Wikis (MediaWik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DAF-88CF-4844-9408-87D24D74014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60E-D8B1-45A7-AC03-2D6B4DA16B4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ortafoli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lección de evidencias de todo tipo que permiten al docente y al alumno reflexionar sobre el proceso de aprendiz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un método de enseñanza, aprendizaje y evaluación que consiste en la aportación de producciones de diferente índole por parte del estudia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rtafolio digital (e-portfolio, digital portfolio): evidencias electrónicas tex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rchivos, imágenes, vídeos, audio, entradas de blogs, foros, hiperenlaces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iste software específico, pero puede ser tan simple como una web, un blog, o una carpeta con evid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B3D3-250F-4ED2-89E1-9DFFD75A9D6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22C5-E9E8-4B48-A1D7-70A44F5B3AD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apas mentales/conceptua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mapa mental (mind map en inglés) es un diagrama usado para representar las palabras, ideas, tareas, u otros conceptos ligados y dispuestos radialmente alrededor de una palabra clave o de una idea central. Se utiliza para la generación, visualización, estructura,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clasificación taxonómica de las ide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y como ayuda interna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para el estud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organiza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solución de problem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toma de decision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escritu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jemplo: XMind. http://www.xmind.net/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C501-5E64-44AE-8F8C-B2DC7C1CFB4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282-CB90-43AE-BADF-754D756928C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instituciona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nos vamos a encontrar en cualquier centro y que “debemos” uti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69FB-D038-4AAB-91F4-0912565364C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E302-268D-498B-887B-AC34965EAEA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2:09Z</dcterms:created>
  <dc:creator>Angel</dc:creator>
  <dc:description/>
  <dc:language>en-US</dc:language>
  <cp:lastModifiedBy> </cp:lastModifiedBy>
  <dcterms:modified xsi:type="dcterms:W3CDTF">2010-01-12T17:04:23Z</dcterms:modified>
  <cp:revision>13</cp:revision>
  <dc:subject/>
  <dc:title>Unidad didáctica: </dc:title>
</cp:coreProperties>
</file>