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65B9-F6E0-412A-B335-AD3132BED5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5E6E-536E-41AC-AB00-732612C724D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9E4-5741-49E6-A1BA-F85A8C33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9D8-C56D-4D72-BD45-1189086F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B27-9D31-4903-A225-789C08C4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0CCA-1F2E-4C06-A2A9-FA29BD62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EB20-A691-49B5-BC6B-08971055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821-34A9-4D50-B7F4-0D979B09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5E7-E0AE-443F-A051-D93D131E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B509-0F98-4BE6-A62C-4EAB409F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189000"/>
            <a:ext cx="79311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CFA1-CB66-4FC1-9E8B-474AE721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DAB-1CB9-4256-86E4-BE02ED16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13B8-B724-4B62-B138-1ACBD7A1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F79-F5EE-4D96-8CEA-19E9900E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ABB0-46FD-4C73-BFF3-3E5D13152A81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95640" y="6453000"/>
            <a:ext cx="4681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76720" y="6453000"/>
            <a:ext cx="1809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26B2-7D01-46F7-A27A-7FE1D3005AB5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7D91-9AD3-42F7-80DC-42350E727513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FC05-AD01-463C-AFA1-866C8FE33F6F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UT 3. Recursos metodológicos e institucionale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Y DESARROLLO CURRICULAR DE LA TECNOLOGÍA E INFORMÁTICA II. METODOLOGÍA, RECURSOS Y SISTEMAS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74DB-5077-4BE8-84C4-6D847EF3A99E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09E2-BBAA-4B5A-B326-3CBF785B189D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Delph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licación Web para la gestión acadé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ado por los profesores (faltas de asistencia, notas, etc.) y equipo directivo/secretaría (gestión de profesorado y alumnado, matriculación, evaluaciones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12892" t="18553" r="15038" b="23829"/>
          <a:stretch/>
        </p:blipFill>
        <p:spPr>
          <a:xfrm>
            <a:off x="642960" y="3000240"/>
            <a:ext cx="804240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apá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ftware Web  (considerado un complemento a Delphos) orientado a la comunicación entre PADRES, ALUMNOS y PROFES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cluye las famosas PDAs. Una para cada profesor, que puede pasar lista con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transmisión a la aplicación y a los padres es “instantáne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://educacion.jccm.es/delphos-papa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23E8-A8E2-4976-93C2-A9479346CED8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8FD2-3D01-492D-83E2-6A651022B19C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072200" y="714240"/>
            <a:ext cx="1609920" cy="571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ww.educa.jccm.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ortal web con información para Alumnos, Padres y Profeso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ermite acceso a la Intran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ttps://www.educa.jccm.es/educa-jccm/cm/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accede con la cuenta de correo instituc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cluye: Solicitud de Tarjeta (Carnet), Situación Actual, Trienios / Sexenios, Nómina, Impresos de Solicitud, Formación, Convocatorias, Aplicaciones, etc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E677-82BF-4CD8-9047-4E293072DDB4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C184-5B5E-48DE-99F6-7E4B4822EAFD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eb de Centr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ejería de Industria aloja webs de centros educativos de Castilla-La Manc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ww.iesvaldehierro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edu.jccm.es/cp/ntra.sra.de.la.muel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yuda y fomenta la utilización del gestor de contenidos gratuito JOOM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://edu.jccm.es/jooml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B97E-9D43-4440-9AB7-764208DEE1B6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6E81-F8E9-4074-8A83-C15D6FDB7311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rreo electrónico para docent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lquier profesor de Castilla-La Mancha  (unos 28.000) posee correo electrónico institu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s obtener/recordar contraseña con los datos de la última nó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s://correoweb.jccm.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38B6-C445-493A-A236-3292F4FD333F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D46C-F2FD-472F-B2B7-BC4BAF38559D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D55C-2A7A-4DA8-99E4-BF9865F60CDE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CE9B-A3E7-4292-BE29-941F60BB5E09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ulas Althi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rantiza al menos un Aula Informática por ce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mario Rack + Servidor + Conexión ADS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 de control remoto de los equipos (software/hardware). + Congel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ructura de Islas. Modelo controve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858000" y="4775040"/>
            <a:ext cx="2057400" cy="1582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1857240" y="4786200"/>
            <a:ext cx="2178360" cy="1643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4286160" y="4786200"/>
            <a:ext cx="2281320" cy="159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2442-B5BA-479C-98A5-8BA24321DF78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28E5-CDAF-46DC-B9D5-02FC6996D17C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lan de Conectividad Integra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 WIFI. SSID:Alth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ta de conectividad inalámbrica a todo el cen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rovecha infraestructura de aulas Althia (ADSL, servidor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y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dotación de varios cañones a todos los centros (su número depende del tipo de cent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tátiles, utilizados según criterio del 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algunos centros los cañones se han complementado con otros comprados independientemente. También se sueles colgar en aulas, de informática, taller, biblioteca, plá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F2DB-C407-4008-95FA-186E347B5DB5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9C37-1609-4D98-9B3A-E0174B3E91AB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ortátiles a todo el profesorado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shiba Satellite P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GB RAM. Intel Core 2 Duo 2 GH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indows XP + Microsoft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linux + OpenOffi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stionado por Consejería (Delegaciones), no por los cen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jemplo: Servicio técnico 902 103 259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unes a Domingo de 08:00 horas a 22:00 h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+ Información en www.educa.jccm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se contemplan portátiles para las medias jorn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9BF3-6000-4D4A-A156-2EBD15F91E5A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FF3D-B6DC-4AAA-9761-052D1B92DC03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Aula informática para ciclo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ota de un aula con unos veinte equipos informáticos para ciclos de informática (entre otr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novaciones se solicitan a la Delegación (lent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lmente se complementa con otro aula instalada por el centro (ciclos de dos cursos académic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ulas taller para tecnología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do se crea un centro o surge la necesidad, se crean aulas taller, donde la Consejería suministra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nco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rami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2570-D617-47B3-9BE6-26F006C87B42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4D5A-4294-427E-8977-F090DF233B22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Recursos Metodológicos y Didáctic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rramientas” que podemos utilizar en cl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B48D-C9D3-4DEC-BFF4-B3D4FBF43DB0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3608-2E95-4AB2-92B1-73AEEDEEF0A5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ulas taller para ciclo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 suministrar otro material para los talleres de los ciclos de informática, como herramientas, polímetros, analizador de red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73C7-4567-44F1-8A4C-3DB49E265E78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A708-CCFC-4F50-A7E0-DE6BC193E3CA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ADE2-22E5-4748-B951-1825C2FC21AD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110F-FB3F-4D8E-8101-2D8AE14BC7AB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écnicas generales para motiv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sitas a industrias/centros de proces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licaciones interdisciplinares de la tecnolog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procesos y dispositivos tecnológicos de la vida cotidi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ificación de experi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eño de Plantas Pilo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ebquest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 un tipo de actividad didáctica que consiste en una investigación guiada, con recursos principalmente procedentes de Internet, que promueve la utilización de habilidades cognitivas superiores, el trabajo cooperativo y la autonomía de los alumnos e incluye una evaluaci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a WebQuest contiene siempre los siguientes punt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1D15-6D39-48C8-89AC-A5F9340024A4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7AE2-AB9A-4EEB-A297-C069DF16D9A8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Virtualización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 Educación Virtual nos referimos a un entorno de aprendizaje donde estudiante y profesor están separados en el tiempo o el espacio. Los contenidos se entregan mediante alguna plataforma tecnológica, Internet, etc (E-Learning). La comunicación entre ambos también es por este méto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estrella actual es Moodle (Moodle se clasifica como software LM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9B48-8657-4135-A328-E3149BE45890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880D-C564-4871-B70B-6F77B380FA87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prendizaje colaborativo. Software groupware. Wiki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 aprendizaje colaborativo (Collaborative Learning) es un sistema de enseñanza-aprendizaje basado en propiciar el desarrollo de habilidades mixtas donde cada miembro del grupo es responsable tanto de su aprendizaje como del de los demá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plica tecnología en lo posible. Ejemplos son el software groupware o la utilización de Wikis (MediaWiki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7665-2E30-40F9-834C-BA210308261C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EBF0-7C21-4F47-9BF5-A34DA22B53E4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portafolio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olección de evidencias de todo tipo que permiten al docente y al alumno reflexionar sobre el proceso de aprendizaj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Es un método de enseñanza, aprendizaje y evaluación que consiste en la aportación de producciones de diferente índole por parte del estudia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Portafolio digital (e-portfolio, digital portfolio): evidencias electrónicas text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archivos, imágenes, vídeos, audio, entradas de blogs, foros, hiperenlaces, et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iste software específico, pero puede ser tan simple como una web, un blog, o una carpeta con evidenci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EFEC-0FCD-4A76-8065-E00258975440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6C50-68D8-4D1A-A791-88D98D31712B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Mapas mentales/conceptuale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Un mapa mental (mind map en inglés) es un diagrama usado para representar las palabras, ideas, tareas, u otros conceptos ligados y dispuestos radialmente alrededor de una palabra clave o de una idea central. Se utiliza para la generación, visualización, estructura, y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clasificación taxonómica de las idea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y como ayuda interna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para el estudio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organización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solución de problema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toma de decisione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escritur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jemplo: XMind. http://www.xmind.net/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EEA9-0156-49C9-9439-21D0B6DAAE94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1B7A-2F23-4DE4-9972-9FC292C1069A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Recursos institucional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 que nos vamos a encontrar en cualquier centro y que “debemos” utiliz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6150-B5DB-4EBF-AF95-E7A9299EC278}" type="datetime">
              <a:rPr b="1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pie de página"/>
          <p:cNvSpPr/>
          <p:nvPr/>
        </p:nvSpPr>
        <p:spPr>
          <a:xfrm>
            <a:off x="2195640" y="6453360"/>
            <a:ext cx="468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aster Profesor Secundaria. UC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 Marcador de número de diapositiva"/>
          <p:cNvSpPr/>
          <p:nvPr/>
        </p:nvSpPr>
        <p:spPr>
          <a:xfrm>
            <a:off x="6877080" y="6453360"/>
            <a:ext cx="1809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FA75-9DB6-4C63-8ACB-088339389864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2:09Z</dcterms:created>
  <dc:creator>Angel</dc:creator>
  <dc:description/>
  <dc:language>en-US</dc:language>
  <cp:lastModifiedBy> </cp:lastModifiedBy>
  <dcterms:modified xsi:type="dcterms:W3CDTF">2010-01-12T17:04:23Z</dcterms:modified>
  <cp:revision>13</cp:revision>
  <dc:subject/>
  <dc:title>Unidad didáctica: </dc:title>
</cp:coreProperties>
</file>