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66D3-69B0-4731-8F54-C05B69E64BD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7911-9324-4F3C-8EE4-DE4BEB1CDBD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2384-F471-415D-AE26-5D7B397D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B3D0-1F0A-4AA6-A559-9A7035D4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F74-B694-4B91-B1B6-00BED855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7BA-EEAD-4CDE-B1A3-D16EF7B0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DDCC-4130-442A-85E7-C0449992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6DDE-D67C-4A96-BDF2-CB97008B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129-F7D7-4822-A1E4-6F28ABA3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5CEC-17BD-4AE9-834B-777759BA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280" y="189000"/>
            <a:ext cx="79311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14D4-1637-4231-93B6-1DDC9E8B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9799-E442-4FB2-B7B3-42A26A79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CA6A-BF24-4F71-B9EB-5FA2A5AA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C56D-73B9-420C-80EC-4AA1DF65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59F4-2044-4C91-A760-4970AA3EC99B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95640" y="6453000"/>
            <a:ext cx="4681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76720" y="6453000"/>
            <a:ext cx="1809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8376-D5E0-4FA6-B7B3-25B4D09E8AFF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C9C9-D39E-421E-8026-CEB19C5BE5BE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42D4-D243-4C66-8152-4D219DBE3D2C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UT 3. Recursos metodológicos e institucionale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Y DESARROLLO CURRICULAR DE LA TECNOLOGÍA E INFORMÁTICA II. METODOLOGÍA, RECURSOS Y SISTEMAS DE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E3C4-2DF2-4FAC-8F22-64D7407249D7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0336-52A6-4836-9FC6-8DDE5BC0F1BF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Delph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licación Web para la gestión académ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sado por los profesores (faltas de asistencia, notas, etc.) y equipo directivo/secretaría (gestión de profesorado y alumnado, matriculación, evaluaciones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12892" t="18553" r="15038" b="23829"/>
          <a:stretch/>
        </p:blipFill>
        <p:spPr>
          <a:xfrm>
            <a:off x="642960" y="3000240"/>
            <a:ext cx="804240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apá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ftware Web  (considerado un complemento a Delphos) orientado a la comunicación entre PADRES, ALUMNOS y PROFES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cluye las famosas PDAs. Una para cada profesor, que puede pasar lista con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transmisión a la aplicación y a los padres es “instantáne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ttp://educacion.jccm.es/delphos-papa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0446-A57F-4474-9720-CDE5A5464330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1FE1-1E57-4E68-976E-35A50763CBCE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7072200" y="714240"/>
            <a:ext cx="1609920" cy="571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www.educa.jccm.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ortal web con información para Alumnos, Padres y Profesor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ermite acceso a la Intran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ttps://www.educa.jccm.es/educa-jccm/cm/intr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 accede con la cuenta de correo institucio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cluye: Solicitud de Tarjeta (Carnet), Situación Actual, Trienios / Sexenios, Nómina, Impresos de Solicitud, Formación, Convocatorias, Aplicaciones, etc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3C1F-B78E-4277-9DE5-A7460AE99531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9A4C-DE2B-4E0B-90A0-C1598ADA5B2D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Web de Centr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ejería de Industria aloja webs de centros educativos de Castilla-La Manch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ww.iesvaldehierro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edu.jccm.es/cp/ntra.sra.de.la.muel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yuda y fomenta la utilización del gestor de contenidos gratuito JOOM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ttp://edu.jccm.es/jooml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2816-66BE-4C36-802C-17B8350971CF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4210-A123-4FA2-BA63-856F32DF7E56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orreo electrónico para docent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lquier profesor de Castilla-La Mancha  (unos 28.000) posee correo electrónico institu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s obtener/recordar contraseña con los datos de la última nó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ttps://correoweb.jccm.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4E21-5583-445F-B03C-D44A8215E5C0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CBF5-E6EB-4008-9E5D-71B1285A9B2D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F462-9ECC-4848-A6BB-474C02C3A657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9BD8-B1F9-4C8D-A472-200A3673C113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ulas Althi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rantiza al menos un Aula Informática por cen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mario Rack + Servidor + Conexión ADS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stema de control remoto de los equipos (software/hardware). + Congel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ructura de Islas. Modelo controvert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6858000" y="4775040"/>
            <a:ext cx="2057400" cy="1582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1857240" y="4786200"/>
            <a:ext cx="2178360" cy="1643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4286160" y="4786200"/>
            <a:ext cx="2281320" cy="1590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2EE0-1597-4EFF-B01D-F44D41F54D24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3AFE-8D00-41BE-98F6-F411ED1D3579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lan de Conectividad Integra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 WIFI. SSID:Alth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ta de conectividad inalámbrica a todo el cen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rovecha infraestructura de aulas Althia (ADSL, servidor,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cluy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dotación de varios cañones a todos los centros (su número depende del tipo de centr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tátiles, utilizados según criterio del cen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algunos centros los cañones se han complementado con otros comprados independientemente. También se sueles colgar en aulas, de informática, taller, biblioteca, plá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5607-FE71-489E-A3E4-8F11D58C59BF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1BC3-C413-4E59-9FD4-6EACFD3E37AB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ortátiles a todo el profesorado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shiba Satellite P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GB RAM. Intel Core 2 Duo 2 GH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indows XP + Microsoft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linux + OpenOffi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stionado por Consejería (Delegaciones), no por los cen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jemplo: Servicio técnico 902 103 259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Lunes a Domingo de 08:00 horas a 22:00 ho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+ Información en www.educa.jccm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se contemplan portátiles para las medias jorn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9E75-DD6D-4FAE-864E-AC2362428743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370C-140E-47A7-A772-7ACD42B8DCB9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Aula informática para ciclo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ota de un aula con unos veinte equipos informáticos para ciclos de informática (entre otr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renovaciones se solicitan a la Delegación (lent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eralmente se complementa con otro aula instalada por el centro (ciclos de dos cursos académic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ulas taller para tecnología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ndo se crea un centro o surge la necesidad, se crean aulas taller, donde la Consejería suministra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ncos de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rramie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DC2A-9224-49DD-A68E-4EF34FF00236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67E5-FD88-4A5A-A4BD-B3F3C9ECF485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Recursos Metodológicos y Didáctic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erramientas” que podemos utilizar en cl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98CB-2C82-4F27-9C07-BF52AD5FA89E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2345-B016-44EF-BB61-344D2D8C3676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ulas taller para ciclo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 suministrar otro material para los talleres de los ciclos de informática, como herramientas, polímetros, analizador de red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6684-8A3B-4695-B9AC-13A675200EB5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6B10-2543-4E0B-8972-A3FE523F27C8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5467-0E15-45DF-B317-19E0DF40B2CC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C1B0-3728-4B67-B6E4-F9726E334FF1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écnicas generales para motiva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sitas a industrias/centros de proceso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licaciones interdisciplinares de la tecnolog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álisis de procesos y dispositivos tecnológicos de la vida cotidi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ificación de experime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eño de Plantas Pilo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Webquest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 un tipo de actividad didáctica que consiste en una investigación guiada, con recursos principalmente procedentes de Internet, que promueve la utilización de habilidades cognitivas superiores, el trabajo cooperativo y la autonomía de los alumnos e incluye una evaluaci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a WebQuest contiene siempre los siguientes punt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0F8A-466B-4950-A9FD-D12689562222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912F-B0AA-4C64-9874-6D9100F99F29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Virtualización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 Educación Virtual nos referimos a un entorno de aprendizaje donde estudiante y profesor están separados en el tiempo o el espacio. Los contenidos se entregan mediante alguna plataforma tecnológica, Internet, etc (E-Learning). La comunicación entre ambos también es por este méto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estrella actual es Moodle (Moodle se clasifica como software LM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7904-F64D-4CBB-9A2F-A95109D9702D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AAC8-A77A-4BE3-89CB-245170BD34B1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prendizaje colaborativo. Software groupware. Wiki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l aprendizaje colaborativo (Collaborative Learning) es un sistema de enseñanza-aprendizaje basado en propiciar el desarrollo de habilidades mixtas donde cada miembro del grupo es responsable tanto de su aprendizaje como del de los demá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plica tecnología en lo posible. Ejemplos son el software groupware o la utilización de Wikis (MediaWiki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5A7E-0ED7-4934-AD73-38C01223CD11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7F5C-E9A2-414E-9F00-250A869BE3E8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portafolio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Colección de evidencias de todo tipo que permiten al docente y al alumno reflexionar sobre el proceso de aprendizaj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Es un método de enseñanza, aprendizaje y evaluación que consiste en la aportación de producciones de diferente índole por parte del estudian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Portafolio digital (e-portfolio, digital portfolio): evidencias electrónicas texto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archivos, imágenes, vídeos, audio, entradas de blogs, foros, hiperenlaces, et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iste software específico, pero puede ser tan simple como una web, un blog, o una carpeta con evidenci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C7F6-BE98-4FAE-AE1A-A5BB0B52F13C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BDE8-3B31-4D4B-8240-69D80918E8EE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Mapas mentales/conceptuale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Un mapa mental (mind map en inglés) es un diagrama usado para representar las palabras, ideas, tareas, u otros conceptos ligados y dispuestos radialmente alrededor de una palabra clave o de una idea central. Se utiliza para la generación, visualización, estructura, y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clasificación taxonómica de las idea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, y como ayuda interna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para el estudio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organización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solución de problema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toma de decisione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escritur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jemplo: XMind. http://www.xmind.net/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4B41-1276-4120-98C3-1CD7468349A7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E1C0-F00F-457F-9B5F-7BCCBB732EA7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Recursos institucional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 que nos vamos a encontrar en cualquier centro y que “debemos” utiliz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3F5C-8C59-4080-A24D-C01C94D62565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DFAF-FD07-45A5-894D-9549B38F368C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2:09Z</dcterms:created>
  <dc:creator>Angel</dc:creator>
  <dc:description/>
  <dc:language>en-US</dc:language>
  <cp:lastModifiedBy> </cp:lastModifiedBy>
  <dcterms:modified xsi:type="dcterms:W3CDTF">2010-01-12T17:04:23Z</dcterms:modified>
  <cp:revision>13</cp:revision>
  <dc:subject/>
  <dc:title>Unidad didáctica: </dc:title>
</cp:coreProperties>
</file>