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EF3-E08D-42FE-9A06-22A2E55F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034-A098-4C9F-BB50-D2EB5A5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4C9-9134-487A-9D17-C97CE7F4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648-FE93-430C-B834-6261F5D3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A9D6-6188-4729-A886-9FC722B6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4B29-E41D-45C0-82AF-82920227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181C-5C1D-4815-B115-5E68BCD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BC79-93EB-4797-9341-6332530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636-4BF5-4DF5-B101-3AD0FAB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5559-4CE4-481F-A677-F4688947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C47-F7E4-4CD4-947B-8746619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E0B-ED67-49D4-A8D7-E379087E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976-53A1-4FB7-A811-C0040FD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E938-45D5-433D-A6A1-A13D6918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FAA-9018-4FA5-915F-A13D15CE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A532-DCA9-4A73-9C81-7ADCEA28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40E5-1FEB-4E47-B5E0-EE8B9AE6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DB5-5EBA-494F-9B71-2DA5CE9C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1DF-F2E6-42CD-A0EF-9FE4C066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CFD-63E0-4C84-BD79-CB95D2F6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DE2-25FB-4C44-9984-B486D6CC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414-69EE-4EED-A9EA-06057878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A40-607E-4E55-A00E-E362F35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254-D111-47CD-AC58-BC0BC07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721F-0815-4A89-BBEB-EF85902472D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4B3-BF31-4639-957B-E448BD73917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esvillalbahervastecnologia.wordpress.com/2009/09/04/el-metodo-de-proyectos-segun-bob-sinclar/" TargetMode="External"/><Relationship Id="rId2" Type="http://schemas.openxmlformats.org/officeDocument/2006/relationships/hyperlink" Target="http://www.ite.educacion.es/w3/recursos2/orientacion/01apoyo/op03_b3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87Em9TPBq8&amp;NR=1" TargetMode="External"/><Relationship Id="rId2" Type="http://schemas.openxmlformats.org/officeDocument/2006/relationships/hyperlink" Target="http://iesvillalbahervastecnologia.wordpress.com/proyectos/" TargetMode="External"/><Relationship Id="rId3" Type="http://schemas.openxmlformats.org/officeDocument/2006/relationships/hyperlink" Target="http://www.juntadeandalucia.es/averroes/~29011539/departamentos/tecnologia/recursos/" TargetMode="External"/><Relationship Id="rId4" Type="http://schemas.openxmlformats.org/officeDocument/2006/relationships/hyperlink" Target="http://www.tecnologiadeprimero.blogspot.com/" TargetMode="External"/><Relationship Id="rId5" Type="http://schemas.openxmlformats.org/officeDocument/2006/relationships/hyperlink" Target="http://misproyectosdetecnologia.blogspot.com/" TargetMode="External"/><Relationship Id="rId6" Type="http://schemas.openxmlformats.org/officeDocument/2006/relationships/hyperlink" Target="http://www.areatecnologia.com/" TargetMode="External"/><Relationship Id="rId7" Type="http://schemas.openxmlformats.org/officeDocument/2006/relationships/hyperlink" Target="http://www.portaleso.com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RECURSOS PARA 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MÉTODOS DE PROYECTO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948360" y="5805360"/>
            <a:ext cx="1619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038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audiovi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nformá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mpresos y fung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específicos de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10476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981360" cy="1181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RENSIÓN CONCEPTO PROY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MÉTODO DE PROYECTOS BOB SINC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INSTITUTO DE TECNOLOGÍAS EDU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1795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PROY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YOUTUB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Ejemplo puerta de gara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EB INSTIT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JUNTA DE ANDALUC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s y recur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LOG DE PROFES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 1º 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BLOG DE PROFE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areatecnologia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portaleso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ttp://alcatecno.zobyhost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RICOMA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nformátic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0920" y="5051520"/>
            <a:ext cx="41943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MUL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77080" y="4797360"/>
            <a:ext cx="104760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403280" y="1557360"/>
          <a:ext cx="6335640" cy="2649600"/>
        </p:xfrm>
        <a:graphic>
          <a:graphicData uri="http://schemas.openxmlformats.org/drawingml/2006/table">
            <a:tbl>
              <a:tblPr/>
              <a:tblGrid>
                <a:gridCol w="3168360"/>
                <a:gridCol w="316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PLIC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DE ESQU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C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TILLAS PRESU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IMUL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PLICAR FUNCION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WER PO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OS DEFINI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mpresos y fung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herramientas de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baranes de almac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jas de presu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seguridad en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utilización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cumento tipo de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1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Otros Recursos específicos de áre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s de 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es Didác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ividades curi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59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UCHAS GRACIAS A TO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1577880" cy="2376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Yolanda Dí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avier Fél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Cristina Góm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osé F. Lóp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8:19Z</dcterms:created>
  <dc:creator>felix-lujan</dc:creator>
  <dc:description/>
  <dc:language>en-US</dc:language>
  <cp:lastModifiedBy>usuario</cp:lastModifiedBy>
  <dcterms:modified xsi:type="dcterms:W3CDTF">2009-12-21T14:52:19Z</dcterms:modified>
  <cp:revision>12</cp:revision>
  <dc:subject/>
  <dc:title>RECURSOS PARA METODOS DE PROYECTOS</dc:title>
</cp:coreProperties>
</file>