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03C8-03E5-4AE9-A898-2994792DA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E727-8BE8-4A5A-BC55-9B3BAA604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B9E0-4C91-4B01-9E3A-654A741C4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909A-6E80-4502-BA38-E6BAD9E92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098F0-9AFA-489F-9CAC-9546AEC39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1191D-0A16-4BF6-9C59-833A33786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EF612-D6C8-41BF-B47A-29443CC21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42A3E-F8F4-4623-832A-F5731E642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DFA44-1851-4EB0-AF38-89DBEA99F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431F7-6924-47A4-A667-17424DCBC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543D5-1058-4862-B17A-138B4125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5264-FFA5-478E-A4BF-3668D4444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8BB1E-EA71-4C90-AFA0-8BD8E542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CE0D8-D290-4F69-8404-7954990A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2043A-620A-45D3-B9D6-0A4BD95FC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8B32C-EC89-451B-A018-8E2EE044C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F78CA-D60C-4CD6-AB84-84022DD7E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87F7-2490-4EDF-AF8A-27EEE356F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4792-3196-4F73-AB09-53945C1B1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BE39-767E-4A1A-817D-5224D664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AC9F-88A1-44CE-84FA-9DB33448B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9E52-194C-47DB-92EE-6E26105A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C86D-B3CF-4746-A8EA-90E24C39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08AB-AF1B-4FC3-8004-599A505A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43E38-40EE-49C5-8E62-5889B8A69047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6DBE3-D21A-4C06-908D-62042C13CB39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esvillalbahervastecnologia.wordpress.com/2009/09/04/el-metodo-de-proyectos-segun-bob-sinclar/" TargetMode="External"/><Relationship Id="rId2" Type="http://schemas.openxmlformats.org/officeDocument/2006/relationships/hyperlink" Target="http://www.ite.educacion.es/w3/recursos2/orientacion/01apoyo/op03_b3.htm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387Em9TPBq8&amp;NR=1" TargetMode="External"/><Relationship Id="rId2" Type="http://schemas.openxmlformats.org/officeDocument/2006/relationships/hyperlink" Target="http://iesvillalbahervastecnologia.wordpress.com/proyectos/" TargetMode="External"/><Relationship Id="rId3" Type="http://schemas.openxmlformats.org/officeDocument/2006/relationships/hyperlink" Target="http://www.juntadeandalucia.es/averroes/~29011539/departamentos/tecnologia/recursos/" TargetMode="External"/><Relationship Id="rId4" Type="http://schemas.openxmlformats.org/officeDocument/2006/relationships/hyperlink" Target="http://www.tecnologiadeprimero.blogspot.com/" TargetMode="External"/><Relationship Id="rId5" Type="http://schemas.openxmlformats.org/officeDocument/2006/relationships/hyperlink" Target="http://misproyectosdetecnologia.blogspot.com/" TargetMode="External"/><Relationship Id="rId6" Type="http://schemas.openxmlformats.org/officeDocument/2006/relationships/hyperlink" Target="http://www.areatecnologia.com/" TargetMode="External"/><Relationship Id="rId7" Type="http://schemas.openxmlformats.org/officeDocument/2006/relationships/hyperlink" Target="http://www.portaleso.com/" TargetMode="External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26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cc"/>
                </a:solidFill>
                <a:latin typeface="Tahoma"/>
              </a:rPr>
              <a:t>RECURSOS PARA </a:t>
            </a:r>
            <a:br>
              <a:rPr sz="4800"/>
            </a:br>
            <a:br>
              <a:rPr sz="4800"/>
            </a:br>
            <a:r>
              <a:rPr b="0" lang="es-ES" sz="4800" spc="-1" strike="noStrike">
                <a:solidFill>
                  <a:srgbClr val="ffffcc"/>
                </a:solidFill>
                <a:latin typeface="Tahoma"/>
              </a:rPr>
              <a:t>MÉTODOS DE PROYECTOS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948360" y="5805360"/>
            <a:ext cx="161928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GRUPO &gt; 3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2484360" y="3141720"/>
            <a:ext cx="303840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CLASIFICACIÓ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ecursos audiovisu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ecursos informátic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ecursos impresos y fungib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ecursos específicos de áre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5508720" y="2637000"/>
            <a:ext cx="1047600" cy="119052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003640" y="1341360"/>
            <a:ext cx="981360" cy="118116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3"/>
          <a:stretch/>
        </p:blipFill>
        <p:spPr>
          <a:xfrm>
            <a:off x="7524720" y="4941720"/>
            <a:ext cx="1285920" cy="96228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4"/>
          <a:stretch/>
        </p:blipFill>
        <p:spPr>
          <a:xfrm>
            <a:off x="6443640" y="3933720"/>
            <a:ext cx="9619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RECURSOS AUDIOVISUAL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OMPRENSIÓN CONCEPTO PROYECT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MÉTODO DE PROYECTOS BOB SINC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INSTITUTO DE TECNOLOGÍAS EDUCATIV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EN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3"/>
          <a:stretch/>
        </p:blipFill>
        <p:spPr>
          <a:xfrm>
            <a:off x="6227640" y="4005360"/>
            <a:ext cx="17956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JEMPLOS DE PROYEC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YOUTUBE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Ejemplo puerta de gara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WEB INSTITU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a3c145"/>
                </a:solidFill>
                <a:uFillTx/>
                <a:latin typeface="Tahoma"/>
                <a:hlinkClick r:id="rId3"/>
              </a:rPr>
              <a:t>JUNTA DE ANDALUCÍ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Ejemplos y recurs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a3c145"/>
                </a:solidFill>
                <a:uFillTx/>
                <a:latin typeface="Tahoma"/>
                <a:hlinkClick r:id="rId4"/>
              </a:rPr>
              <a:t>BLOG DE PROFESORE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Ejemplo 1º ES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a3c145"/>
                </a:solidFill>
                <a:uFillTx/>
                <a:latin typeface="Tahoma"/>
                <a:hlinkClick r:id="rId5"/>
              </a:rPr>
              <a:t>BLOG DE PROFESO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a3c145"/>
                </a:solidFill>
                <a:uFillTx/>
                <a:latin typeface="Tahoma"/>
                <a:hlinkClick r:id="rId6"/>
              </a:rPr>
              <a:t>http://www.areatecnologia.com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a3c145"/>
                </a:solidFill>
                <a:uFillTx/>
                <a:latin typeface="Tahoma"/>
                <a:hlinkClick r:id="rId7"/>
              </a:rPr>
              <a:t>http://www.portaleso.com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http://alcatecno.zobyhost.com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BRICOMAN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RECURSOS AUDIOVISUAL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Recursos informático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10920" y="5051520"/>
            <a:ext cx="4194360" cy="18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IMULADO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6877080" y="4797360"/>
            <a:ext cx="1047600" cy="119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1" name=""/>
          <p:cNvGraphicFramePr/>
          <p:nvPr/>
        </p:nvGraphicFramePr>
        <p:xfrm>
          <a:off x="1403280" y="1557360"/>
          <a:ext cx="6335640" cy="2649600"/>
        </p:xfrm>
        <a:graphic>
          <a:graphicData uri="http://schemas.openxmlformats.org/drawingml/2006/table">
            <a:tbl>
              <a:tblPr/>
              <a:tblGrid>
                <a:gridCol w="3168360"/>
                <a:gridCol w="3167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RECURS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APLIC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AI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ENTREGA DE ESQUEM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EXCE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LANTILLAS PRESUPUEST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WOR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ENTREGA INFORM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SIMULADOR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EXPLICAR FUNCIONAMIENT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OWER POI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RESENT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CA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LANOS DEFINITIV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Recursos impresos y fungibl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lantilla de grup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lantilla herramientas de tall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lantilla de materi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lbaranes de almacé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Hojas de presupues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lanifica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Normas de grup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Normas de seguridad en tall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Normas de utilización de materi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ocumento tipo de memo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7020000" y="4581360"/>
            <a:ext cx="131436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Tahoma"/>
              </a:rPr>
              <a:t>Otros Recursos específicos de áre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ibros de tex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Unidades Didáctic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Actividades curios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jemplo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5076720" y="4005360"/>
            <a:ext cx="315936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MUCHAS GRACIAS A TODO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3924360" y="1844640"/>
            <a:ext cx="1577880" cy="237636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Arial"/>
              </a:rPr>
              <a:t>GRUPO &gt; 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Arial"/>
              </a:rPr>
              <a:t>Yolanda Día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Arial"/>
              </a:rPr>
              <a:t>Javier Féli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Arial"/>
              </a:rPr>
              <a:t>Cristina Góme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Arial"/>
              </a:rPr>
              <a:t>José F. Lópe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18:18:19Z</dcterms:created>
  <dc:creator>felix-lujan</dc:creator>
  <dc:description/>
  <dc:language>en-US</dc:language>
  <cp:lastModifiedBy>usuario</cp:lastModifiedBy>
  <dcterms:modified xsi:type="dcterms:W3CDTF">2009-12-21T14:52:19Z</dcterms:modified>
  <cp:revision>12</cp:revision>
  <dc:subject/>
  <dc:title>RECURSOS PARA METODOS DE PROYECTOS</dc:title>
</cp:coreProperties>
</file>