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86BF-5D0A-474F-89C0-51758F28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05D3-2F54-4DC7-9537-4C1805B7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319-789E-477E-8854-893F9906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2F51-16AA-49DB-8BE1-5203913A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A817-7A2A-48DF-BA0B-7E8DA4DE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B9C0-2517-4D95-897F-3132E321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502B-409C-4D99-952A-D0253FAA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56D8-8DF2-4C9E-8F98-59B86FD4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BCC1-C1F5-4F10-A898-C617A8A9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F927-6BC2-493B-9C8C-3C40CE64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88B9-C1F5-46E8-9F2F-926C3C16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29E-EFE5-4908-BF71-212B94A5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5035-025B-4926-AF59-A40F15E8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E336-FEED-499F-8261-B5427066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A99F-018A-4080-8536-1C1BF5FA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A82E-3364-4D8C-A7DC-5DC15695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F560-B458-4540-89A7-A2012A06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7D0B-AC53-4C6D-AC2A-6244700A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5F0-F6CA-4E98-AD2F-D2A24E70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DA4F-11A8-4D04-B070-6965B018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E32A-07E3-4907-81D1-58E49E54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C5C9-52CE-41C8-8184-A32F06C0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7B54-7708-42E9-8826-FAC4CB8D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E8A2-AC7B-440D-ADB7-F2C44174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A10D-E75D-4003-AE6B-DA6E4DDF4465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BAE7-6634-45D6-B80E-27EEEEE6F1A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esvillalbahervastecnologia.wordpress.com/2009/09/04/el-metodo-de-proyectos-segun-bob-sinclar/" TargetMode="External"/><Relationship Id="rId2" Type="http://schemas.openxmlformats.org/officeDocument/2006/relationships/hyperlink" Target="http://www.ite.educacion.es/w3/recursos2/orientacion/01apoyo/op03_b3.htm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87Em9TPBq8&amp;NR=1" TargetMode="External"/><Relationship Id="rId2" Type="http://schemas.openxmlformats.org/officeDocument/2006/relationships/hyperlink" Target="http://iesvillalbahervastecnologia.wordpress.com/proyectos/" TargetMode="External"/><Relationship Id="rId3" Type="http://schemas.openxmlformats.org/officeDocument/2006/relationships/hyperlink" Target="http://www.juntadeandalucia.es/averroes/~29011539/departamentos/tecnologia/recursos/" TargetMode="External"/><Relationship Id="rId4" Type="http://schemas.openxmlformats.org/officeDocument/2006/relationships/hyperlink" Target="http://www.tecnologiadeprimero.blogspot.com/" TargetMode="External"/><Relationship Id="rId5" Type="http://schemas.openxmlformats.org/officeDocument/2006/relationships/hyperlink" Target="http://misproyectosdetecnologia.blogspot.com/" TargetMode="External"/><Relationship Id="rId6" Type="http://schemas.openxmlformats.org/officeDocument/2006/relationships/hyperlink" Target="http://www.areatecnologia.com/" TargetMode="External"/><Relationship Id="rId7" Type="http://schemas.openxmlformats.org/officeDocument/2006/relationships/hyperlink" Target="http://www.portaleso.com/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26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cc"/>
                </a:solidFill>
                <a:latin typeface="Tahoma"/>
              </a:rPr>
              <a:t>RECURSOS PARA </a:t>
            </a:r>
            <a:br>
              <a:rPr sz="4800"/>
            </a:br>
            <a:br>
              <a:rPr sz="4800"/>
            </a:br>
            <a:r>
              <a:rPr b="0" lang="es-ES" sz="4800" spc="-1" strike="noStrike">
                <a:solidFill>
                  <a:srgbClr val="ffffcc"/>
                </a:solidFill>
                <a:latin typeface="Tahoma"/>
              </a:rPr>
              <a:t>MÉTODOS DE PROYECTO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948360" y="5805360"/>
            <a:ext cx="16192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GRUPO &gt; 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0384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audiovisu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informát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impresos y fungi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específicos de á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2637000"/>
            <a:ext cx="1047600" cy="11905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981360" cy="11811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7524720" y="4941720"/>
            <a:ext cx="1285920" cy="962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6443640" y="3933720"/>
            <a:ext cx="961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AUDIOVISUA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MPRENSIÓN CONCEPTO PROYEC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MÉTODO DE PROYECTOS BOB SINC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INSTITUTO DE TECNOLOGÍAS EDUC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EN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6227640" y="4005360"/>
            <a:ext cx="17956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S DE PROY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YOUTUB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Ejemplo puerta de gara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WEB INSTITU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JUNTA DE ANDALUCÍ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jemplos y recurs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BLOG DE PROFESOR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jemplo 1º E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BLOG DE PROFES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http://www.areatecnologia.com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http://www.portaleso.com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ttp://alcatecno.zobyhost.com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RICOMA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AUDIOVISUA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informátic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10920" y="5051520"/>
            <a:ext cx="419436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MULAD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6877080" y="4797360"/>
            <a:ext cx="1047600" cy="11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1403280" y="1557360"/>
          <a:ext cx="6335640" cy="2649600"/>
        </p:xfrm>
        <a:graphic>
          <a:graphicData uri="http://schemas.openxmlformats.org/drawingml/2006/table">
            <a:tbl>
              <a:tblPr/>
              <a:tblGrid>
                <a:gridCol w="3168360"/>
                <a:gridCol w="3167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CUR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PLIC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AI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NTREGA DE ESQUEM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XC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LANTILLAS PRESUPUES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WO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NTREGA 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IMULAD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XPLICAR FUNCIONAMIEN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OWER POI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ESENT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A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LANOS DEFINITIV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impresos y fungib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tilla de gru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tilla herramientas de ta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tilla de mater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lbaranes de almacé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ojas de presupues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if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rmas de gru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rmas de seguridad en ta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rmas de utilización de mater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ocumento tipo de mem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7020000" y="4581360"/>
            <a:ext cx="1314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Otros Recursos específicos de áre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ibros de tex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nidades Didáct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tividades curio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076720" y="4005360"/>
            <a:ext cx="31593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MUCHAS GRACIAS A TOD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3924360" y="1844640"/>
            <a:ext cx="1577880" cy="23763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GRUPO &gt; 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Yolanda Día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Javier Fél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Cristina Góm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José F. Lóp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8:18:19Z</dcterms:created>
  <dc:creator>felix-lujan</dc:creator>
  <dc:description/>
  <dc:language>en-US</dc:language>
  <cp:lastModifiedBy>usuario</cp:lastModifiedBy>
  <dcterms:modified xsi:type="dcterms:W3CDTF">2009-12-21T14:52:19Z</dcterms:modified>
  <cp:revision>12</cp:revision>
  <dc:subject/>
  <dc:title>RECURSOS PARA METODOS DE PROYECTOS</dc:title>
</cp:coreProperties>
</file>