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941-C1AE-4926-9488-9311D4DF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F15-D721-43FF-9B49-F5D56E87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5FC-68CA-4CD9-81C0-C974E096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6F4-5F8B-4871-BA4B-8EE0C92B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3A00-0D09-43B4-88E2-58C8B331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E109-66AB-4E9D-BAF7-A8C82D8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987E-7321-42A1-8C84-AC4FACF3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4733-F539-4CBA-B331-6731174A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ADBC-311F-4FA7-BD73-5A8D99B2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7EA4-EB62-455F-9CA1-E0A79EA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7572-D83F-485C-91D2-5764AA8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8AA-9CE6-466E-8D31-A7C9C06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E66D-0651-4819-AD2A-45E551E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C21E-F91C-40E5-A4BC-B4489EF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F6DF-241E-42A4-9E45-5D51C72C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D538-72F7-40DB-B655-00D8A6A2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363-3869-48BE-9518-352E8537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6E5-FCB8-4CBA-8C2E-B16264B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90F-4460-4830-851F-66B06D94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6A6-262A-4EE7-9F0C-4EFC50FA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D50-D952-4609-A98F-5B0F215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3BD-AA78-4A0F-BA16-EDCFE83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059-1F25-4390-9544-DB34C148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C3F-2095-42D5-91CA-C732DC2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ECF2-AF8A-4E97-A1D4-3518CB13E1F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6D8B-9C7B-4E06-8FB6-308834E4C97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svillalbahervastecnologia.wordpress.com/2009/09/04/el-metodo-de-proyectos-segun-bob-sinclar/" TargetMode="External"/><Relationship Id="rId2" Type="http://schemas.openxmlformats.org/officeDocument/2006/relationships/hyperlink" Target="http://www.ite.educacion.es/w3/recursos2/orientacion/01apoyo/op03_b3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87Em9TPBq8&amp;NR=1" TargetMode="External"/><Relationship Id="rId2" Type="http://schemas.openxmlformats.org/officeDocument/2006/relationships/hyperlink" Target="http://iesvillalbahervastecnologia.wordpress.com/proyectos/" TargetMode="External"/><Relationship Id="rId3" Type="http://schemas.openxmlformats.org/officeDocument/2006/relationships/hyperlink" Target="http://www.juntadeandalucia.es/averroes/~29011539/departamentos/tecnologia/recursos/" TargetMode="External"/><Relationship Id="rId4" Type="http://schemas.openxmlformats.org/officeDocument/2006/relationships/hyperlink" Target="http://www.tecnologiadeprimero.blogspot.com/" TargetMode="External"/><Relationship Id="rId5" Type="http://schemas.openxmlformats.org/officeDocument/2006/relationships/hyperlink" Target="http://misproyectosdetecnologia.blogspot.com/" TargetMode="External"/><Relationship Id="rId6" Type="http://schemas.openxmlformats.org/officeDocument/2006/relationships/hyperlink" Target="http://www.areatecnologia.com/" TargetMode="External"/><Relationship Id="rId7" Type="http://schemas.openxmlformats.org/officeDocument/2006/relationships/hyperlink" Target="http://www.portaleso.com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RECURSOS PARA 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MÉTODOS DE PROYECTO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948360" y="5805360"/>
            <a:ext cx="1619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038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audiovi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nformá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mpresos y fung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específicos de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10476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981360" cy="118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SIÓN CONCEPTO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MÉTODO DE PROYECTOS BOB SINC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INSTITUTO DE TECNOLOGÍAS EDU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795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PROY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YOUTUB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Ejemplo puerta de gara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EB INSTIT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JUNTA DE ANDALUC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s y recur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LOG DE PROFES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 1º 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BLOG DE PROFE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areatecnologia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portaleso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ttp://alcatecno.zobyhost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RICOMA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nformátic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0920" y="5051520"/>
            <a:ext cx="41943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MUL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04760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403280" y="1557360"/>
          <a:ext cx="6335640" cy="2649600"/>
        </p:xfrm>
        <a:graphic>
          <a:graphicData uri="http://schemas.openxmlformats.org/drawingml/2006/table">
            <a:tbl>
              <a:tblPr/>
              <a:tblGrid>
                <a:gridCol w="3168360"/>
                <a:gridCol w="316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DE ESQU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C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TILLAS PRESU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MUL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PLICAR FUNCION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WER PO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OS DEFINI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mpresos y fung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herramientas de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baranes de almac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de presu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seguridad en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utilización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cumento tipo de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1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Otros Recursos específicos de áre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s de 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es Didác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ividades curi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59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UCHAS GRACIAS A TO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Yolanda Dí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avier Fél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Cristina Gó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osé F. Lóp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8:19Z</dcterms:created>
  <dc:creator>felix-lujan</dc:creator>
  <dc:description/>
  <dc:language>en-US</dc:language>
  <cp:lastModifiedBy>usuario</cp:lastModifiedBy>
  <dcterms:modified xsi:type="dcterms:W3CDTF">2009-12-21T14:52:19Z</dcterms:modified>
  <cp:revision>12</cp:revision>
  <dc:subject/>
  <dc:title>RECURSOS PARA METODOS DE PROYECTOS</dc:title>
</cp:coreProperties>
</file>