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79E0-93A3-4F98-9AC0-4CD7269A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99A-407D-4C21-89DE-658D2DA4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3508-86DF-46DD-908D-2E86F815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7A4-2BBB-4CCA-884C-FEB696E1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BA1B-7A6E-47A8-B419-E63C4110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4996-00F0-4853-B80A-BAE3FF8D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D37F-3645-46AC-9AED-9BA23E84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5ACB-6D24-46ED-99D6-B7E86F43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FC25-28B8-45F1-B66D-19EB7F64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F65D-FB4E-498C-9C8E-05E13466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1C6B-1816-49EF-AC71-B63C676F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2A8-A7D2-4866-B3EF-FFAB9316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B6E7-A398-4881-A7D9-8FD29C49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E0AD-89A6-4859-9AA4-DD163DA8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B7B7-50B6-419F-94E8-98E220D0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AEE8-F141-4DF0-B35B-366D86EC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7879-BD93-485F-AB58-D98F9CA9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3B8-CE98-4F00-A51F-F7C82B9B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387-DFD0-4221-8A84-7DFA5039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6D32-B526-4E68-B905-C96594EA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9DB-D586-461E-B5F7-8564755C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BCA6-F272-4712-80F3-C7DDF93A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FA4E-B5CE-4652-83AD-E56608A4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4D8-2E9F-4B4A-A96F-5AFBE1B0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9AC4-D9D3-4625-B33E-43F161A711F4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2D90-A7F1-4AD0-B958-251F63A4F523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esvillalbahervastecnologia.wordpress.com/2009/09/04/el-metodo-de-proyectos-segun-bob-sinclar/" TargetMode="External"/><Relationship Id="rId2" Type="http://schemas.openxmlformats.org/officeDocument/2006/relationships/hyperlink" Target="http://www.ite.educacion.es/w3/recursos2/orientacion/01apoyo/op03_b3.htm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87Em9TPBq8&amp;NR=1" TargetMode="External"/><Relationship Id="rId2" Type="http://schemas.openxmlformats.org/officeDocument/2006/relationships/hyperlink" Target="http://iesvillalbahervastecnologia.wordpress.com/proyectos/" TargetMode="External"/><Relationship Id="rId3" Type="http://schemas.openxmlformats.org/officeDocument/2006/relationships/hyperlink" Target="http://www.juntadeandalucia.es/averroes/~29011539/departamentos/tecnologia/recursos/" TargetMode="External"/><Relationship Id="rId4" Type="http://schemas.openxmlformats.org/officeDocument/2006/relationships/hyperlink" Target="http://www.tecnologiadeprimero.blogspot.com/" TargetMode="External"/><Relationship Id="rId5" Type="http://schemas.openxmlformats.org/officeDocument/2006/relationships/hyperlink" Target="http://misproyectosdetecnologia.blogspot.com/" TargetMode="External"/><Relationship Id="rId6" Type="http://schemas.openxmlformats.org/officeDocument/2006/relationships/hyperlink" Target="http://www.areatecnologia.com/" TargetMode="External"/><Relationship Id="rId7" Type="http://schemas.openxmlformats.org/officeDocument/2006/relationships/hyperlink" Target="http://www.portaleso.com/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26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cc"/>
                </a:solidFill>
                <a:latin typeface="Tahoma"/>
              </a:rPr>
              <a:t>RECURSOS PARA </a:t>
            </a:r>
            <a:br>
              <a:rPr sz="4800"/>
            </a:br>
            <a:br>
              <a:rPr sz="4800"/>
            </a:br>
            <a:r>
              <a:rPr b="0" lang="es-ES" sz="4800" spc="-1" strike="noStrike">
                <a:solidFill>
                  <a:srgbClr val="ffffcc"/>
                </a:solidFill>
                <a:latin typeface="Tahoma"/>
              </a:rPr>
              <a:t>MÉTODOS DE PROYECTO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948360" y="5805360"/>
            <a:ext cx="16192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GRUPO &gt; 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0384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audiovisu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informát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impresos y fungi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específicos de á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2637000"/>
            <a:ext cx="1047600" cy="11905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981360" cy="11811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7524720" y="4941720"/>
            <a:ext cx="1285920" cy="962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6443640" y="3933720"/>
            <a:ext cx="961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AUDIOVISUA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MPRENSIÓN CONCEPTO PROYEC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MÉTODO DE PROYECTOS BOB SINC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INSTITUTO DE TECNOLOGÍAS EDUC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EN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6227640" y="4005360"/>
            <a:ext cx="17956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S DE PROY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YOUTUB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Ejemplo puerta de gara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WEB INSTITU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JUNTA DE ANDALUCÍ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jemplos y recurs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BLOG DE PROFESOR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jemplo 1º E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BLOG DE PROFES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http://www.areatecnologia.com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http://www.portaleso.com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ttp://alcatecno.zobyhost.com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RICOMA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AUDIOVISUA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informátic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10920" y="5051520"/>
            <a:ext cx="419436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MULAD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6877080" y="4797360"/>
            <a:ext cx="1047600" cy="11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1403280" y="1557360"/>
          <a:ext cx="6335640" cy="2649600"/>
        </p:xfrm>
        <a:graphic>
          <a:graphicData uri="http://schemas.openxmlformats.org/drawingml/2006/table">
            <a:tbl>
              <a:tblPr/>
              <a:tblGrid>
                <a:gridCol w="3168360"/>
                <a:gridCol w="3167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CUR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PLIC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AI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NTREGA DE ESQUEM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XC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LANTILLAS PRESUPUES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WO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NTREGA 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IMULAD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XPLICAR FUNCIONAMIEN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OWER POI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ESENT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A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LANOS DEFINITIV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impresos y fungib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tilla de gru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tilla herramientas de ta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tilla de mater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lbaranes de almacé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ojas de presupues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if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rmas de gru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rmas de seguridad en ta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rmas de utilización de mater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ocumento tipo de mem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7020000" y="4581360"/>
            <a:ext cx="1314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Otros Recursos específicos de áre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ibros de tex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nidades Didáct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tividades curio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076720" y="4005360"/>
            <a:ext cx="31593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MUCHAS GRACIAS A TOD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3924360" y="1844640"/>
            <a:ext cx="1577880" cy="2376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GRUPO &gt; 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Yolanda Día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Javier Fél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Cristina Góm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José F. Lóp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8:18:19Z</dcterms:created>
  <dc:creator>felix-lujan</dc:creator>
  <dc:description/>
  <dc:language>en-US</dc:language>
  <cp:lastModifiedBy>usuario</cp:lastModifiedBy>
  <dcterms:modified xsi:type="dcterms:W3CDTF">2009-12-21T14:52:19Z</dcterms:modified>
  <cp:revision>12</cp:revision>
  <dc:subject/>
  <dc:title>RECURSOS PARA METODOS DE PROYECTOS</dc:title>
</cp:coreProperties>
</file>