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DAC-19D6-464B-B62C-C5405C28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8D3-2E37-4835-AB82-5829C689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EEC-CFE8-47D3-BE6C-AB835605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A8A-CF16-4495-B35A-1F0D6333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BEA3-10FA-47D0-92E7-2A1963E8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5D6F-0CC9-4B9E-820E-B609F06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E832-A4BC-4129-8F09-B86D27D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CA4-6474-4CFE-A141-48E97D8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D500-63C8-4299-9B12-F5084417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34F5-10C6-4593-A5A6-53C05CF9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87A1-B316-4814-BE9D-D329365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709-CE1A-4BD0-AADC-A9759D9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9170-7236-4E37-8522-3E1B4A6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468-2A08-462B-92DE-6FE0CF9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BEF3-604A-47E8-9E3A-806B41F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3A91-64C5-41EF-8E51-1A1A6376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5ED9-350C-43E3-B2BD-81F09B7B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82F-A31C-4240-9676-9B4354E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0CB-D71E-4126-8DF2-F30E976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97C-5A0A-4C11-8387-A99ECCF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840-B1B2-4E00-842A-5130F2C8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298-3D2B-4A44-A2A4-532DE77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FC4-2043-43D0-8708-56271A7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0EB-16FC-46C0-9A17-92FF3FD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DE5-9B10-43AB-B705-5DC6EC132D2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BF2-3E11-4A6B-A208-133666BBFE0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svillalbahervastecnologia.wordpress.com/2009/09/04/el-metodo-de-proyectos-segun-bob-sinclar/" TargetMode="External"/><Relationship Id="rId2" Type="http://schemas.openxmlformats.org/officeDocument/2006/relationships/hyperlink" Target="http://www.ite.educacion.es/w3/recursos2/orientacion/01apoyo/op03_b3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87Em9TPBq8&amp;NR=1" TargetMode="External"/><Relationship Id="rId2" Type="http://schemas.openxmlformats.org/officeDocument/2006/relationships/hyperlink" Target="http://iesvillalbahervastecnologia.wordpress.com/proyectos/" TargetMode="External"/><Relationship Id="rId3" Type="http://schemas.openxmlformats.org/officeDocument/2006/relationships/hyperlink" Target="http://www.juntadeandalucia.es/averroes/~29011539/departamentos/tecnologia/recursos/" TargetMode="External"/><Relationship Id="rId4" Type="http://schemas.openxmlformats.org/officeDocument/2006/relationships/hyperlink" Target="http://www.tecnologiadeprimero.blogspot.com/" TargetMode="External"/><Relationship Id="rId5" Type="http://schemas.openxmlformats.org/officeDocument/2006/relationships/hyperlink" Target="http://misproyectosdetecnologia.blogspot.com/" TargetMode="External"/><Relationship Id="rId6" Type="http://schemas.openxmlformats.org/officeDocument/2006/relationships/hyperlink" Target="http://www.areatecnologia.com/" TargetMode="External"/><Relationship Id="rId7" Type="http://schemas.openxmlformats.org/officeDocument/2006/relationships/hyperlink" Target="http://www.portaleso.com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RECURSOS PARA 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MÉTODOS DE PROYECTO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948360" y="5805360"/>
            <a:ext cx="1619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038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audiovi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nformá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impresos y fung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os específicos de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10476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981360" cy="1181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961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RENSIÓN CONCEPTO PROY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MÉTODO DE PROYECTOS BOB SINC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INSTITUTO DE TECNOLOGÍAS EDU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1795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PROY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YOUTUB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Ejemplo puerta de gara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EB INSTIT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JUNTA DE ANDALUC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s y recur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LOG DE PROFES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jemplo 1º 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BLOG DE PROFE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areatecnologia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portaleso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ttp://alcatecno.zobyhost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RICOMA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AUDIOVISU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nformátic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0920" y="5051520"/>
            <a:ext cx="419436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MUL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04760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403280" y="1557360"/>
          <a:ext cx="6335640" cy="2649600"/>
        </p:xfrm>
        <a:graphic>
          <a:graphicData uri="http://schemas.openxmlformats.org/drawingml/2006/table">
            <a:tbl>
              <a:tblPr/>
              <a:tblGrid>
                <a:gridCol w="3168360"/>
                <a:gridCol w="316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DE ESQU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C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TILLAS PRESU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NTREGA 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MUL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PLICAR FUNCION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WER PO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LANOS DEFINI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cursos impresos y fung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herramientas de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tilla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baranes de almac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de presu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seguridad en t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rmas de utilización de mate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cumento tipo de mem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1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Otros Recursos específicos de áre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bros de tex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es Didác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ividades curi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59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UCHAS GRACIAS A TO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77880" cy="2376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GRUPO &gt;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Yolanda Dí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avier Fél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Cristina Gó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Arial"/>
              </a:rPr>
              <a:t>José F. Lóp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8:19Z</dcterms:created>
  <dc:creator>felix-lujan</dc:creator>
  <dc:description/>
  <dc:language>en-US</dc:language>
  <cp:lastModifiedBy>usuario</cp:lastModifiedBy>
  <dcterms:modified xsi:type="dcterms:W3CDTF">2009-12-21T14:52:19Z</dcterms:modified>
  <cp:revision>12</cp:revision>
  <dc:subject/>
  <dc:title>RECURSOS PARA METODOS DE PROYECTOS</dc:title>
</cp:coreProperties>
</file>