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21D4-450B-4CEA-99A6-BD931C93D467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EB84-82B7-414B-BDC9-0A1A9FE9A934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EE08-4771-4F49-8CAB-471E8A14FBE5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8FC-83F6-478B-B96A-2D86AF1E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A6E-6F37-48DE-93A7-E8E2450A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A7C-DDFF-47FD-8C06-49606855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277-9F76-42E9-A524-24376393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0E8B-F175-4E27-9A0C-8EFC744F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A779-28DB-4BD6-97FC-571275E7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1E60-20FA-4F38-9272-4FB8619A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BF0B-4ABA-4CFB-9070-492D8489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2650-5319-4EB4-B2AE-5583A3A7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FA97-1827-4F2E-A982-4F7FF120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7294-2AC4-4C31-BBFA-601453B4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56D3-41EC-43A1-A4C0-7BB3BD2F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551E-087A-480C-94C4-E0AD023E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BF39-0314-42EF-A274-A18AA5D2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AE84-64A7-42B1-9FB1-7FDD692E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C079-2A0F-49C0-B121-1643CCFE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CEF7-8D3E-45AA-9289-E7E8CA1F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0F6-23E1-45B2-BF7C-339E0E59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9BE-76A6-4057-8097-F5AFDF9A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6015-0057-4351-A644-A7EB71F5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F9E-BEA7-47E8-8521-B84C452D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4F8-CC7D-4011-8700-FD3E6A0F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3CD-9128-4019-BC13-E5081F21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4C4-33C6-4F19-8952-45F96D3D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SEÑO CURRICULAR II. Master de Profesorado de Secund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D50C-6D56-47D4-9223-26B37909D431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Arial"/>
              </a:rPr>
              <a:t>DISEÑO CURRICULAR II. Master de Profesorado de Secund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5424-EF56-4E28-9098-E36C73A7E4B7}" type="slidenum">
              <a:rPr b="0" lang="es-ES" sz="1400" spc="-1" strike="noStrike">
                <a:solidFill>
                  <a:srgbClr val="ccec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57880" y="4214880"/>
            <a:ext cx="2914560" cy="1752480"/>
          </a:xfrm>
          <a:prstGeom prst="rect">
            <a:avLst/>
          </a:prstGeom>
          <a:solidFill>
            <a:srgbClr val="a3e09d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Realizado por: </a:t>
            </a:r>
            <a:r>
              <a:rPr b="0" lang="en-GB" sz="1600" spc="-1" strike="noStrike">
                <a:solidFill>
                  <a:srgbClr val="1b4716"/>
                </a:solidFill>
                <a:latin typeface="Tahoma"/>
              </a:rPr>
              <a:t>Grupo 3+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Lola Morr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Alberto Gonzál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Miguel Gutiérr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Elena Gutiérr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Ventaj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prendizaje se realiza de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forma integ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avorece la retención de los contenidos puesto que se promueve l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comprensión del probl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ortalece l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auto confianz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omenta el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aprendizaje investigat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capacidades construidas y los contenidos aprendidos se pueden transferir fácilmente a situaciones parecidas, estaremos preparando al alumno par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enfrentarse a futuras situaciones y proble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un aprendizaje altamente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motivado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ues abordan temas de carácter cotidiano y re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1219320"/>
            <a:ext cx="441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4.BIBLIOGRAFÍA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ernández, F. y Ventura, M: “La organización del currículum por proyectos de trabajo”. Ed. Graó. Barcelona,199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ll, César (2000). El constructivismo en el aula,12ª, España. Ed. Gra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na Rivilla, Antonio;Salvador Mata Francisco (2002). Didáctica General,1ª ed, Madrid. Ed. Pearson Educación,43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tículo de Revista enseñanza y educación.12-02-2009.Virgilio Cuadrado Cabezu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ibro de proyectos de  S.M. de tercero de la ES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1 Título"/>
          <p:cNvSpPr/>
          <p:nvPr/>
        </p:nvSpPr>
        <p:spPr>
          <a:xfrm>
            <a:off x="2438280" y="3808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71800" y="1428840"/>
            <a:ext cx="4357440" cy="42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" sz="2800" spc="-1" strike="noStrike" u="sng">
                <a:solidFill>
                  <a:srgbClr val="fdf5d1"/>
                </a:solidFill>
                <a:uFillTx/>
                <a:latin typeface="Arial"/>
              </a:rPr>
              <a:t>INDICE</a:t>
            </a:r>
            <a:br>
              <a:rPr sz="2800"/>
            </a:b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1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INTRODUC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2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FASES DEL PROYECTO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Sensibiliza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Planteamiento del problema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Diseño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Construc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Evalua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3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CONCLUS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4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BIBLIOGRAFÍA</a:t>
            </a:r>
            <a:endParaRPr b="1" lang="en-US" sz="18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6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218960"/>
            <a:ext cx="41529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1.INTRODUCCIÓN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829880"/>
            <a:ext cx="722952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puede definir como “conjunto de actividades de aprendizaje, que tienen como eje conductor la resolución de un problema”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centiva al alumno desde una tarea práctic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alumno hace cosas y participa en el proces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e método requiera el manejo de varias disciplinas, adquiriendo un enfoque integrad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e método promueve la iniciativa personal, la solidaridad, la interacción y el ejercicio de la libertad respons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un intento de poner la escuela al servicio de la vida re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1320" y="1600200"/>
            <a:ext cx="834372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1" marL="601560" indent="-231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SENSIBILIZACIÓN (MOTIVACIÓN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28800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5 Llamada de flecha a la derecha"/>
          <p:cNvSpPr/>
          <p:nvPr/>
        </p:nvSpPr>
        <p:spPr>
          <a:xfrm>
            <a:off x="428760" y="2571840"/>
            <a:ext cx="3071520" cy="192888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solidFill>
            <a:srgbClr val="368d2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6 CuadroTexto"/>
          <p:cNvSpPr/>
          <p:nvPr/>
        </p:nvSpPr>
        <p:spPr>
          <a:xfrm>
            <a:off x="428760" y="2643120"/>
            <a:ext cx="2071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Raavi"/>
              </a:rPr>
              <a:t>Planteamiento NECESIDAD-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ceba2"/>
                </a:solidFill>
                <a:latin typeface="Times New Roman"/>
                <a:ea typeface="Raavi"/>
              </a:rPr>
              <a:t>CONTEXTO RE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7 Rectángulo redondeado"/>
          <p:cNvSpPr/>
          <p:nvPr/>
        </p:nvSpPr>
        <p:spPr>
          <a:xfrm>
            <a:off x="3714840" y="2928960"/>
            <a:ext cx="2357280" cy="1285920"/>
          </a:xfrm>
          <a:prstGeom prst="roundRect">
            <a:avLst>
              <a:gd name="adj" fmla="val 16667"/>
            </a:avLst>
          </a:prstGeom>
          <a:solidFill>
            <a:srgbClr val="368d2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8 CuadroTexto"/>
          <p:cNvSpPr/>
          <p:nvPr/>
        </p:nvSpPr>
        <p:spPr>
          <a:xfrm>
            <a:off x="3929040" y="33577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UMN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9 Elipse"/>
          <p:cNvSpPr/>
          <p:nvPr/>
        </p:nvSpPr>
        <p:spPr>
          <a:xfrm>
            <a:off x="6786720" y="2857680"/>
            <a:ext cx="2143080" cy="135720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10 Flecha derecha"/>
          <p:cNvSpPr/>
          <p:nvPr/>
        </p:nvSpPr>
        <p:spPr>
          <a:xfrm>
            <a:off x="6143760" y="3429000"/>
            <a:ext cx="571320" cy="3571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cdcd1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11 CuadroTexto"/>
          <p:cNvSpPr/>
          <p:nvPr/>
        </p:nvSpPr>
        <p:spPr>
          <a:xfrm>
            <a:off x="7143840" y="30718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OLUCIÓN 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12 CuadroTexto"/>
          <p:cNvSpPr/>
          <p:nvPr/>
        </p:nvSpPr>
        <p:spPr>
          <a:xfrm>
            <a:off x="1928880" y="5000760"/>
            <a:ext cx="4929120" cy="825480"/>
          </a:xfrm>
          <a:prstGeom prst="rect">
            <a:avLst/>
          </a:prstGeom>
          <a:solidFill>
            <a:srgbClr val="c49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stos trabajos se valora mucho más el proceso que el producto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1116000" indent="-6908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2.  PLANTEAMIENTO DEL PROBLE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116000" indent="-690840">
              <a:spcBef>
                <a:spcPts val="901"/>
              </a:spcBef>
              <a:buClr>
                <a:srgbClr val="ff99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  Finalidad del proyecto a realiz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  Condiciones que debe cumplir la soluc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egid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94440" indent="33012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mater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técn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dimen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304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0240" indent="-7430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3.  DISEÑ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Investigar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úsqueda in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Analizar ideas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luvia de ideas, boce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Describir el proyecto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os,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ateriales, mecanismos, funcion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0240" indent="-7430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4.  CONSTRUC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Planificar y programar t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inición de tareas y recurs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stribución temporal del traba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lizar una hoja de proces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Ejecució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4280"/>
            <a:ext cx="85582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900000" indent="-55728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5.  EVALU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857160" indent="-17136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Validación del resul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Resuelve el problem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Es ecológico, estético, vi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oner mejoras para futuros proy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Memoria justifica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moria descrip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álcu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57160" indent="-171360">
              <a:spcBef>
                <a:spcPts val="799"/>
              </a:spcBef>
              <a:buClr>
                <a:srgbClr val="ff99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00000" indent="-5572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00000" indent="-5572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26676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3760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3.CONCLUSIÓN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234520"/>
            <a:ext cx="6400800" cy="39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 el sistema educativo actual, el principal objetivo de la ESO 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ff00"/>
                </a:solidFill>
                <a:latin typeface="Arial"/>
              </a:rPr>
              <a:t>educar para la vid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, formar a los jóvenes para que puedan desarrollarse, desenvolverse y relacionarse en la sociedad en la viven y que se conviertan en ciudadanos activos y responsabl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través del área de tecnología y más concretamente mediante el método de proyectos </a:t>
            </a:r>
            <a:r>
              <a:rPr b="1" i="1" lang="es-ES" sz="1600" spc="-1" strike="noStrike">
                <a:solidFill>
                  <a:srgbClr val="00ff00"/>
                </a:solidFill>
                <a:latin typeface="Arial"/>
              </a:rPr>
              <a:t>trabajaremos una serie de contenidos para que los alumnos adquieran estas capacidades que les ayuden a ser competent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 una </a:t>
            </a:r>
            <a:r>
              <a:rPr b="1" i="1" lang="es-ES" sz="1600" spc="-1" strike="noStrike">
                <a:solidFill>
                  <a:srgbClr val="00ff00"/>
                </a:solidFill>
                <a:latin typeface="Arial"/>
              </a:rPr>
              <a:t>herramienta potente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que puede resultar muy interesante y altamente eficaz, no estando enfrentando a otros métodos y técnicas y a la combinación de varios, para alcanzar un valor seguro en el proceso de enseñanza-aprendiz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0:09:15Z</dcterms:created>
  <dc:creator> </dc:creator>
  <dc:description/>
  <dc:language>en-US</dc:language>
  <cp:lastModifiedBy> </cp:lastModifiedBy>
  <dcterms:modified xsi:type="dcterms:W3CDTF">2009-12-20T22:51:17Z</dcterms:modified>
  <cp:revision>15</cp:revision>
  <dc:subject/>
  <dc:title>MÉTODO DE PROYEC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3082</vt:lpwstr>
  </property>
</Properties>
</file>