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8A7C-480E-4C1D-8297-B36DCBDFC783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276D-9556-4941-9981-1AAF9CF4E25D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43B-F344-40DD-BBE2-4B3B3848E8E2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623-9921-406B-9E5D-127D3132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B0F-BF24-471D-9416-E8C05F4A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B0C-7D89-436D-BDD7-0B3F3CE7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B6E-5611-47C6-A301-E760A595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1AEE-C430-4971-AEBC-A61851C4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8E5A-8CDC-45A6-A48B-3FC9C7FD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8A3-2927-4ED7-9B78-EE6A5C68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80C8-F037-4691-B696-C8C4681F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3DDF-A578-4232-B8AA-E348F37C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1B26-9CDF-483A-9850-A27141A6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0651-A28B-4435-91C0-DCCE5298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17F-3EDB-4D5A-BAFF-D95D30D9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3B2E-7599-4B37-BEF8-733AC46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CC7B-6C6E-4C47-9675-E268274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41F1-2BEE-42DF-9BE4-3A93BB29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B1A-382D-4831-9FAD-F6F05783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BA3-98F5-4507-95D0-8013F6D8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A4F-513C-4554-98AF-190EAC67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890-EE58-4D50-B565-6039CCEA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C84-47E0-47C5-BDCE-12794C0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A01-524B-4CCC-8BAD-8089581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6FC-9F7C-4D53-97F5-0151E8C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FDA-96A9-42D1-9209-4779D52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68C-3445-4576-83A7-D705227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340A-881F-4D04-B0A9-80B7E4086F89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5CD0-2CC0-498B-89B0-3EC67F124FCF}" type="slidenum">
              <a:rPr b="0" lang="es-ES" sz="1400" spc="-1" strike="noStrike">
                <a:solidFill>
                  <a:srgbClr val="ccec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880" y="4214880"/>
            <a:ext cx="2914560" cy="1752480"/>
          </a:xfrm>
          <a:prstGeom prst="rect">
            <a:avLst/>
          </a:prstGeom>
          <a:solidFill>
            <a:srgbClr val="a3e09d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Realizado por: </a:t>
            </a:r>
            <a:r>
              <a:rPr b="0" lang="en-GB" sz="1600" spc="-1" strike="noStrike">
                <a:solidFill>
                  <a:srgbClr val="1b4716"/>
                </a:solidFill>
                <a:latin typeface="Tahoma"/>
              </a:rPr>
              <a:t>Grupo 3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Lola Morr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Alberto Gonzál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Miguel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Elena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Ventaj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prendizaje se realiza d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forma integ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avorece la retención de los contenidos puesto que se promuev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comprensión del probl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rtalec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uto confian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menta el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prendizaje investig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apacidades construidas y los contenidos aprendidos se pueden transferir fácilmente a situaciones parecidas, estaremos preparando al alumno par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enfrentarse a futuras situaciones y proble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 aprendizaje altament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motivado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es abordan temas de carácter cotidiano y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4.BIBLIOGRAFÍA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ernández, F. y Ventura, M: “La organización del currículum por proyectos de trabajo”. Ed. Graó. Barcelona,199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ll, César (2000). El constructivismo en el aula,12ª, España. Ed. Gra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na Rivilla, Antonio;Salvador Mata Francisco (2002). Didáctica General,1ª ed, Madrid. Ed. Pearson Educación,43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ículo de Revista enseñanza y educación.12-02-2009.Virgilio Cuadrado Cabezu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ibro de proyectos de  S.M. de tercero de la E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2438280" y="380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800" y="1428840"/>
            <a:ext cx="4357440" cy="42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" sz="2800" spc="-1" strike="noStrike" u="sng">
                <a:solidFill>
                  <a:srgbClr val="fdf5d1"/>
                </a:solidFill>
                <a:uFillTx/>
                <a:latin typeface="Arial"/>
              </a:rPr>
              <a:t>INDICE</a:t>
            </a:r>
            <a:br>
              <a:rPr sz="2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INTROD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FASES DEL PROYECT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Sensibiliz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Planteamiento del problema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Diseño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str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Evalu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CLUS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BIBLIOGRAFÍA</a:t>
            </a:r>
            <a:endParaRPr b="1" lang="en-US" sz="1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218960"/>
            <a:ext cx="4152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1.INTRODUCC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9880"/>
            <a:ext cx="72295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puede definir como “conjunto de actividades de aprendizaje, que tienen como eje conductor la resolución de un problema”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entiva al alumno desde una tarea prác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alumno hace cosas y participa en el proces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requiera el manejo de varias disciplinas, adquiriendo un enfoque integrad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promueve la iniciativa personal, la solidaridad, la interacción y el ejercicio de la libertad respons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intento de poner la escuela al servicio de la vida re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1600200"/>
            <a:ext cx="83437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SENSIBILIZACIÓN (MOTIVACIÓ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8800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Llamada de flecha a la derecha"/>
          <p:cNvSpPr/>
          <p:nvPr/>
        </p:nvSpPr>
        <p:spPr>
          <a:xfrm>
            <a:off x="428760" y="2571840"/>
            <a:ext cx="3071520" cy="192888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6 CuadroTexto"/>
          <p:cNvSpPr/>
          <p:nvPr/>
        </p:nvSpPr>
        <p:spPr>
          <a:xfrm>
            <a:off x="428760" y="2643120"/>
            <a:ext cx="207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Raavi"/>
              </a:rPr>
              <a:t>Planteamiento NECESIDAD-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eba2"/>
                </a:solidFill>
                <a:latin typeface="Times New Roman"/>
                <a:ea typeface="Raavi"/>
              </a:rPr>
              <a:t>CONTEXT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7 Rectángulo redondeado"/>
          <p:cNvSpPr/>
          <p:nvPr/>
        </p:nvSpPr>
        <p:spPr>
          <a:xfrm>
            <a:off x="3714840" y="292896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3929040" y="3357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UM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9 Elipse"/>
          <p:cNvSpPr/>
          <p:nvPr/>
        </p:nvSpPr>
        <p:spPr>
          <a:xfrm>
            <a:off x="6786720" y="2857680"/>
            <a:ext cx="2143080" cy="13572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10 Flecha derecha"/>
          <p:cNvSpPr/>
          <p:nvPr/>
        </p:nvSpPr>
        <p:spPr>
          <a:xfrm>
            <a:off x="614376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dcd1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714384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OLUCIÓN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12 CuadroTexto"/>
          <p:cNvSpPr/>
          <p:nvPr/>
        </p:nvSpPr>
        <p:spPr>
          <a:xfrm>
            <a:off x="1928880" y="5000760"/>
            <a:ext cx="4929120" cy="825480"/>
          </a:xfrm>
          <a:prstGeom prst="rect">
            <a:avLst/>
          </a:prstGeom>
          <a:solidFill>
            <a:srgbClr val="c49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os trabajos se valora mucho más el proceso que el producto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1116000" indent="-6908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2.  PLANTEAMIENTO DEL PROBL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116000" indent="-690840">
              <a:spcBef>
                <a:spcPts val="901"/>
              </a:spcBef>
              <a:buClr>
                <a:srgbClr val="ff99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Finalidad del proyecto a reali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Condiciones que debe cumplir la soluc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egid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94440" indent="3301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mate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dimen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304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3.  DISEÑ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Investigar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úsqueda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Analizar ideas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uvia de ideas, boc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scribir el proyecto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teriales, mecanismos, funcion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4.  CONSTR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Planificar y programar t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ición de tareas y recur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tribución temporal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una hoja de proces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jecució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4280"/>
            <a:ext cx="8558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900000" indent="-5572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5.  EVALU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Validación del resul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Resuelve el problem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s ecológico, estético, vi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oner mejoras para futuros proy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emoria justific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moria descrip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álc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ff99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6676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3760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3.CONCLUS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34520"/>
            <a:ext cx="640080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 el sistema educativo actual, el principal objetivo de la ESO 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ff00"/>
                </a:solidFill>
                <a:latin typeface="Arial"/>
              </a:rPr>
              <a:t>educar para la v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, formar a los jóvenes para que puedan desarrollarse, desenvolverse y relacionarse en la sociedad en la viven y que se conviertan en ciudadanos activos y respons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través del área de tecnología y más concretamente mediante el método de proyectos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trabajaremos una serie de contenidos para que los alumnos adquieran estas capacidades que les ayuden a ser competent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 una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herramienta poten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que puede resultar muy interesante y altamente eficaz, no estando enfrentando a otros métodos y técnicas y a la combinación de varios, para alcanzar un valor seguro en el proceso de enseñanza-aprendiz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09:15Z</dcterms:created>
  <dc:creator> </dc:creator>
  <dc:description/>
  <dc:language>en-US</dc:language>
  <cp:lastModifiedBy> </cp:lastModifiedBy>
  <dcterms:modified xsi:type="dcterms:W3CDTF">2009-12-20T22:51:17Z</dcterms:modified>
  <cp:revision>15</cp:revision>
  <dc:subject/>
  <dc:title>MÉTODO DE PROYEC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3082</vt:lpwstr>
  </property>
</Properties>
</file>