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392B-3CFE-4E0B-AA34-E704D4A44EF3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F602-C7EB-46C1-9D03-922D8B28C878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F87C-26D0-4A8B-ABED-05A3B6D0E1C7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441-1E9C-4399-A427-9C9DEDDA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499-F94B-4AB0-9DCC-754B2E20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EE6-E61D-446B-BCCE-B7259023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D99-1944-438F-AB44-47781C79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AF4E-70FC-49EB-8A3F-7F78861A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0C3E-93A7-4D79-8550-4D5BE5A5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8701-1B8C-4FCF-812C-7AEB0FB1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A586-E0F8-456F-87E3-0AECEF1C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67FE-3B19-41E4-8D3F-6F8A9121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243B-D4A2-466D-99DC-D0DBA82F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53D5-56B1-41F8-9ADC-6B8F0055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431-A37C-4216-93CF-1C19857B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BB89-E8FC-41A7-9358-ED3F4541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219B-C2E5-4254-8F0F-D783D5CF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9CD3-8DD6-44B6-8F6B-C49F91C0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4DDD-42B1-40B1-8BA8-7393504D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6AA3-46DD-4949-B35E-2DD3630A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84F-1CE9-4707-AFA5-1A3B38AA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77AA-B514-4D25-B545-2E5E1749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88ED-7DCB-4178-9884-FC5218BE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382-B811-4D69-8683-8202833E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6BB-2B36-4A97-ABEC-562BE24D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116-ACAE-4CB7-9EAE-A45C62C1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4C9-E451-4736-A02E-1C6ED1EF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SEÑO CURRICULAR II. Master de Profesorado de Secund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4342-D6AE-43B6-9C76-0CDFCA1AB472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Arial"/>
              </a:rPr>
              <a:t>DISEÑO CURRICULAR II. Master de Profesorado de Secund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75DA-5299-4485-817C-590250EB7781}" type="slidenum">
              <a:rPr b="0" lang="es-ES" sz="1400" spc="-1" strike="noStrike">
                <a:solidFill>
                  <a:srgbClr val="ccec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57880" y="4214880"/>
            <a:ext cx="2914560" cy="1752480"/>
          </a:xfrm>
          <a:prstGeom prst="rect">
            <a:avLst/>
          </a:prstGeom>
          <a:solidFill>
            <a:srgbClr val="a3e09d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Realizado por: </a:t>
            </a:r>
            <a:r>
              <a:rPr b="0" lang="en-GB" sz="1600" spc="-1" strike="noStrike">
                <a:solidFill>
                  <a:srgbClr val="1b4716"/>
                </a:solidFill>
                <a:latin typeface="Tahoma"/>
              </a:rPr>
              <a:t>Grupo 3+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Lola Morr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Alberto Gonzál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Miguel Gutiérr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Elena Gutiérr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Ventaj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aprendizaje se realiza de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forma integ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avorece la retención de los contenidos puesto que se promueve l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comprensión del probl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ortalece l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auto confianz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omenta el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aprendizaje investigat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capacidades construidas y los contenidos aprendidos se pueden transferir fácilmente a situaciones parecidas, estaremos preparando al alumno par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enfrentarse a futuras situaciones y proble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un aprendizaje altamente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motivado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ues abordan temas de carácter cotidiano y re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1219320"/>
            <a:ext cx="441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4.BIBLIOGRAFÍA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ernández, F. y Ventura, M: “La organización del currículum por proyectos de trabajo”. Ed. Graó. Barcelona,199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ll, César (2000). El constructivismo en el aula,12ª, España. Ed. Gra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na Rivilla, Antonio;Salvador Mata Francisco (2002). Didáctica General,1ª ed, Madrid. Ed. Pearson Educación,43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tículo de Revista enseñanza y educación.12-02-2009.Virgilio Cuadrado Cabezu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ibro de proyectos de  S.M. de tercero de la ES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1 Título"/>
          <p:cNvSpPr/>
          <p:nvPr/>
        </p:nvSpPr>
        <p:spPr>
          <a:xfrm>
            <a:off x="2438280" y="3808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71800" y="1428840"/>
            <a:ext cx="4357440" cy="42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" sz="2800" spc="-1" strike="noStrike" u="sng">
                <a:solidFill>
                  <a:srgbClr val="fdf5d1"/>
                </a:solidFill>
                <a:uFillTx/>
                <a:latin typeface="Arial"/>
              </a:rPr>
              <a:t>INDICE</a:t>
            </a:r>
            <a:br>
              <a:rPr sz="2800"/>
            </a:b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1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INTRODUC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2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FASES DEL PROYECTO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Sensibiliza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Planteamiento del problema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Diseño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Construc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Evalua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3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CONCLUS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4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BIBLIOGRAFÍA</a:t>
            </a:r>
            <a:endParaRPr b="1" lang="en-US" sz="18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6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218960"/>
            <a:ext cx="41529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1.INTRODUCCIÓN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829880"/>
            <a:ext cx="722952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puede definir como “conjunto de actividades de aprendizaje, que tienen como eje conductor la resolución de un problema”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centiva al alumno desde una tarea práctic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alumno hace cosas y participa en el proces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e método requiera el manejo de varias disciplinas, adquiriendo un enfoque integrad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e método promueve la iniciativa personal, la solidaridad, la interacción y el ejercicio de la libertad respons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un intento de poner la escuela al servicio de la vida re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1320" y="1600200"/>
            <a:ext cx="834372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1" marL="601560" indent="-231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SENSIBILIZACIÓN (MOTIVACIÓN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28800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5 Llamada de flecha a la derecha"/>
          <p:cNvSpPr/>
          <p:nvPr/>
        </p:nvSpPr>
        <p:spPr>
          <a:xfrm>
            <a:off x="428760" y="2571840"/>
            <a:ext cx="3071520" cy="192888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solidFill>
            <a:srgbClr val="368d2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6 CuadroTexto"/>
          <p:cNvSpPr/>
          <p:nvPr/>
        </p:nvSpPr>
        <p:spPr>
          <a:xfrm>
            <a:off x="428760" y="2643120"/>
            <a:ext cx="2071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Raavi"/>
              </a:rPr>
              <a:t>Planteamiento NECESIDAD-PROBL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ceba2"/>
                </a:solidFill>
                <a:latin typeface="Times New Roman"/>
                <a:ea typeface="Raavi"/>
              </a:rPr>
              <a:t>CONTEXTO RE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7 Rectángulo redondeado"/>
          <p:cNvSpPr/>
          <p:nvPr/>
        </p:nvSpPr>
        <p:spPr>
          <a:xfrm>
            <a:off x="3714840" y="2928960"/>
            <a:ext cx="2357280" cy="1285920"/>
          </a:xfrm>
          <a:prstGeom prst="roundRect">
            <a:avLst>
              <a:gd name="adj" fmla="val 16667"/>
            </a:avLst>
          </a:prstGeom>
          <a:solidFill>
            <a:srgbClr val="368d2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8 CuadroTexto"/>
          <p:cNvSpPr/>
          <p:nvPr/>
        </p:nvSpPr>
        <p:spPr>
          <a:xfrm>
            <a:off x="3929040" y="33577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UMN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9 Elipse"/>
          <p:cNvSpPr/>
          <p:nvPr/>
        </p:nvSpPr>
        <p:spPr>
          <a:xfrm>
            <a:off x="6786720" y="2857680"/>
            <a:ext cx="2143080" cy="135720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10 Flecha derecha"/>
          <p:cNvSpPr/>
          <p:nvPr/>
        </p:nvSpPr>
        <p:spPr>
          <a:xfrm>
            <a:off x="6143760" y="3429000"/>
            <a:ext cx="571320" cy="3571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cdcd1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11 CuadroTexto"/>
          <p:cNvSpPr/>
          <p:nvPr/>
        </p:nvSpPr>
        <p:spPr>
          <a:xfrm>
            <a:off x="7143840" y="30718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OLUCIÓN 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12 CuadroTexto"/>
          <p:cNvSpPr/>
          <p:nvPr/>
        </p:nvSpPr>
        <p:spPr>
          <a:xfrm>
            <a:off x="1928880" y="5000760"/>
            <a:ext cx="4929120" cy="825480"/>
          </a:xfrm>
          <a:prstGeom prst="rect">
            <a:avLst/>
          </a:prstGeom>
          <a:solidFill>
            <a:srgbClr val="c49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stos trabajos se valora mucho más el proceso que el producto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1116000" indent="-6908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2.  PLANTEAMIENTO DEL PROBLE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116000" indent="-690840">
              <a:spcBef>
                <a:spcPts val="901"/>
              </a:spcBef>
              <a:buClr>
                <a:srgbClr val="ff99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  Finalidad del proyecto a realiz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  Condiciones que debe cumplir la soluc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egid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94440" indent="33012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mater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técn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dimen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304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00240" indent="-7430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3.  DISEÑ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Investigar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úsqueda in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Analizar ideas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luvia de ideas, boce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Describir el proyecto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os,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ateriales, mecanismos, funcion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00240" indent="-7430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4.  CONSTRUC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Planificar y programar t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inición de tareas y recurs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stribución temporal del traba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alizar una hoja de proces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Ejecució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4280"/>
            <a:ext cx="85582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1" marL="900000" indent="-55728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5.  EVALU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857160" indent="-17136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Validación del resul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Resuelve el problem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Es ecológico, estético, vi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poner mejoras para futuros proy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Memoria justifica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moria descrip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álcu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57160" indent="-171360">
              <a:spcBef>
                <a:spcPts val="799"/>
              </a:spcBef>
              <a:buClr>
                <a:srgbClr val="ff99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00000" indent="-5572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00000" indent="-5572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26676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3760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3.CONCLUSIÓN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234520"/>
            <a:ext cx="6400800" cy="39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 el sistema educativo actual, el principal objetivo de la ESO 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ff00"/>
                </a:solidFill>
                <a:latin typeface="Arial"/>
              </a:rPr>
              <a:t>educar para la vid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, formar a los jóvenes para que puedan desarrollarse, desenvolverse y relacionarse en la sociedad en la viven y que se conviertan en ciudadanos activos y responsabl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través del área de tecnología y más concretamente mediante el método de proyectos </a:t>
            </a:r>
            <a:r>
              <a:rPr b="1" i="1" lang="es-ES" sz="1600" spc="-1" strike="noStrike">
                <a:solidFill>
                  <a:srgbClr val="00ff00"/>
                </a:solidFill>
                <a:latin typeface="Arial"/>
              </a:rPr>
              <a:t>trabajaremos una serie de contenidos para que los alumnos adquieran estas capacidades que les ayuden a ser competent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 una </a:t>
            </a:r>
            <a:r>
              <a:rPr b="1" i="1" lang="es-ES" sz="1600" spc="-1" strike="noStrike">
                <a:solidFill>
                  <a:srgbClr val="00ff00"/>
                </a:solidFill>
                <a:latin typeface="Arial"/>
              </a:rPr>
              <a:t>herramienta potente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que puede resultar muy interesante y altamente eficaz, no estando enfrentando a otros métodos y técnicas y a la combinación de varios, para alcanzar un valor seguro en el proceso de enseñanza-aprendiz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0:09:15Z</dcterms:created>
  <dc:creator> </dc:creator>
  <dc:description/>
  <dc:language>en-US</dc:language>
  <cp:lastModifiedBy> </cp:lastModifiedBy>
  <dcterms:modified xsi:type="dcterms:W3CDTF">2009-12-20T22:51:17Z</dcterms:modified>
  <cp:revision>15</cp:revision>
  <dc:subject/>
  <dc:title>MÉTODO DE PROYEC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3082</vt:lpwstr>
  </property>
</Properties>
</file>