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1478-8EE3-4436-B2F2-C632A0E557E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496-56C8-49C0-B10C-4DD41C3D4EAF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9DA9-D756-4277-B3B8-1C2C6DAA5FC0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CF2-7BF4-459E-9684-6184D214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BA7-4A74-42EC-AF6E-1B0278CE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9E1-772B-475A-BCF8-06057A1C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166-7287-4F3B-8FEC-C92A1A34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868-C1AD-46C3-90CB-51D2AC28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FA05-FDAA-4C7D-A13F-6416DBA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2313-4057-4039-8555-0FD118E6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5BCB-5A57-44A0-8545-870B11A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2EC-1BB8-42AF-B7AE-29D7CA17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EF9F-055D-4650-87A0-00790B7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B9B7-EC31-4A98-BE4B-CB466EE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373-243A-471E-8485-9DD5E9A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FF89-CFD3-40A8-960E-67DE17C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18BE-F372-4E26-B2EF-2D6AC8C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50F-5DA4-4474-ACE9-824F2BB6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64F3-5EDE-4FD6-9D0D-0785E19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5ACA-E418-4CF7-A985-2E9864D2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9AA-AD52-4C17-A4AE-2F7827CF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70B-A38C-4FC5-81FB-DE97EFB3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0D9-83E7-4941-B538-CB00616D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798-66B8-4471-A8DF-C86379F7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883-5928-4702-8F78-E909DD1B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BF2-A42F-4E9C-85A9-733215E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0DC-AA41-4D0D-AE24-FC179E37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426-0D61-43E1-81A5-2712C4A12C0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92D0-0D44-4C31-A6C2-405B814A6036}" type="slidenum">
              <a:rPr b="0" lang="es-ES" sz="1400" spc="-1" strike="noStrike">
                <a:solidFill>
                  <a:srgbClr val="ccec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880" y="4214880"/>
            <a:ext cx="2914560" cy="1752480"/>
          </a:xfrm>
          <a:prstGeom prst="rect">
            <a:avLst/>
          </a:prstGeom>
          <a:solidFill>
            <a:srgbClr val="a3e09d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Realizado por: </a:t>
            </a:r>
            <a:r>
              <a:rPr b="0" lang="en-GB" sz="1600" spc="-1" strike="noStrike">
                <a:solidFill>
                  <a:srgbClr val="1b4716"/>
                </a:solidFill>
                <a:latin typeface="Tahoma"/>
              </a:rPr>
              <a:t>Grupo 3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Lola Morr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Alberto Gonzál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Miguel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Elena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Ventaj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prendizaje se realiza d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forma integ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avorece la retención de los contenidos puesto que se promuev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comprensión del probl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rtalec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uto confian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menta el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prendizaje investig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apacidades construidas y los contenidos aprendidos se pueden transferir fácilmente a situaciones parecidas, estaremos preparando al alumno par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enfrentarse a futuras situaciones y proble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 aprendizaje altament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motivado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es abordan temas de carácter cotidiano y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4.BIBLIOGRAFÍA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rnández, F. y Ventura, M: “La organización del currículum por proyectos de trabajo”. Ed. Graó. Barcelona,19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ll, César (2000). El constructivismo en el aula,12ª, España. Ed. Gra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na Rivilla, Antonio;Salvador Mata Francisco (2002). Didáctica General,1ª ed, Madrid. Ed. Pearson Educación,43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ículo de Revista enseñanza y educación.12-02-2009.Virgilio Cuadrado Cabezu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bro de proyectos de  S.M. de tercero de la 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2438280" y="380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800" y="1428840"/>
            <a:ext cx="435744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" sz="2800" spc="-1" strike="noStrike" u="sng">
                <a:solidFill>
                  <a:srgbClr val="fdf5d1"/>
                </a:solidFill>
                <a:uFillTx/>
                <a:latin typeface="Arial"/>
              </a:rPr>
              <a:t>INDICE</a:t>
            </a:r>
            <a:br>
              <a:rPr sz="2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INTROD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FASES DEL PROYECT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Sensibiliz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Planteamiento del problema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Diseño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str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CLUS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BIBLIOGRAFÍA</a:t>
            </a:r>
            <a:endParaRPr b="1" lang="en-US" sz="1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4152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1.INTRODUCC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9880"/>
            <a:ext cx="72295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 definir como “conjunto de actividades de aprendizaje, que tienen como eje conductor la resolución de un problema”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entiva al alumno desde una tarea prác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alumno hace cosas y participa en el proces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requiera el manejo de varias disciplinas, adquiriendo un enfoque integrad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promueve la iniciativa personal, la solidaridad, la interacción y el ejercicio de la libertad respons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intento de poner la escuela al servicio de la vida re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1600200"/>
            <a:ext cx="83437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SENSIBILIZACIÓN (MOTIVACIÓ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8800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Llamada de flecha a la derecha"/>
          <p:cNvSpPr/>
          <p:nvPr/>
        </p:nvSpPr>
        <p:spPr>
          <a:xfrm>
            <a:off x="428760" y="2571840"/>
            <a:ext cx="3071520" cy="192888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428760" y="2643120"/>
            <a:ext cx="207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Raavi"/>
              </a:rPr>
              <a:t>Planteamiento NECESIDAD-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eba2"/>
                </a:solidFill>
                <a:latin typeface="Times New Roman"/>
                <a:ea typeface="Raavi"/>
              </a:rPr>
              <a:t>CONTEXT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7 Rectángulo redondeado"/>
          <p:cNvSpPr/>
          <p:nvPr/>
        </p:nvSpPr>
        <p:spPr>
          <a:xfrm>
            <a:off x="3714840" y="29289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39290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UM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9 Elipse"/>
          <p:cNvSpPr/>
          <p:nvPr/>
        </p:nvSpPr>
        <p:spPr>
          <a:xfrm>
            <a:off x="6786720" y="2857680"/>
            <a:ext cx="2143080" cy="13572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10 Flecha derecha"/>
          <p:cNvSpPr/>
          <p:nvPr/>
        </p:nvSpPr>
        <p:spPr>
          <a:xfrm>
            <a:off x="614376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dcd1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714384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OLUCIÓN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12 CuadroTexto"/>
          <p:cNvSpPr/>
          <p:nvPr/>
        </p:nvSpPr>
        <p:spPr>
          <a:xfrm>
            <a:off x="1928880" y="5000760"/>
            <a:ext cx="4929120" cy="825480"/>
          </a:xfrm>
          <a:prstGeom prst="rect">
            <a:avLst/>
          </a:prstGeom>
          <a:solidFill>
            <a:srgbClr val="c49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os trabajos se valora mucho más el proceso que el product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1116000" indent="-6908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2.  PLANTEAMIENTO DEL PROBL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116000" indent="-690840">
              <a:spcBef>
                <a:spcPts val="901"/>
              </a:spcBef>
              <a:buClr>
                <a:srgbClr val="ff99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Finalidad del proyecto a re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Condiciones que debe cumplir la soluc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egid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94440" indent="3301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mate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dimen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304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3.  DISEÑ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Investigar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úsqueda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Analizar ideas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uvia de ideas, boc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scribir el proyecto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teriales, mecanismos, funcion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4.  CONSTR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Planificar y programar t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ción de tareas y recur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 temporal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una hoja de proces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jecució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4280"/>
            <a:ext cx="8558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900000" indent="-557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5.  EVALU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Validación del resul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Resuelve el problem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s ecológico, estético, vi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oner mejoras para futuros proy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emoria justific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moria descrip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álc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ff99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6676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3760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3.CONCLUS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34520"/>
            <a:ext cx="640080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 el sistema educativo actual, el principal objetivo de la ESO 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ff00"/>
                </a:solidFill>
                <a:latin typeface="Arial"/>
              </a:rPr>
              <a:t>educar para la v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, formar a los jóvenes para que puedan desarrollarse, desenvolverse y relacionarse en la sociedad en la viven y que se conviertan en ciudadanos activos y respons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través del área de tecnología y más concretamente mediante el método de proyectos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trabajaremos una serie de contenidos para que los alumnos adquieran estas capacidades que les ayuden a ser competent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una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herramienta poten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que puede resultar muy interesante y altamente eficaz, no estando enfrentando a otros métodos y técnicas y a la combinación de varios, para alcanzar un valor seguro en el proceso de enseñanza-aprendiz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09:15Z</dcterms:created>
  <dc:creator> </dc:creator>
  <dc:description/>
  <dc:language>en-US</dc:language>
  <cp:lastModifiedBy> </cp:lastModifiedBy>
  <dcterms:modified xsi:type="dcterms:W3CDTF">2009-12-20T22:51:17Z</dcterms:modified>
  <cp:revision>15</cp:revision>
  <dc:subject/>
  <dc:title>MÉTODO DE PROYEC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3082</vt:lpwstr>
  </property>
</Properties>
</file>