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CA1-F574-457A-834A-48B48CBA04F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5A4C-73B8-43A5-8B46-152C4559DC21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DDA-FE76-4BC3-92F7-52A4C0281C5A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CED-C11B-41B8-AB2B-00349C3A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005-917A-452F-AB9A-C4E2C07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486-FFCB-4C59-9D3A-947F364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F52-9AAC-4D66-8568-9A8EF6B7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12F-411E-43A8-BB1E-2A2E200B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CF9A-07A3-4199-87AB-40341140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55A-52C3-469B-94D0-5CA9A03C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F93C-9EC8-4FC7-A3AC-3311EB2F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7E9-50EE-49DC-9F26-38D8DE0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A58-04EA-40CE-A737-38547BEE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D50B-C43F-421C-9E92-7282643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FF7-F461-421D-A2A4-EBDA240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0DA2-B4F9-40F0-8D7D-DAE343A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6325-DF4B-4A2D-9B1A-52A10A7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3854-B94F-4CFC-A6C9-34295486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056D-3454-46C9-B371-6701150D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45A8-28D4-4ADB-ABF1-D0E309B1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0B8-0C77-4680-9FB5-4558E6F1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945-4843-4140-AA3A-7F6B6BA8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5D3-5354-4B5B-9D89-58210A93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CD0-A774-4F72-B42C-FCD0F83B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88A-5A40-4038-9E42-C5BE11DF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989-829C-4E0A-8529-D059B8D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A95-B5B6-42C6-B6A4-EDEECAD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B0E-96F9-4BDF-96CF-9E709BA4B76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DISEÑO CURRICULAR II. Master de Profesorado de Secund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B342-661F-4597-BDD3-953041826D92}" type="slidenum">
              <a:rPr b="0" lang="es-ES" sz="1400" spc="-1" strike="noStrike">
                <a:solidFill>
                  <a:srgbClr val="ccec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57880" y="4214880"/>
            <a:ext cx="2914560" cy="1752480"/>
          </a:xfrm>
          <a:prstGeom prst="rect">
            <a:avLst/>
          </a:prstGeom>
          <a:solidFill>
            <a:srgbClr val="a3e09d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Realizado por: </a:t>
            </a:r>
            <a:r>
              <a:rPr b="0" lang="en-GB" sz="1600" spc="-1" strike="noStrike">
                <a:solidFill>
                  <a:srgbClr val="1b4716"/>
                </a:solidFill>
                <a:latin typeface="Tahoma"/>
              </a:rPr>
              <a:t>Grupo 3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Lola Morr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Alberto Gonzál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Miguel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49f07"/>
                </a:solidFill>
                <a:latin typeface="Tahoma"/>
              </a:rPr>
              <a:t>Elena Gutiérr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Ventaj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prendizaje se realiza d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forma integ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avorece la retención de los contenidos puesto que se promuev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comprensión del probl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rtalece l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uto confian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fomenta el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aprendizaje investig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apacidades construidas y los contenidos aprendidos se pueden transferir fácilmente a situaciones parecidas, estaremos preparando al alumno para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enfrentarse a futuras situaciones y proble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 aprendizaje altamente </a:t>
            </a:r>
            <a:r>
              <a:rPr b="1" i="1" lang="es-ES" sz="2400" spc="-1" strike="noStrike">
                <a:solidFill>
                  <a:srgbClr val="00ff00"/>
                </a:solidFill>
                <a:latin typeface="Tahoma"/>
              </a:rPr>
              <a:t>motivado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es abordan temas de carácter cotidiano y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4.BIBLIOGRAFÍA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rnández, F. y Ventura, M: “La organización del currículum por proyectos de trabajo”. Ed. Graó. Barcelona,19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ll, César (2000). El constructivismo en el aula,12ª, España. Ed. Gra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na Rivilla, Antonio;Salvador Mata Francisco (2002). Didáctica General,1ª ed, Madrid. Ed. Pearson Educación,43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ículo de Revista enseñanza y educación.12-02-2009.Virgilio Cuadrado Cabezu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57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ibro de proyectos de  S.M. de tercero de la 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2438280" y="380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800" y="1428840"/>
            <a:ext cx="435744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" sz="2800" spc="-1" strike="noStrike" u="sng">
                <a:solidFill>
                  <a:srgbClr val="fdf5d1"/>
                </a:solidFill>
                <a:uFillTx/>
                <a:latin typeface="Arial"/>
              </a:rPr>
              <a:t>INDICE</a:t>
            </a:r>
            <a:br>
              <a:rPr sz="2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INTROD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FASES DEL PROYECT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Sensibiliz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Planteamiento del problema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Diseño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struc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CONCLUSIÓN</a:t>
            </a:r>
            <a:br>
              <a:rPr sz="1800"/>
            </a:b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df5d1"/>
                </a:solidFill>
                <a:latin typeface="Arial"/>
              </a:rPr>
              <a:t>BIBLIOGRAFÍA</a:t>
            </a:r>
            <a:endParaRPr b="1" lang="en-US" sz="1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ccec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4152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1.INTRODUCC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9880"/>
            <a:ext cx="72295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 definir como “conjunto de actividades de aprendizaje, que tienen como eje conductor la resolución de un problema”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entiva al alumno desde una tarea prác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alumno hace cosas y participa en el proces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requiera el manejo de varias disciplinas, adquiriendo un enfoque integrad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método promueve la iniciativa personal, la solidaridad, la interacción y el ejercicio de la libertad respons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intento de poner la escuela al servicio de la vida re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320" y="1600200"/>
            <a:ext cx="83437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SENSIBILIZACIÓN (MOTIVACIÓ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8800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Llamada de flecha a la derecha"/>
          <p:cNvSpPr/>
          <p:nvPr/>
        </p:nvSpPr>
        <p:spPr>
          <a:xfrm>
            <a:off x="428760" y="2571840"/>
            <a:ext cx="3071520" cy="192888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428760" y="2643120"/>
            <a:ext cx="207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Raavi"/>
              </a:rPr>
              <a:t>Planteamiento NECESIDAD-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eba2"/>
                </a:solidFill>
                <a:latin typeface="Times New Roman"/>
                <a:ea typeface="Raavi"/>
              </a:rPr>
              <a:t>CONTEXT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7 Rectángulo redondeado"/>
          <p:cNvSpPr/>
          <p:nvPr/>
        </p:nvSpPr>
        <p:spPr>
          <a:xfrm>
            <a:off x="3714840" y="29289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368d2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39290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UM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9 Elipse"/>
          <p:cNvSpPr/>
          <p:nvPr/>
        </p:nvSpPr>
        <p:spPr>
          <a:xfrm>
            <a:off x="6786720" y="2857680"/>
            <a:ext cx="2143080" cy="1357200"/>
          </a:xfrm>
          <a:prstGeom prst="ellipse">
            <a:avLst/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10 Flecha derecha"/>
          <p:cNvSpPr/>
          <p:nvPr/>
        </p:nvSpPr>
        <p:spPr>
          <a:xfrm>
            <a:off x="614376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dcd1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714384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OLUCIÓN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12 CuadroTexto"/>
          <p:cNvSpPr/>
          <p:nvPr/>
        </p:nvSpPr>
        <p:spPr>
          <a:xfrm>
            <a:off x="1928880" y="5000760"/>
            <a:ext cx="4929120" cy="825480"/>
          </a:xfrm>
          <a:prstGeom prst="rect">
            <a:avLst/>
          </a:prstGeom>
          <a:solidFill>
            <a:srgbClr val="c49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os trabajos se valora mucho más el proceso que el product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1116000" indent="-6908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2.  PLANTEAMIENTO DEL PROBL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116000" indent="-690840">
              <a:spcBef>
                <a:spcPts val="901"/>
              </a:spcBef>
              <a:buClr>
                <a:srgbClr val="ff99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Finalidad del proyecto a re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 Condiciones que debe cumplir la soluc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egid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94440" indent="3301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mate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 dimen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304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3.  DISEÑ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Investigar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úsqueda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Analizar ideas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uvia de ideas, boc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scribir el proyecto: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teriales, mecanismos, funcion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á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600200"/>
            <a:ext cx="8558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4.  CONSTR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Planificar y programar t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ición de tareas y recur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 temporal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una hoja de proces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jecució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4280"/>
            <a:ext cx="8558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900000" indent="-557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5.  EVALU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Validación del resul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Resuelve el problem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s ecológico, estético, vi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oner mejoras para futuros proy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emoria justific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moria descrip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álc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542960" indent="-17136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ff99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0000" indent="-557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266760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3760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7cc17"/>
                </a:solidFill>
                <a:latin typeface="Arial"/>
              </a:rPr>
              <a:t>3.CONCLUSIÓN</a:t>
            </a:r>
            <a:endParaRPr b="1" lang="en-US" sz="3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34520"/>
            <a:ext cx="640080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 el sistema educativo actual, el principal objetivo de la ESO 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ff00"/>
                </a:solidFill>
                <a:latin typeface="Arial"/>
              </a:rPr>
              <a:t>educar para la v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, formar a los jóvenes para que puedan desarrollarse, desenvolverse y relacionarse en la sociedad en la viven y que se conviertan en ciudadanos activos y respons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través del área de tecnología y más concretamente mediante el método de proyectos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trabajaremos una serie de contenidos para que los alumnos adquieran estas capacidades que les ayuden a ser competent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una </a:t>
            </a:r>
            <a:r>
              <a:rPr b="1" i="1" lang="es-ES" sz="1600" spc="-1" strike="noStrike">
                <a:solidFill>
                  <a:srgbClr val="00ff00"/>
                </a:solidFill>
                <a:latin typeface="Arial"/>
              </a:rPr>
              <a:t>herramienta poten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que puede resultar muy interesante y altamente eficaz, no estando enfrentando a otros métodos y técnicas y a la combinación de varios, para alcanzar un valor seguro en el proceso de enseñanza-aprendiz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4382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7cc17"/>
                </a:solidFill>
                <a:uFillTx/>
                <a:latin typeface="Arial"/>
              </a:rPr>
              <a:t>MÉTOD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6 Marcador de pie de página"/>
          <p:cNvSpPr/>
          <p:nvPr/>
        </p:nvSpPr>
        <p:spPr>
          <a:xfrm>
            <a:off x="214200" y="6248520"/>
            <a:ext cx="89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DISEÑO CURRICULAR II. 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Master de Profesorado de Secund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09:15Z</dcterms:created>
  <dc:creator> </dc:creator>
  <dc:description/>
  <dc:language>en-US</dc:language>
  <cp:lastModifiedBy> </cp:lastModifiedBy>
  <dcterms:modified xsi:type="dcterms:W3CDTF">2009-12-20T22:51:17Z</dcterms:modified>
  <cp:revision>15</cp:revision>
  <dc:subject/>
  <dc:title>MÉTODO DE PROYEC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3082</vt:lpwstr>
  </property>
</Properties>
</file>