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2898-0ABF-4C53-9DA7-6F81B9F22BFF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641F-546F-494E-8530-E445141F5A3D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212E-6AF2-493B-ADFD-68BBA723DF32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515-201A-4DDD-AA35-34ADFF2B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A86-1223-4D57-8CBB-5269F30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0D5-CAF5-41DE-B70C-AAA63C35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781-2413-4F71-86B8-AF55F160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2383-F961-4549-AEAA-A573ACE7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E386-4B74-46DD-BFA8-E63366CC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A5B4-B61A-4625-AD4E-B35A9E7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97D0-7260-4EB6-8DD1-EE72A56B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C82E-E47A-43EA-B48B-9B0AE99E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6E6C-838E-4A0D-926E-50376D98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F1C6-1704-413A-A88E-E63D762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7FB-656E-45D7-8FFA-7EA077BC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AAC0-8C53-447F-BE70-C215901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DCCC-4700-47C4-A215-1C46830F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62EF-2A8B-491B-A0C0-A15DFE04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BBFB-973B-4A52-AA62-856EDF6B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2C34-7E81-4A5B-8DED-6A65BCD7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138-2387-4A21-BB06-CFBE6AD8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DB8-2333-4E96-89B3-0092654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5A2-8D4A-4F23-BB4F-CE14524A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07E-6A0C-48C0-B99B-04EC8EBD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CBC-B65E-47D0-84B4-FBA2C223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E5B-90A1-45C8-A3FE-5C2AE7A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C7F-CCFC-44F8-945C-F5466DC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D154-82D1-4309-B350-4CC2DB3F2D9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75EF-3C6C-4069-9A8A-C8DC8A243A7B}" type="slidenum">
              <a:rPr b="0" lang="es-ES" sz="1400" spc="-1" strike="noStrike">
                <a:solidFill>
                  <a:srgbClr val="ccec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57880" y="4214880"/>
            <a:ext cx="2914560" cy="1752480"/>
          </a:xfrm>
          <a:prstGeom prst="rect">
            <a:avLst/>
          </a:prstGeom>
          <a:solidFill>
            <a:srgbClr val="a3e09d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Realizado por: </a:t>
            </a:r>
            <a:r>
              <a:rPr b="0" lang="en-GB" sz="1600" spc="-1" strike="noStrike">
                <a:solidFill>
                  <a:srgbClr val="1b4716"/>
                </a:solidFill>
                <a:latin typeface="Tahoma"/>
              </a:rPr>
              <a:t>Grupo 3+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Lola Morr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Alberto Gonzál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Miguel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Elena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Ventaj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prendizaje se realiza d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forma integ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avorece la retención de los contenidos puesto que se promuev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comprensión del probl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rtalec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uto confian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menta el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prendizaje investig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apacidades construidas y los contenidos aprendidos se pueden transferir fácilmente a situaciones parecidas, estaremos preparando al alumno par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enfrentarse a futuras situaciones y proble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 aprendizaje altament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motivado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es abordan temas de carácter cotidiano y re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441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4.BIBLIOGRAFÍA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ernández, F. y Ventura, M: “La organización del currículum por proyectos de trabajo”. Ed. Graó. Barcelona,199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ll, César (2000). El constructivismo en el aula,12ª, España. Ed. Gra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na Rivilla, Antonio;Salvador Mata Francisco (2002). Didáctica General,1ª ed, Madrid. Ed. Pearson Educación,43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ículo de Revista enseñanza y educación.12-02-2009.Virgilio Cuadrado Cabezu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ibro de proyectos de  S.M. de tercero de la ES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Título"/>
          <p:cNvSpPr/>
          <p:nvPr/>
        </p:nvSpPr>
        <p:spPr>
          <a:xfrm>
            <a:off x="2438280" y="380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71800" y="1428840"/>
            <a:ext cx="4357440" cy="42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" sz="2800" spc="-1" strike="noStrike" u="sng">
                <a:solidFill>
                  <a:srgbClr val="fdf5d1"/>
                </a:solidFill>
                <a:uFillTx/>
                <a:latin typeface="Arial"/>
              </a:rPr>
              <a:t>INDICE</a:t>
            </a:r>
            <a:br>
              <a:rPr sz="2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1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INTROD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FASES DEL PROYECTO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Sensibiliz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Planteamiento del problema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Diseño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str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Evalu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CLUS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4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BIBLIOGRAFÍA</a:t>
            </a:r>
            <a:endParaRPr b="1" lang="en-US" sz="1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218960"/>
            <a:ext cx="41529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1.INTRODUCC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829880"/>
            <a:ext cx="72295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puede definir como “conjunto de actividades de aprendizaje, que tienen como eje conductor la resolución de un problema”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centiva al alumno desde una tarea práct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alumno hace cosas y participa en el proces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requiera el manejo de varias disciplinas, adquiriendo un enfoque integrad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promueve la iniciativa personal, la solidaridad, la interacción y el ejercicio de la libertad respons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intento de poner la escuela al servicio de la vida re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320" y="1600200"/>
            <a:ext cx="83437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01560" indent="-231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SENSIBILIZACIÓN (MOTIVACIÓ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8800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5 Llamada de flecha a la derecha"/>
          <p:cNvSpPr/>
          <p:nvPr/>
        </p:nvSpPr>
        <p:spPr>
          <a:xfrm>
            <a:off x="428760" y="2571840"/>
            <a:ext cx="3071520" cy="192888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6 CuadroTexto"/>
          <p:cNvSpPr/>
          <p:nvPr/>
        </p:nvSpPr>
        <p:spPr>
          <a:xfrm>
            <a:off x="428760" y="2643120"/>
            <a:ext cx="207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Raavi"/>
              </a:rPr>
              <a:t>Planteamiento NECESIDAD-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eba2"/>
                </a:solidFill>
                <a:latin typeface="Times New Roman"/>
                <a:ea typeface="Raavi"/>
              </a:rPr>
              <a:t>CONTEXTO 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7 Rectángulo redondeado"/>
          <p:cNvSpPr/>
          <p:nvPr/>
        </p:nvSpPr>
        <p:spPr>
          <a:xfrm>
            <a:off x="3714840" y="2928960"/>
            <a:ext cx="2357280" cy="1285920"/>
          </a:xfrm>
          <a:prstGeom prst="roundRect">
            <a:avLst>
              <a:gd name="adj" fmla="val 1666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3929040" y="33577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UM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9 Elipse"/>
          <p:cNvSpPr/>
          <p:nvPr/>
        </p:nvSpPr>
        <p:spPr>
          <a:xfrm>
            <a:off x="6786720" y="2857680"/>
            <a:ext cx="2143080" cy="13572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10 Flecha derecha"/>
          <p:cNvSpPr/>
          <p:nvPr/>
        </p:nvSpPr>
        <p:spPr>
          <a:xfrm>
            <a:off x="614376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dcd1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11 CuadroTexto"/>
          <p:cNvSpPr/>
          <p:nvPr/>
        </p:nvSpPr>
        <p:spPr>
          <a:xfrm>
            <a:off x="714384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OLUCIÓN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12 CuadroTexto"/>
          <p:cNvSpPr/>
          <p:nvPr/>
        </p:nvSpPr>
        <p:spPr>
          <a:xfrm>
            <a:off x="1928880" y="5000760"/>
            <a:ext cx="4929120" cy="825480"/>
          </a:xfrm>
          <a:prstGeom prst="rect">
            <a:avLst/>
          </a:prstGeom>
          <a:solidFill>
            <a:srgbClr val="c49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os trabajos se valora mucho más el proceso que el producto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1116000" indent="-6908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2.  PLANTEAMIENTO DEL PROBL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116000" indent="-690840">
              <a:spcBef>
                <a:spcPts val="901"/>
              </a:spcBef>
              <a:buClr>
                <a:srgbClr val="ff99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Finalidad del proyecto a realiz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Condiciones que debe cumplir la soluc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egid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94440" indent="33012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mate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técn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dimen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304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3.  DISEÑ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Investigar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úsqueda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Analizar ideas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uvia de ideas, boc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Describir el proyecto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ateriales, mecanismos, funcion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4.  CONSTR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Planificar y programar t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inición de tareas y recur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tribución temporal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lizar una hoja de proces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jecució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4280"/>
            <a:ext cx="85582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900000" indent="-5572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5.  EVALU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Validación del resul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Resuelve el problem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Es ecológico, estético, vi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oner mejoras para futuros proy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emoria justific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moria descrip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álcu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buClr>
                <a:srgbClr val="ff99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6676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3760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3.CONCLUS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34520"/>
            <a:ext cx="640080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 el sistema educativo actual, el principal objetivo de la ESO 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ff00"/>
                </a:solidFill>
                <a:latin typeface="Arial"/>
              </a:rPr>
              <a:t>educar para la v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, formar a los jóvenes para que puedan desarrollarse, desenvolverse y relacionarse en la sociedad en la viven y que se conviertan en ciudadanos activos y respons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través del área de tecnología y más concretamente mediante el método de proyectos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trabajaremos una serie de contenidos para que los alumnos adquieran estas capacidades que les ayuden a ser competent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 una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herramienta poten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que puede resultar muy interesante y altamente eficaz, no estando enfrentando a otros métodos y técnicas y a la combinación de varios, para alcanzar un valor seguro en el proceso de enseñanza-aprendiz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09:15Z</dcterms:created>
  <dc:creator> </dc:creator>
  <dc:description/>
  <dc:language>en-US</dc:language>
  <cp:lastModifiedBy> </cp:lastModifiedBy>
  <dcterms:modified xsi:type="dcterms:W3CDTF">2009-12-20T22:51:17Z</dcterms:modified>
  <cp:revision>15</cp:revision>
  <dc:subject/>
  <dc:title>MÉTODO DE PROYEC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3082</vt:lpwstr>
  </property>
</Properties>
</file>