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278-5049-4E34-8CE3-275A21F3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526-7582-4BDB-931C-1EE2471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E7B-CD12-4B66-A85B-7762A0C5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95F-7180-4554-85D6-B54B45AB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658E-EBD8-44EF-8846-362FDE95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E861-33EA-4CA0-B6B7-156CBD4F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851D-06F7-4CD8-8BE9-BE9B4B77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7869-9B55-41B2-9D65-E8E296CF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A2DD-8AE9-41C4-8332-3AC0204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E884-FB24-4EAC-A4B1-E031808D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1BB9-1484-4B76-80F2-64DE18C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C7F-E401-40BD-B185-985AF632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D3F2-F527-467C-A10A-6764E513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DA44-2FD5-4E1F-8ACE-B1918AF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4EFA-6130-4D54-AA10-5C9556C3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9390-4736-428D-AEC3-38EA66D3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93AD-857E-4A80-96E9-6FB1C1DB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F061A-9019-4BD7-9BFA-DAF41346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AD34A-A92C-4045-B12D-B04F8357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28268-DFFE-4D77-9123-155F2AD5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E601B-02BC-42D2-AA36-AE0A4021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32381-80F2-48B0-A3B2-1F20C98C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A9D-B098-4052-815B-85024951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27075-5ED9-4A19-B9F6-AABB335F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EC48D-AF40-460F-8B4B-6FD25F4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30D67-5A76-47A4-A57E-A074775A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074E7-2506-41D9-9EC2-CCC1C8D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76791-054D-4929-AB1B-5BA4F668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8FA1F-81A9-44C7-BD05-AA637EC4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70559-5AB2-4BD6-97D0-864BC55D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F0B1-33AF-45EF-8172-B11290EC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6761-8EE6-47D4-84A6-F02A510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A89B-9298-4E8C-86DB-484439E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619-44F9-4646-910D-D1D6CCBF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D4033-7691-4005-ABC6-C9B8AD31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B7B6-69A0-43D0-85DF-7C92CDDC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4EC6-9C52-440F-9357-F4953E37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88FD-24A1-4A56-9388-9E9CA86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DFE1-37DD-4E0A-9204-7FEB5A8A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8B3A0-298F-4B4E-88F6-006E8D21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79EA-2318-4ADF-9B43-76B7966F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FEBA-DD32-4C0E-B61A-8B2AB0BF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00DE-0B54-44D9-AFEB-384D0309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ED7C7-225F-41D4-B4B0-EE295F5D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432-42D1-48CF-94F8-6C6BF59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51F9B-1267-4E37-A097-A2A712A0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2B84F-20D3-4897-BB3D-0773D4E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C1ECC-1EC3-4338-837E-289A4922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2DE3D-C2BB-43F1-92F6-CCB841D3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3E624-74B9-4964-949C-2652B30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6DF90-62A0-4342-907E-309F30B9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7FB01-5EB4-4FB2-8096-143DE236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62E27-69EE-43A1-B699-E46DE1E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72705-214B-42BD-8A5D-C4286148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8802B-5241-4331-94AE-2B26B1E1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44E-EADE-46BB-B6CD-7202E518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4B54C-CF2A-47AE-95E6-E9929AD3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89FFD-CEF2-466A-9956-98301F83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CFB21-42ED-492B-89BE-64F6EC60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F3F09-AD21-46EB-9081-85AD4F5F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56A4D-CC40-459F-B498-097259B0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7DEB7-4DEF-4836-A7E3-302E932F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8BBB8-C707-4EE8-A3EF-AD0C125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AE6C0-6BBA-47F8-B69B-F1A624B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EEC25-A5FC-4573-B2C5-A2DFC66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3B1CE-CDF3-4F7E-8560-57D4C27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BDD-4929-46CE-A780-85E845F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20B18-781A-42F1-8CBE-6DB0B147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57EFB-34AA-45BC-B33C-4CF107C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C9AE1-7CE2-4D4C-8D53-200CFC67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2F50D-765B-451B-9303-B63FE74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F6FB1-AED4-4D45-A5B9-A51FCBBB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D74B7-E1C3-41AC-977C-74C96620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ED516-135E-429B-B4B9-8F3FD92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EC556-102D-4507-8FA1-EC418EDC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E26D0-D4B2-4A18-B187-6824D89E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F1A70-BD9D-45B0-AE11-3DDEE58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CB5-9925-418D-87E7-0735D55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90A23-BAAF-4C93-9D6B-C70BBD65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5A2EB-7470-481A-A65A-507207A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310CA-A97B-4864-925D-9D73158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E1AF5-1E1C-436A-A8A6-C29E7FD6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3B6D3-03A5-4179-9D1F-AF945CBE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9DE-5FF2-420F-BFCD-8594ED8D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67C-9AA2-44DC-801F-9C58B868FD9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DF6D-F1FE-4C4F-A27A-A633F6E774A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2689-D522-429A-935A-5D238142157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6C68-6D46-41FE-A541-DE2B5447545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6C5-2862-41CC-9069-D3BAAA07037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7BB1-E8CC-4CCD-B5A4-80897CF0833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424-7252-418E-8105-8EE7FC1B968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5b6f"/>
                </a:solidFill>
                <a:latin typeface="Century Schoolbook"/>
              </a:rPr>
              <a:t>Google do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OBJETIVOS Y ACTITUDES QUE DESARROL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i se utiliza de forma eficaz puede ser una prolongación del trabajo en cla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acilitará la comunicación entre profesor y alumn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os alumnos podrán desarroll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rabajos colaborativos teniendo como soporte el ordenad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riquecimiento personal mediante el conocimiento de las experiencias ajen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titud de ayuda y cooper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eto a las opiniones diferentes y la aceptación de las crít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onsabilidad y regulación del tiempo de trabajo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tituyen un conjunto de soluciones que permiten a las organizaciones crear espacios de trabajo en grupo para compartir, almacenar y buscar información, mejorando la eficiencia organizativa y las relaciones de negoc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ducen los tiempos y costes de las comunicaciones, transformando el conocimiento tácito en conocimiento explíci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as posibilidad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Office Connect (Microsoft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robat.com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oogle App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APP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543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torno colaborativo de Goo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es vers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stándar: para necesidades básicas. Es gratuit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emier: para necesidades avanzadas. Tiene un coste anu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ducación: para instituciones educativas. Gratui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incipales aplicac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Talk: mensajería instantáne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Calendar: coordinación de agendas compartid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ites: gestión colaborativa de sitios web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tart Page: página de inicio personalizada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Docs: edición colaborativa de document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QUÉ ES GOOGLE DOCS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ear/Editar/Compartir docum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macenamiento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On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porta varios formato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icrosoft, OpenOffice, texto pla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ratui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072120" y="2786040"/>
            <a:ext cx="1562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PARA UTILIZAR GOOGLE DOCS: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ener una cuenta g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plicación web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e utiliza a través de un naveg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ttp://docs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puede utilizar ‘offline’  con Google Gears, pero hasta que no nos conectemos, no se guardarán los camb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ESTIÓN DE DOCUMEN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7397640" cy="4286160"/>
          </a:xfrm>
          <a:prstGeom prst="rect">
            <a:avLst/>
          </a:prstGeom>
          <a:ln w="0">
            <a:noFill/>
          </a:ln>
        </p:spPr>
      </p:pic>
      <p:sp>
        <p:nvSpPr>
          <p:cNvPr id="364" name="4 Elipse"/>
          <p:cNvSpPr/>
          <p:nvPr/>
        </p:nvSpPr>
        <p:spPr>
          <a:xfrm>
            <a:off x="5286240" y="3143160"/>
            <a:ext cx="1571760" cy="57168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5 Elipse"/>
          <p:cNvSpPr/>
          <p:nvPr/>
        </p:nvSpPr>
        <p:spPr>
          <a:xfrm>
            <a:off x="6786720" y="3286080"/>
            <a:ext cx="714240" cy="28584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DICIÓN DE TEX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599840"/>
            <a:ext cx="74674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tuitivo, muy parecido a los procesadores de texto que utilizamos habitualm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6658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COMPARTIR Y PUBLICAR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ipos de participan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opietario : crea y edi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laboradores: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Lectores: leen, pero no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otón compart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428840" y="3714840"/>
            <a:ext cx="5572080" cy="306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3500280" y="3286080"/>
            <a:ext cx="819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DOCS EN EL AU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or sus características es fácilmente aplicable al ámbito esco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Utilidades que podemos utiliz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aboración conjunta de trabajos (textos escritos) mediante la escritura colaborativ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mplicación de los alumnos en una tarea común que integra lectura y escritur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unicación inmediata entre profesor y alumnos para resolver dudas de clase, ejercicios, etc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rrección y evaluación directa de las tare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bates virtuales sobre un asunto de clas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reación de un nuevo documento en clase y reedición del mismo en casa (trabajo continua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0:56:04Z</dcterms:created>
  <dc:creator> </dc:creator>
  <dc:description/>
  <dc:language>en-US</dc:language>
  <cp:lastModifiedBy> </cp:lastModifiedBy>
  <dcterms:modified xsi:type="dcterms:W3CDTF">2010-01-18T17:14:10Z</dcterms:modified>
  <cp:revision>14</cp:revision>
  <dc:subject/>
  <dc:title>Entornos Colaborativos</dc:title>
</cp:coreProperties>
</file>