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F5A1-4EA7-45F5-9348-6E6D44758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AE29-F480-4046-9E1E-4852A006A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6D4A-E5C4-46D5-A81B-EF2F86B1C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0B17-F0A6-4D73-BC24-335AAE62F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628A6-34F0-44C4-B95A-14518C91B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56A49-4359-4B93-BE10-A34FE63BE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3F69B-54DD-45DC-BB6A-B3E616093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74B00-5EE6-4B9F-8685-6CC9D89ED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56602-2784-46BC-ACF4-B1B8E34E6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E26B4-91D8-4BBA-9549-4C23A91F2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B20D6-3C8D-4D23-B034-82A9AC57F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8D24-A495-471C-8893-DD616BDF1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DEDE2-82C5-4A30-A262-5590ED9D5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C3BAD-C74B-441C-BF1E-D9E335EBE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64030-3B1D-440C-BA6B-0468A350B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5DD99-01E8-4EAE-BAB7-FFD273AA9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1E2AC-75AF-48ED-AA35-0E81A76C9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374E0F-0C84-46ED-92FF-0C2E15342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C10DCF-A2BB-40D6-BAE2-0163E600B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16B767-B7DB-4AD5-98D3-2E1A3AC9C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C94091-6854-450D-AC9D-DBB5AE967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B43F05-029F-44D4-88A5-6CE5A9452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5C3C-3E9E-4CD6-BD2B-EF9094924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826AF6-C4DA-4815-882E-0E37BA08E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836FCF-E3EA-4C47-BD61-1E05BA565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3121CA-05D2-4292-8733-2D0BD79A2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770889-A14A-4A2D-BBDF-0441A0891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A2BB6E-3BA4-4239-A732-4492D2F8A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9C9598-5E66-409F-A868-8A27104DB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FA1BF1-E988-47D5-9938-095CB23B3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E9BC8D-34BB-460D-8FD5-4B75B6CDD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A088B7-610A-4AB5-A11E-D53C209E8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9E653B-04C3-47E5-A651-5C09C8E91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FDAA-8BE3-4D30-BDF3-AA1698462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D54C2A-75A4-4797-996F-A8CA4F762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5D80C9-588D-4DEE-9F0D-77BFEB168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C61F13-C8F0-456C-BF54-AAB87DAB0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2B0EA8-2DB5-43C5-888A-5E551638A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202161-03CB-4C31-B445-C15DC90A5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CFE6CF-061E-4AE0-88DD-C15425853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522C2A-0265-4142-B82E-F3A364CC7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78BF5B-9431-4307-B41F-FDBD8052E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0C67DA-FA81-425B-A018-9482F7267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E33B0A-1D3D-4A13-9344-969011569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54C5-BCF3-4851-8B09-F970FF65B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626ACE-68B5-4395-BD1A-8137AE300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21CF3E-AEE2-4841-969B-49670BF94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053CB8-DFFE-426C-9F99-8BD2F5243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A2F461-89E1-4963-92DF-68F6CD35A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FE7E2B-FBAB-48FA-98D1-DDA62D890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02AB2F-BF30-4DB4-A50E-299FE51B5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6207AF-EB89-4FA5-95EB-7309C920C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33995B-5081-44B8-A86F-4333DB376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4E9CAD-282B-4360-9643-0AEAB7F03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000E86-326A-4EF7-9CDA-99D596668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580A-1837-45D3-9240-5EB304070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492C9E-7EBF-4DAA-ACBB-49D5BBF6C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936BFB2-3CC6-4191-9A17-F0B834B03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BA65D3-EFBD-47C3-A712-6FFA49B35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B771B78-991B-4411-8215-483D760BB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FC1A81E-7C22-49BF-A801-CA74728FD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9B61334-BB85-4C78-8D32-1301D9171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2FEE4D5-8C97-4276-A333-93CCA1DEC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205ADF8-A0E4-49FC-94C0-A9E3747DC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5932A91-8BF6-4CDF-8EFD-399B6ED69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5474A9-ED0B-47DB-836F-F54E63119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EA93-433F-41AB-9EAB-4E59367DF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2BE909F-1236-4DD4-8C11-1104590BE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51FBCE2-785E-477F-86FF-0C7ADC41F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52BD654-FDDC-4424-A4A8-929F9A5E8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54F946A-BA9A-43E5-9925-4240F9F18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ED7EAD4-9767-43C8-8B82-DF01939BA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9D6DF7A-4E96-4AFE-A7B8-1BDA18D4E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11889D7-B5F6-4834-A945-7CC5D8B23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A3FB3CA-2422-477C-8C5C-6B5F47CD6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51F25E1-C80F-449E-861F-F425C2C0B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E1125F7-410C-40E7-8068-526DA1BFD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8B2C-1BF7-419C-9EBD-737903DEC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D48B672-5A3A-4682-9AF5-480266C69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A5480D9-AB19-41EC-AEE1-058CE92B3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DE80264-97CF-4922-A96E-162D12516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245E854-7A4B-4BEE-AB4E-030F0E19C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B9A60F6-AC77-4557-B84A-C0EB91101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BFF1-D7E6-4EA9-AB7D-15A778146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4e5b6f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e5b6f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0B0A3-3A23-42DB-AB3A-56638A42A92D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12 Rectángulo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c0e5a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14 Rectángulo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8ee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16 Rectángulo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8ee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17 Rectángulo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cf7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18 Conector recto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c0e5af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19 Conector recto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cf7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20 Conector recto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23 Conector recto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c0e5af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24 Conector recto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25 Conector recto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26 Rectángulo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c0e5a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27 Elipse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28 Elipse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29 Elipse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30 Elipse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31 Elipse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4e5b6f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e5b6f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E2221-8EFB-43A7-B693-D787392BB076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4e5b6f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e5b6f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D8950-4189-403D-9051-A6697FC464D2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5b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12 Rectángulo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c0e5a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14 Rectángulo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8ee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16 Rectángulo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8ee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17 Rectángulo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cf7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18 Conector recto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c0e5af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19 Conector recto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cf7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20 Conector recto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23 Conector recto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c0e5af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24 Conector recto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25 Rectángulo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c0e5a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26 Elipse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27 Elipse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28 Elipse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29 Elipse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30 Elipse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31 Conector recto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6ecf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d6ecff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6ecff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d6ecff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1BD12-C2C1-46F1-9CD9-5EAC6F945EBC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4e5b6f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e5b6f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29997-432A-477A-868C-1DF8A8A3C478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12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14 Conector recto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16 Conector recto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17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18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19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20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4e5b6f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e5b6f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888DF-80F7-4248-B66C-8F8D5D927D9A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12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14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16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17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18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19 Conector recto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20 Conector recto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4e5b6f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e5b6f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0B4C2-9967-46C0-B8EC-6C1CBA55F3EC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4e5b6f"/>
                </a:solidFill>
                <a:latin typeface="Century Schoolbook"/>
              </a:rPr>
              <a:t>ENTORNOS COLABORATIVOS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e5b6f"/>
                </a:solidFill>
                <a:latin typeface="Century Schoolbook"/>
              </a:rPr>
              <a:t>Google doc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4e5b6f"/>
                </a:solidFill>
                <a:latin typeface="Century Schoolbook"/>
              </a:rPr>
              <a:t>OBJETIVOS Y ACTITUDES QUE DESARROLLA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Si se utiliza de forma eficaz puede ser una prolongación del trabajo en clase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Facilitará la comunicación entre profesor y alumno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Los alumnos podrán desarrollar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01200" indent="-256320">
              <a:spcBef>
                <a:spcPts val="524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Century Schoolbook"/>
              </a:rPr>
              <a:t>Trabajos colaborativos teniendo como soporte el ordenador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01200" indent="-256320">
              <a:spcBef>
                <a:spcPts val="524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Century Schoolbook"/>
              </a:rPr>
              <a:t>Enriquecimiento personal mediante el conocimiento de las experiencias ajenas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01200" indent="-256320">
              <a:spcBef>
                <a:spcPts val="524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Century Schoolbook"/>
              </a:rPr>
              <a:t>Actitud de ayuda y cooperación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01200" indent="-256320">
              <a:spcBef>
                <a:spcPts val="524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Century Schoolbook"/>
              </a:rPr>
              <a:t>Respeto a las opiniones diferentes y la aceptación de las crítica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01200" indent="-256320">
              <a:spcBef>
                <a:spcPts val="524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Century Schoolbook"/>
              </a:rPr>
              <a:t>Responsabilidad y regulación del tiempo de trabajo</a:t>
            </a:r>
            <a:br>
              <a:rPr sz="2100"/>
            </a:br>
            <a:r>
              <a:rPr b="0" lang="es-ES" sz="21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4e5b6f"/>
                </a:solidFill>
                <a:latin typeface="Century Schoolbook"/>
              </a:rPr>
              <a:t>ENTORNOS COLABORATIVOS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Constituyen un conjunto de soluciones que permiten a las organizaciones crear espacios de trabajo en grupo para compartir, almacenar y buscar información, mejorando la eficiencia organizativa y las relaciones de negocio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Reducen los tiempos y costes de las comunicaciones, transformando el conocimiento tácito en conocimiento explícito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Algunas posibilidades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Century Schoolbook"/>
              </a:rPr>
              <a:t>Office Connect (Microsoft)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Century Schoolbook"/>
              </a:rPr>
              <a:t>Acrobat.com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Century Schoolbook"/>
              </a:rPr>
              <a:t>Google Apps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4e5b6f"/>
                </a:solidFill>
                <a:latin typeface="Century Schoolbook"/>
              </a:rPr>
              <a:t>GOOGLE APPS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6840" y="1600200"/>
            <a:ext cx="754380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Entorno colaborativo de Google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Tres versiones: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3240" indent="-270000">
              <a:spcBef>
                <a:spcPts val="524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Century Schoolbook"/>
              </a:rPr>
              <a:t>Estándar: para necesidades básicas. Es gratuita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3240" indent="-270000">
              <a:spcBef>
                <a:spcPts val="524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Century Schoolbook"/>
              </a:rPr>
              <a:t>Premier: para necesidades avanzadas. Tiene un coste anual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3240" indent="-270000">
              <a:spcBef>
                <a:spcPts val="524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Century Schoolbook"/>
              </a:rPr>
              <a:t>Educación: para instituciones educativas. Gratuito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Principales aplicaciones: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3240" indent="-270000">
              <a:spcBef>
                <a:spcPts val="499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Google Talk: mensajería instantánea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3240" indent="-270000">
              <a:spcBef>
                <a:spcPts val="499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Google Calendar: coordinación de agendas compartidas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3240" indent="-270000">
              <a:spcBef>
                <a:spcPts val="499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Google Sites: gestión colaborativa de sitios web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3240" indent="-270000">
              <a:spcBef>
                <a:spcPts val="499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Google Start Page: página de inicio personalizada. 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3240" indent="-270000">
              <a:spcBef>
                <a:spcPts val="499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Google Docs: edición colaborativa de documentos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3240" indent="-2700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4e5b6f"/>
                </a:solidFill>
                <a:latin typeface="Century Schoolbook"/>
              </a:rPr>
              <a:t>¿QUÉ ES GOOGLE DOCS?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Crear/Editar/Compartir document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Almacenamiento </a:t>
            </a:r>
            <a:r>
              <a:rPr b="0" lang="es-E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Onlin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Soporta varios formatos </a:t>
            </a:r>
            <a:r>
              <a:rPr b="0" lang="es-E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Microsoft, OpenOffice, texto plan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Gratuit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9" name="Picture 2" descr=""/>
          <p:cNvPicPr/>
          <p:nvPr/>
        </p:nvPicPr>
        <p:blipFill>
          <a:blip r:embed="rId1"/>
          <a:stretch/>
        </p:blipFill>
        <p:spPr>
          <a:xfrm>
            <a:off x="6072120" y="2786040"/>
            <a:ext cx="156204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4e5b6f"/>
                </a:solidFill>
                <a:latin typeface="Century Schoolbook"/>
              </a:rPr>
              <a:t>PARA UTILIZAR GOOGLE DOCS: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Tener una cuenta gmai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Aplicación web </a:t>
            </a:r>
            <a:r>
              <a:rPr b="0" lang="es-E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se utiliza a través de un navegado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http://docs.google.com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Se puede utilizar ‘offline’  con Google Gears, pero hasta que no nos conectemos, no se guardarán los cambio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4e5b6f"/>
                </a:solidFill>
                <a:latin typeface="Century Schoolbook"/>
              </a:rPr>
              <a:t>GESTIÓN DE DOCUMENTOS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pic>
        <p:nvPicPr>
          <p:cNvPr id="363" name="Picture 2" descr=""/>
          <p:cNvPicPr/>
          <p:nvPr/>
        </p:nvPicPr>
        <p:blipFill>
          <a:blip r:embed="rId1"/>
          <a:stretch/>
        </p:blipFill>
        <p:spPr>
          <a:xfrm>
            <a:off x="500040" y="1643040"/>
            <a:ext cx="7397640" cy="4286160"/>
          </a:xfrm>
          <a:prstGeom prst="rect">
            <a:avLst/>
          </a:prstGeom>
          <a:ln w="0">
            <a:noFill/>
          </a:ln>
        </p:spPr>
      </p:pic>
      <p:sp>
        <p:nvSpPr>
          <p:cNvPr id="364" name="4 Elipse"/>
          <p:cNvSpPr/>
          <p:nvPr/>
        </p:nvSpPr>
        <p:spPr>
          <a:xfrm>
            <a:off x="5286240" y="3143160"/>
            <a:ext cx="1571760" cy="571680"/>
          </a:xfrm>
          <a:prstGeom prst="ellipse">
            <a:avLst/>
          </a:prstGeom>
          <a:noFill/>
          <a:ln w="442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5 Elipse"/>
          <p:cNvSpPr/>
          <p:nvPr/>
        </p:nvSpPr>
        <p:spPr>
          <a:xfrm>
            <a:off x="6786720" y="3286080"/>
            <a:ext cx="714240" cy="285840"/>
          </a:xfrm>
          <a:prstGeom prst="ellipse">
            <a:avLst/>
          </a:prstGeom>
          <a:noFill/>
          <a:ln w="442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4e5b6f"/>
                </a:solidFill>
                <a:latin typeface="Century Schoolbook"/>
              </a:rPr>
              <a:t>EDICIÓN DE TEXTOS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56840" y="1599840"/>
            <a:ext cx="7467480" cy="9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Intuitivo, muy parecido a los procesadores de texto que utilizamos habitualmente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8" name="Picture 6" descr=""/>
          <p:cNvPicPr/>
          <p:nvPr/>
        </p:nvPicPr>
        <p:blipFill>
          <a:blip r:embed="rId1"/>
          <a:stretch/>
        </p:blipFill>
        <p:spPr>
          <a:xfrm>
            <a:off x="857160" y="3000240"/>
            <a:ext cx="665820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4e5b6f"/>
                </a:solidFill>
                <a:latin typeface="Century Schoolbook"/>
              </a:rPr>
              <a:t>COMPARTIR Y PUBLICAR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56840" y="1600200"/>
            <a:ext cx="7467480" cy="21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Tipos de participantes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Century Schoolbook"/>
              </a:rPr>
              <a:t>Propietario : crea y edita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Century Schoolbook"/>
              </a:rPr>
              <a:t>Colaboradores: editan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Century Schoolbook"/>
              </a:rPr>
              <a:t>Lectores: leen, pero no editan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Botón comparti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1" name="Picture 2" descr=""/>
          <p:cNvPicPr/>
          <p:nvPr/>
        </p:nvPicPr>
        <p:blipFill>
          <a:blip r:embed="rId1"/>
          <a:stretch/>
        </p:blipFill>
        <p:spPr>
          <a:xfrm>
            <a:off x="1428840" y="3714840"/>
            <a:ext cx="5572080" cy="306396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3" descr=""/>
          <p:cNvPicPr/>
          <p:nvPr/>
        </p:nvPicPr>
        <p:blipFill>
          <a:blip r:embed="rId2"/>
          <a:stretch/>
        </p:blipFill>
        <p:spPr>
          <a:xfrm>
            <a:off x="3500280" y="3286080"/>
            <a:ext cx="819360" cy="2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4e5b6f"/>
                </a:solidFill>
                <a:latin typeface="Century Schoolbook"/>
              </a:rPr>
              <a:t>GOOGLE DOCS EN EL AULA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Por sus características es fácilmente aplicable al ámbito escolar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Utilidades que podemos utilizar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Century Schoolbook"/>
              </a:rPr>
              <a:t>Elaboración conjunta de trabajos (textos escritos) mediante la escritura colaborativa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Century Schoolbook"/>
              </a:rPr>
              <a:t>Implicación de los alumnos en una tarea común que integra lectura y escritura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Century Schoolbook"/>
              </a:rPr>
              <a:t>Comunicación inmediata entre profesor y alumnos para resolver dudas de clase, ejercicios, etc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Century Schoolbook"/>
              </a:rPr>
              <a:t>Corrección y evaluación directa de las tareas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Century Schoolbook"/>
              </a:rPr>
              <a:t>Debates virtuales sobre un asunto de clase.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Century Schoolbook"/>
              </a:rPr>
              <a:t>Creación de un nuevo documento en clase y reedición del mismo en casa (trabajo continuado)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4T10:56:04Z</dcterms:created>
  <dc:creator> </dc:creator>
  <dc:description/>
  <dc:language>en-US</dc:language>
  <cp:lastModifiedBy> </cp:lastModifiedBy>
  <dcterms:modified xsi:type="dcterms:W3CDTF">2010-01-18T17:14:10Z</dcterms:modified>
  <cp:revision>14</cp:revision>
  <dc:subject/>
  <dc:title>Entornos Colaborativos</dc:title>
</cp:coreProperties>
</file>