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A17-C22B-4382-87AA-A2012F6D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B8B-4C30-4F73-A6AC-D71B0BC2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34B-6B38-40D6-BEE6-50F4F8F4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F53-D863-4237-BD68-545B4089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920C-59B4-458E-86E5-79E67E9B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1FAB-97F9-4845-89FD-27B35E6A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5655-9662-44B5-B49C-110DA9A5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C726-2A80-4569-A0CA-A3574634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770A-B49C-4F05-9ECD-629365AC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7979-D441-42D7-BA54-56F1B719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C715-0F02-4AFB-9EB6-4FFE84B5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C53-F336-48C2-AFEB-14379BE2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3FD2-2E0E-44F9-9593-0F524DFD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4128-16DF-4CD3-9588-9B032C8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B065-BF32-46F0-8F6E-8926DDD7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3E2E-BD2C-4160-A688-77DDDB6A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0095-C30A-4316-B1FB-2281EA93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0E1E9-47B8-4A70-8A77-1D38F37D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B6EF9-CEA0-4100-BB37-E42B40ED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E3B30-E54A-4A33-995D-83EF67D4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51513-B6CA-42B7-B8EC-52219BF0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58821-7E21-4DF9-B9ED-BE50C197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224-F355-4F26-855A-96E71417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36D4C-FBE4-4FF4-A5EC-EEB8C951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53D7F-68C9-4FED-89C0-D298488E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52944-E9E0-49AF-A046-6A325F57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C06A1-CE4E-42FA-9927-7F5D7B61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2A206-E0D8-4AC8-8E74-C77A1B1E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7BBA6-7508-4DF3-A5F0-44E382F5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0868A-241C-422C-ADF0-A2E6BEFA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C3467-0D6B-4576-9F60-1FDCB436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D78B-17F1-410F-998A-E9436D5E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EE09-D8DC-42FD-A6B3-5927D8D2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3CC-0F52-4AEA-A932-93D618F6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1AB4C-B79A-40A6-A518-F580F183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293E-EF50-4A64-862D-C9A30052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E377-931B-4ACF-9420-52EA0B44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36F31-C408-4084-8DE3-6AD21823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DAAE-EDCE-4D7E-B6FA-13981B9F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FC7F3-642C-41F5-8D61-A672A5F7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2DDF-467C-4D3D-920E-BC4B8212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EF23-C2EE-495B-9E74-C6704758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D0B5C-F9E6-4570-B281-49D487D0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89995-6A30-4CC0-9482-4FCD22E2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32D-0EF3-43FF-9113-6EBE00DB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58FEB-E5A6-43A6-A919-8FE74A81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70900-861A-4BCC-A3BD-EA6F5FD6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47A1B-C126-476D-B295-669FB74B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6559A-9894-4DF5-B02B-C7AEC20A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F4D45-6672-47BD-AD33-BAEAC85D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BC7A5-EC62-41B8-B76E-74CA8EFE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A0243-DF16-4969-9914-63127DBF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79907-2BDD-49F9-B3B0-A5F1C04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3B6DD-8F44-4FF5-B1CA-F8D89137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03EA3-F6C9-4859-9AF8-8988F81F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544-2514-4B2D-9925-C28ECCC1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27AAB-AF9A-4A87-B83F-EA0C8327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2C14C-3091-4701-80B5-F3F15DC9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802CE-946F-446D-8142-D7356FC4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EDA7E-8D6F-4F43-B240-485047FE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575B5-FBFA-4E2C-B34D-12DD0314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74527-77F5-4D81-AE1E-041F2A9A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00DEF-9F09-438E-9A20-509470F7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00BB7-0A26-4035-BDE0-8B463230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16859-6A9F-46FF-BD4C-D37DF315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FB66F1-5AD6-4936-921D-3A47587C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830-6A07-4BD2-8874-EEA2F68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4254E-903A-4B42-8614-85A4EEE9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58BBF-1D03-4DB4-B541-B45C53D3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E16A6-2662-4231-A845-58C73CAC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F7702-5804-4A36-808C-2539B6C8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5A2AD-8FDC-4010-93FF-21FCDCD6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398681-797F-4F14-AF7B-15DE2E53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F6BCC-C509-40A0-9852-E85BA8FF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E478B-A2BE-48C8-A206-995BD752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548F06-F1DD-4727-9AD1-D7D18B70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3043E-CCCF-4855-A7B8-E3318102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508-3648-4D30-816E-11C4E4D4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B6DF6-B389-4724-AD24-7B53137C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F92D0-DF22-42DF-8979-1E0D0A6A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93D84F-91E4-4107-BFD5-ADBAAAE2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8702B-DCAE-4CBE-919F-519A7A0D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F1EE4-DFE3-488F-9C69-1CE5AD0D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126-B97E-44FC-9123-1B4AA15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594B-161C-4BA6-B5D4-7D1307766AD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4734-8E8F-4D3E-BA84-DD9C4E8B583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EEC3-8848-445B-8425-6A658876577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0BD6-ED42-4E66-A549-35D32DE6687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7FA3-0283-4D4C-8DFC-769033D3E59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3C74-E08A-4458-B1FC-5D22A939355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08C5-9AF6-4203-8F84-FEAE0F02FE0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4e5b6f"/>
                </a:solidFill>
                <a:latin typeface="Century Schoolbook"/>
              </a:rPr>
              <a:t>ENTORNOS COLABORATIV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5b6f"/>
                </a:solidFill>
                <a:latin typeface="Century Schoolbook"/>
              </a:rPr>
              <a:t>Google do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OBJETIVOS Y ACTITUDES QUE DESARROLL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i se utiliza de forma eficaz puede ser una prolongación del trabajo en cla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acilitará la comunicación entre profesor y alumn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os alumnos podrán desarrolla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Trabajos colaborativos teniendo como soporte el ordenado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nriquecimiento personal mediante el conocimiento de las experiencias ajen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Actitud de ayuda y cooper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Respeto a las opiniones diferentes y la aceptación de las crít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Responsabilidad y regulación del tiempo de trabajo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ENTORNOS COLABORATIV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stituyen un conjunto de soluciones que permiten a las organizaciones crear espacios de trabajo en grupo para compartir, almacenar y buscar información, mejorando la eficiencia organizativa y las relaciones de negoc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ducen los tiempos y costes de las comunicaciones, transformando el conocimiento tácito en conocimiento explíci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gunas posibilidad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Office Connect (Microsoft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Acrobat.com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Google App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OOGLE APP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543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torno colaborativo de Goo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es version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stándar: para necesidades básicas. Es gratuit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Premier: para necesidades avanzadas. Tiene un coste anual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ducación: para instituciones educativas. Gratuit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incipales aplicacion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Talk: mensajería instantánea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Calendar: coordinación de agendas compartid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Sites: gestión colaborativa de sitios web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Start Page: página de inicio personalizada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Docs: edición colaborativa de document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¿QUÉ ES GOOGLE DOCS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ear/Editar/Compartir docum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macenamiento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On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oporta varios formato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Microsoft, OpenOffice, texto pla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ratui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072120" y="2786040"/>
            <a:ext cx="1562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PARA UTILIZAR GOOGLE DOCS: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ener una cuenta gm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plicación web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e utiliza a través de un navegad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ttp://docs.google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puede utilizar ‘offline’  con Google Gears, pero hasta que no nos conectemos, no se guardarán los cambi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ESTIÓN DE DOCUMENT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7397640" cy="4286160"/>
          </a:xfrm>
          <a:prstGeom prst="rect">
            <a:avLst/>
          </a:prstGeom>
          <a:ln w="0">
            <a:noFill/>
          </a:ln>
        </p:spPr>
      </p:pic>
      <p:sp>
        <p:nvSpPr>
          <p:cNvPr id="364" name="4 Elipse"/>
          <p:cNvSpPr/>
          <p:nvPr/>
        </p:nvSpPr>
        <p:spPr>
          <a:xfrm>
            <a:off x="5286240" y="3143160"/>
            <a:ext cx="1571760" cy="571680"/>
          </a:xfrm>
          <a:prstGeom prst="ellipse">
            <a:avLst/>
          </a:prstGeom>
          <a:noFill/>
          <a:ln w="442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5 Elipse"/>
          <p:cNvSpPr/>
          <p:nvPr/>
        </p:nvSpPr>
        <p:spPr>
          <a:xfrm>
            <a:off x="6786720" y="3286080"/>
            <a:ext cx="714240" cy="285840"/>
          </a:xfrm>
          <a:prstGeom prst="ellipse">
            <a:avLst/>
          </a:prstGeom>
          <a:noFill/>
          <a:ln w="442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EDICIÓN DE TEXT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599840"/>
            <a:ext cx="74674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tuitivo, muy parecido a los procesadores de texto que utilizamos habitualm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857160" y="3000240"/>
            <a:ext cx="66582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COMPARTIR Y PUBLICAR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ipos de participant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Propietario : crea y edi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laboradores: edit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Lectores: leen, pero no edit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otón comparti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428840" y="3714840"/>
            <a:ext cx="5572080" cy="306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3500280" y="3286080"/>
            <a:ext cx="8193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OOGLE DOCS EN EL AUL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or sus características es fácilmente aplicable al ámbito escol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Utilidades que podemos utiliza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laboración conjunta de trabajos (textos escritos) mediante la escritura colaborativ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Implicación de los alumnos en una tarea común que integra lectura y escritur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municación inmediata entre profesor y alumnos para resolver dudas de clase, ejercicios, etc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rrección y evaluación directa de las tare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Debates virtuales sobre un asunto de clase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reación de un nuevo documento en clase y reedición del mismo en casa (trabajo continuad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0:56:04Z</dcterms:created>
  <dc:creator> </dc:creator>
  <dc:description/>
  <dc:language>en-US</dc:language>
  <cp:lastModifiedBy> </cp:lastModifiedBy>
  <dcterms:modified xsi:type="dcterms:W3CDTF">2010-01-18T17:14:10Z</dcterms:modified>
  <cp:revision>14</cp:revision>
  <dc:subject/>
  <dc:title>Entornos Colaborativos</dc:title>
</cp:coreProperties>
</file>