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466-DBF5-471A-A890-B70E3F4E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2E4-6242-477B-A522-B43A621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B6B-C7EE-47F0-9F25-C0997E6B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67B-C763-432A-97E6-640492F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125C-A5C4-41D0-92D6-2EEB637A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BE16-16CB-4BD9-AC09-5511398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823-A4B0-4BD9-94DD-D85FAC1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F6E-2BBC-499C-AD16-FAA77489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0E29-223D-4A3B-9760-8DDC640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55B-CB12-4DEB-BC16-051CECE3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492B-8069-4371-9891-30EC115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1C3-6F3A-4AB1-840B-3CDCDB1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0E14-457E-45CA-8637-A4FBE22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0D1C-243E-4E86-BCC5-C0EE50A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68E2-523B-4D98-8A55-CEFBB705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078-403F-4115-8BB2-3E14BFD5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411-6599-485E-B6C4-ECEE078D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8A8C1-0C4A-45FE-AC5B-C2976A51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16CB3-1456-4011-95BD-786CB50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61D8F-0054-4DF3-ADD6-294A20F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4549-90BC-467E-965C-F63C444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A1FEE-0860-491E-8148-EDCB86F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2B3-55B8-46B5-935B-EBA6CCC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B1770-CFFE-43DF-A507-40AA6F08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61325-679C-4D7D-8905-9FC6113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17EDE-09D6-42A2-8D18-C3733F7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F6DC9-0B9B-4546-B79E-A772EA6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0105E-5A6A-4DD1-9822-3750C43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90742-B85B-44D1-934A-9388BAB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D25E-89C2-49B4-ABBC-883E2551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B3A4-ECA6-4FB0-9541-A3237406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595A-D430-46D8-A4C8-D85AE26D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51D3-D66B-4FEE-874E-263008E7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931-5FA9-4850-BEE9-B1DA0DCC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3B1D-2032-4171-A633-8478D000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2EE6-A790-466C-B640-D2AFF26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4E4F-5EA1-4853-98DC-43FCD89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5983-1EB8-44C9-96B5-E778BAC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69FA-16A5-4335-A63A-B1E93E6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4547-74BE-4864-9DFA-3F6C9C2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8B19-F9E9-42C1-80F1-983DF49A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9CAA-4936-4428-961B-613D597A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D55F-7E64-49A7-8068-9E2104AF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A9C0B-CBCF-4FBE-A40E-B823003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02F-39A2-4D2B-A8C2-1ADCB9BA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82A37-72E9-485F-A06C-DBA7499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A1C35-794F-4C3A-9BFF-422833F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CA1F5-D5AB-4261-A6F6-8B750896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166C9-3B0C-4103-9215-7093311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83284-FF0A-47E7-A2CE-4846A9E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27B41-A520-4570-9776-44547B49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6730F-42AB-48AC-B5B0-FDA2435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A8BD9-1621-49B3-9173-07CD837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771B6-E276-41B5-831F-7C7DA49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4F309-B6CF-4780-AF06-68B2562D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36D-2FDA-4678-A1CC-3FF4B97D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32666-3A01-4AFE-9ABD-EDAF1334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009F6-2647-43FE-A31C-2FA1D1D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912E1-0AC8-4434-90F4-C8481591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DBEB7-F807-48DC-BC02-58154B2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D3769-A103-467D-B756-69AAE21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AC53B-60E4-41C1-AE8D-A55FD06D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BCB92-39D7-4C1E-B76F-28D981F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05276-DC8B-450F-B61A-2014D8B2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CF99A-54CB-4D5C-8249-32D1A0C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9DCBF-EE68-49DA-B7BA-B17D47C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277-AD74-4234-A165-77D8AD0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ABAE7-95E2-4A8E-B938-5D885BC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48F65-2408-4D50-A334-6ACD0590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318CD-74B1-46D5-B177-F1892FA0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BC5A0-F77D-4ACB-A5CE-0639E3A2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C5C4D-5096-41E9-9B9E-5EFB00B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31893-F75D-4B06-AC20-7B3DF6F1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E5A73-7829-42AF-8BC1-48EA12C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55041-A8F9-4D73-BD6C-21A517DA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6E876-AB79-435B-99E8-BB159BAB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8840D-8E88-42CB-AC2A-444F310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290-805F-4F99-AB90-2F40DAB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4F3DD-8401-48EE-A266-5E45976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04E12-BCC3-4BD3-8AC4-297AD60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B352C-5B20-4853-B269-D36A508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7BE57-C43F-4B47-9E85-E97DF3C3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AE1FA-4867-4AB0-A4BD-6473C23B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AAA-E909-4B68-B8FE-23F7F6F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254-BDE9-49DE-946C-4B41AF8040F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836-4F46-473C-A30B-77CA0D03B1E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58C-8025-4960-BF36-7EBA66226CA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B9E-9E82-4733-8A70-231D0D1B592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70E0-8353-4A88-832C-C14A36A6A76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C8EF-13C7-411E-8EFF-D4FD95EB668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D6F-BD1F-40A1-883D-3388D1EC96C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Google do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OBJETIVOS Y ACTITUDES QUE DESARROL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i se utiliza de forma eficaz puede ser una prolongación del trabajo en cl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acilitará la comunicación entre profesor y alum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os alumnos podrán desarroll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rabajos colaborativos teniendo como soporte el ordenad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riquecimiento personal mediante el conocimiento de las experiencias ajen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titud de ayuda y cooper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eto a las opiniones diferentes y la aceptación de las crít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onsabilidad y regulación del tiempo de trabajo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tituyen un conjunto de soluciones que permiten a las organizaciones crear espacios de trabajo en grupo para compartir, almacenar y buscar información, mejorando la eficiencia organizativa y las relaciones de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ducen los tiempos y costes de las comunicaciones, transformando el conocimiento tácito en conocimiento explíc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as posibil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Office Connect (Microsoft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robat.co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oogle Ap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APP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543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orno colaborativo de Goo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es vers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stándar: para necesidades básicas. Es gratuit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emier: para necesidades avanzadas. Tiene un coste anu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ducación: para instituciones educativas. Gratui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incipales aplicac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Talk: mensajería instantáne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Calendar: coordinación de agendas compartid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ites: gestión colaborativa de sitios web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tart Page: página de inicio personalizada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Docs: edición colaborativa de document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ES GOOGLE DOC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r/Editar/Compartir docum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macenamient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On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porta varios formato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icrosoft, OpenOffice, texto pla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t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2786040"/>
            <a:ext cx="1562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PARA UTILIZAR GOOGLE DOCS: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ener una cuenta g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plicación web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 utiliza a través de un naveg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ttp://docs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puede utilizar ‘offline’  con Google Gears, pero hasta que no nos conectemos, no se guardarán los camb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ESTIÓN DE DOCUMEN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7397640" cy="4286160"/>
          </a:xfrm>
          <a:prstGeom prst="rect">
            <a:avLst/>
          </a:prstGeom>
          <a:ln w="0">
            <a:noFill/>
          </a:ln>
        </p:spPr>
      </p:pic>
      <p:sp>
        <p:nvSpPr>
          <p:cNvPr id="364" name="4 Elipse"/>
          <p:cNvSpPr/>
          <p:nvPr/>
        </p:nvSpPr>
        <p:spPr>
          <a:xfrm>
            <a:off x="5286240" y="3143160"/>
            <a:ext cx="1571760" cy="57168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5 Elipse"/>
          <p:cNvSpPr/>
          <p:nvPr/>
        </p:nvSpPr>
        <p:spPr>
          <a:xfrm>
            <a:off x="6786720" y="3286080"/>
            <a:ext cx="714240" cy="28584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DICIÓN DE TEX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uitivo, muy parecido a los procesadores de texto que utilizamos habitual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658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COMPARTIR Y PUBLICA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ipos de participa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opietario : crea y edi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laboradores: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ectores: leen, pero no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otón compart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5572080" cy="306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500280" y="3286080"/>
            <a:ext cx="819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DOCS EN EL AU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or sus características es fácilmente aplicable al ámbito esco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tilidades que podemos utiliz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aboración conjunta de trabajos (textos escritos) mediante la escritura colaborativ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mplicación de los alumnos en una tarea común que integra lectura y escritu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unicación inmediata entre profesor y alumnos para resolver dudas de clase, ejercicio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rrección y evaluación directa de las tare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bates virtuales sobre un asunto de clas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reación de un nuevo documento en clase y reedición del mismo en casa (trabajo continua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0:56:04Z</dcterms:created>
  <dc:creator> </dc:creator>
  <dc:description/>
  <dc:language>en-US</dc:language>
  <cp:lastModifiedBy> </cp:lastModifiedBy>
  <dcterms:modified xsi:type="dcterms:W3CDTF">2010-01-18T17:14:10Z</dcterms:modified>
  <cp:revision>14</cp:revision>
  <dc:subject/>
  <dc:title>Entornos Colaborativos</dc:title>
</cp:coreProperties>
</file>