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08E9-0D02-4851-AA42-50DFA3EC1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BDA6-BBA7-401D-B9D9-00961F6E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6E4A-A374-455A-9484-6D6FD0617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4847-F7EA-4831-B7B4-541EF250A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EB8A-6A68-4D47-BA04-35D3DCE85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4479-AA62-45A8-A095-5B487C50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68E70-A043-430E-8308-BBC081AB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EBDA-1857-42D0-AA5F-1ADBD0E0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6EF5-F1EB-4FB1-8E9A-1796669E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3A7F-6C99-4C42-AA99-E246FC26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507D-F0D9-4D63-94A7-76B7E604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DE12-567C-4137-8055-F2B27BD5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387B-9FF3-4E82-968C-F27FB051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3C29-0C57-44C2-ABA6-A232BA55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DE1C-CE83-43F1-A16F-C53C11C6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1690-687B-4E04-A248-995D4EBFF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55DC-9814-4B17-8877-F7EC859A1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5823-7049-43EE-AD5A-9D2C65A3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F724-5B18-470A-A38D-6AD4B241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A67D-6487-4CC9-A632-4D5E4993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3FF2-8BC4-444B-B36D-B0A2B081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113A-79F0-42D1-9134-E42FAB6A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579E-7A7F-4C4F-9EF0-DE5B218B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990C-351E-4A1B-9D49-6AECFCA1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E21F-7577-47C6-B702-EEBE1FE44FA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E803-D08B-4841-9CBD-A79CCE40521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webmaster.edu@jccm.es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du.jccm.es/ies/alfonsox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Webmaster.edu@jccm.es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du.jccm.es/tipo%20centro/" TargetMode="External"/><Relationship Id="rId2" Type="http://schemas.openxmlformats.org/officeDocument/2006/relationships/hyperlink" Target="http://edu.jccm.es/tipo%20centro/" TargetMode="External"/><Relationship Id="rId3" Type="http://schemas.openxmlformats.org/officeDocument/2006/relationships/hyperlink" Target="http://edu.jccm.es/tipo%20centro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ROGRAMA WEB DE CENTRO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Grupo &gt;30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53200" y="1223280"/>
            <a:ext cx="7806600" cy="36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10 COSAS A TENER EN CUENTA ANTES DE HACER UNA WEB DE CENTRO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No es una web personal, ni docente, sino la de tu centro educativo, y como tal debe adecuarse a sus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señal de identidad y a su ámbito educativo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No se deben subir a la red archivos con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derechos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 de autor, ni publicar imágenes o fotografías sin los derechos oportuno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Deberás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actualizar la aplicación Joomla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 cuando se indique para evitar problemas de seguridad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Si se incluyen en la web algún sistema de participación como foros, chats, sistemas de comentarios, etc., deberás mantener debidamente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administrado 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l sistema para evitar problemas. Se recomienda que los usuarios que puedan participar estén debidamente registrados e identificado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Implicar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 al resto de compañeros, alumnos y comunidad educativa en la actualización de la web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62200" y="871920"/>
            <a:ext cx="77886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10 COSAS A TENER EN CUENTA ANTES DE HACER UNA WEB DE CENTRO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Mantener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visible la última actualización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 de la web en la página de inicio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Enlazar con el portal de educación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 de la Junta de Comunidades de Castilla-La Mancha con un “banner”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No se recomienda alquilar un servicio de alojamiento externo al de la Junta, ni un dominio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Leer e intentar adecuar la Web a las recomendaciones generales de diseño que se indican en el portal de la Junta y que indicamos a continuación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Una vez que el portal esté funcionando, enviar la URL a </a:t>
            </a:r>
            <a:r>
              <a:rPr b="0" lang="es-ES" sz="16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ebmaster.edu@jccm.es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 para que aparezca en el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directorio de centros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 de Joomla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SIDER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ESIBI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ENI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04600" y="885600"/>
            <a:ext cx="7832520" cy="6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RECOMENDACIONES GENERALES PARA CREAR UNA WEB DE CENTRO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DISEÑO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vitar elementos multimedia innecesarios y limitar su uso en la página de inici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Diseña la web de forma homogénea, estética y sin abusar de imágenes en movimiento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vitar las barras de desplazamiento tipo “scroll” sobre todo en horizontal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stablecer una configuración de pantalla a partir de 1024x768 pixele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No usar marcos (frames) para la creación de un sitio web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Si se incluyen videos o sonidos deberá de ser posible detenerlos o cancelarl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No publicar fotografías tal y como se toman de la cámara, es necesario redimensionarla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Distribuir correctamente los elementos (menús, imágenes, textos,etc)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Limitar el uso de Flash en la página principa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vitar el uso de mayúsculas, tildes o espacios en blanco en nombres de archivos o carpetas utilizados para crear la página web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04600" y="885600"/>
            <a:ext cx="7832520" cy="6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RECOMENDACIONES GENERALES PARA CREAR UNA WEB DE CENTRO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ACCESIBILIDA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Facilitar la accesibilidad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l menú debe permitir el acceso a todas las secciones de la Web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l menú principal debe de estar disponible en todas las páginas de la Web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Comprobar la compatibilidad con la mayor parte de los navegadores Web más utilizado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Procurar la máxima estandarización y utilizar simbología unívoca y fácil de comprender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vitar tiempos de descarga excesivos de los contenidos de la Web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Proporcionar un texto alternativo a todos los elementos gráfic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vitar la apertura de “ventanas emergentes” o “pop-ups”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799920" y="880920"/>
            <a:ext cx="78418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RECOMENDACIONES GENERALES PARA CREAR UNA WEB DE CENTRO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NTENID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acilitar la orientación del usuario. Indicándole en cada momento dónde está dentro de la Web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cluir un mapa del sitio Web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cluir obligatoriamente en la página principal la fecha de la última actualizació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Delimitar claramente el título de la página principal y del resto de páginas del sitio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57520" y="938520"/>
            <a:ext cx="786924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GINAS WEB MAS DESTACAD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PÁGINA WEB MÁS VISITAD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edu.jccm.es/ies/alfonsox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PÁGINAS WEB EDUCATIVAS PREMIADA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2006  IESO Pascual Serrano (Albacete) http://pagina.jccm.es/edu/ies/alpera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2007  IES Ramón y Cajal (Albacete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2008  IES Las sabinas (Albacete) http://ieslassabinas.com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2009  CEIP Santo Tomás de Villanueva http://edu.jccm.es/cp/tomasvillanueva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OTRAS WEB INTERESANT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ttp://edu.jccm.es/ies/sefarad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UTORIALES JOOMLA (VÍDEOS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ttp://edu.jccm.es/joomla15/index.php/foro/6-preguntas-frecuentes-sobre-joomla/283-video-tutoriales-sobre-joomla.htm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688840" y="2457360"/>
            <a:ext cx="4922280" cy="4081680"/>
            <a:chOff x="2688840" y="2457360"/>
            <a:chExt cx="4922280" cy="4081680"/>
          </a:xfrm>
        </p:grpSpPr>
        <p:sp>
          <p:nvSpPr>
            <p:cNvPr id="99" name="_s36872"/>
            <p:cNvSpPr/>
            <p:nvPr/>
          </p:nvSpPr>
          <p:spPr>
            <a:xfrm>
              <a:off x="3996000" y="2781360"/>
              <a:ext cx="2235240" cy="2235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_s36873"/>
            <p:cNvSpPr/>
            <p:nvPr/>
          </p:nvSpPr>
          <p:spPr>
            <a:xfrm rot="4320000">
              <a:off x="4668840" y="2976480"/>
              <a:ext cx="2235240" cy="2234880"/>
            </a:xfrm>
            <a:custGeom>
              <a:avLst/>
              <a:gdLst>
                <a:gd name="textAreaLeft" fmla="*/ 0 w 2235240"/>
                <a:gd name="textAreaRight" fmla="*/ 2235240 w 2235240"/>
                <a:gd name="textAreaTop" fmla="*/ 0 h 2234880"/>
                <a:gd name="textAreaBottom" fmla="*/ 2235240 h 223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_s36881"/>
            <p:cNvSpPr/>
            <p:nvPr/>
          </p:nvSpPr>
          <p:spPr>
            <a:xfrm rot="8640000">
              <a:off x="4932720" y="3860280"/>
              <a:ext cx="2234880" cy="2235240"/>
            </a:xfrm>
            <a:custGeom>
              <a:avLst/>
              <a:gdLst>
                <a:gd name="textAreaLeft" fmla="*/ 0 w 2234880"/>
                <a:gd name="textAreaRight" fmla="*/ 2235240 w 2234880"/>
                <a:gd name="textAreaTop" fmla="*/ 0 h 2235240"/>
                <a:gd name="textAreaBottom" fmla="*/ 2235240 h 223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2" name="_s36883"/>
            <p:cNvSpPr/>
            <p:nvPr/>
          </p:nvSpPr>
          <p:spPr>
            <a:xfrm rot="12960000">
              <a:off x="3132000" y="3860280"/>
              <a:ext cx="2235240" cy="2235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_s36875"/>
            <p:cNvSpPr/>
            <p:nvPr/>
          </p:nvSpPr>
          <p:spPr>
            <a:xfrm rot="17280000">
              <a:off x="3252960" y="2974680"/>
              <a:ext cx="2235240" cy="2235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_s36870"/>
            <p:cNvSpPr/>
            <p:nvPr/>
          </p:nvSpPr>
          <p:spPr>
            <a:xfrm>
              <a:off x="6248520" y="2529000"/>
              <a:ext cx="8222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¿CÓMO FUNCIONA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JOOMLA?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_s36871"/>
            <p:cNvSpPr/>
            <p:nvPr/>
          </p:nvSpPr>
          <p:spPr>
            <a:xfrm>
              <a:off x="6464520" y="4402080"/>
              <a:ext cx="8222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CONSEJOS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GENERAL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_s36874"/>
            <p:cNvSpPr/>
            <p:nvPr/>
          </p:nvSpPr>
          <p:spPr>
            <a:xfrm>
              <a:off x="2864160" y="2457360"/>
              <a:ext cx="8222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¿QUÉ HACER PARA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OBTENER DOMINIO?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_s36880"/>
            <p:cNvSpPr/>
            <p:nvPr/>
          </p:nvSpPr>
          <p:spPr>
            <a:xfrm>
              <a:off x="4716720" y="5445000"/>
              <a:ext cx="8222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RECOMENDACIONES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DE DISEÑO,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ACCESIBILIDA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Y CONTENIDO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8" name="_s36882"/>
            <p:cNvSpPr/>
            <p:nvPr/>
          </p:nvSpPr>
          <p:spPr>
            <a:xfrm>
              <a:off x="3073680" y="4430520"/>
              <a:ext cx="82224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EJEMPLO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JCCM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 pone a disposición de los centros educativos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públicos y concertados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de la comunidad un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servidor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para que creen su propia página web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TENCIÓN DE DOMIN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940320" y="876960"/>
            <a:ext cx="770616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os a seguir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Aceptar las cláusulas del “acuerdo de uso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Enviar un correo electrónico a </a:t>
            </a:r>
            <a:r>
              <a:rPr b="0" lang="es-ES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ebmaster.edu@jccm.es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solicitando la cuenta de email institucional del centro. En el correo se facilitarán los siguientes datos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-Nombre y apellidos del representa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-Dirección oficial de correo electrónico del centr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-Código del centr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-Datos del centro (dirección, población, teléfono,etc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-Tamaño del espacio web que se precisa (se establecen 100Mb por IES, y una base de datos MySQL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-Mencionar que se va a instalar JOMML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57520" y="938520"/>
            <a:ext cx="779796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Pasos a seguir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-La URL que utilizará el centro será del tipo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edu.jccm.es</a:t>
            </a:r>
            <a:r>
              <a:rPr b="0" lang="es-ES" sz="2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/tipo centro/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nombre centro/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tipo de centro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        cp: Colegio Educación Infantil o Primari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ies: Instituto Educación Secundari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eoi: Escuela Oficial de Idioma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cpr: Centro de Profesores y Recurs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cea: Centro de Educación de Adult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cra: Centros Rurales Agrupad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et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El nombre del centro será el nombre de éste lo más corto posible sin utilizar espacios, mayúsculas, tildes, ni la letra “ñ”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56000" y="3429000"/>
            <a:ext cx="5047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790920" y="871920"/>
            <a:ext cx="77886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Pasos a seguir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Una vez enviado el correo, se recibirá una cuenta de correo para el acceso al servidor FTP y la base de datos, IMPRESCINDIBLE para instalar Jomml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Instalar la última versión de Joomla disponible con los datos facilitado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Consulta de dudas en el foro (Comunidad de usuarios de Joomla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62200" y="943560"/>
            <a:ext cx="7788600" cy="4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OOML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Joomla es un gestor de contenidos para crear portales web que nos va a facilitar la tarea de instalar, administrar y dar forma a una web de centro educativo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La última versión disponible de joomla es la 1.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http://ayuda.joomlaspanish.org/ayuda-joomla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SIDERACIONES GENER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7:08:52Z</dcterms:created>
  <dc:creator>jj</dc:creator>
  <dc:description/>
  <dc:language>en-US</dc:language>
  <cp:lastModifiedBy>PROPIETARIO</cp:lastModifiedBy>
  <dcterms:modified xsi:type="dcterms:W3CDTF">2010-01-18T17:53:55Z</dcterms:modified>
  <cp:revision>28</cp:revision>
  <dc:subject/>
  <dc:title>Diapositiva 1</dc:title>
</cp:coreProperties>
</file>