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F8A-87B5-411B-8AB5-31C96F70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6DE-F292-45DB-A6B1-1F318120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540-63AA-43CA-B400-86689F35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210-D3CC-4755-B728-69FFF415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273E-456F-4A0E-B427-6152F297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0AFE-0036-402A-90DD-DF052D7E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0D3E-94B2-47CE-8771-00EA58DC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E32A-FE9B-4CAA-9764-E7A60589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6E3B-1ED3-4E89-BF74-984139BA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A44D-F693-4AE7-9CB0-50C0A4B0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AAB6-4E00-429A-9704-5844A917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401-64D3-485A-AE72-196AB0AD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D151-A2E1-4460-B1FF-40847686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C806-7DAB-4C57-81EF-E1F2D33B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F71F-171F-4378-8D5B-A240B008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1E55-970D-46A4-9D95-77452F00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E849-6A18-4972-83A3-49E7ED74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F44B-697A-484C-90DF-43EAF5E1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382-461E-44BB-8400-4E74231E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3C3-89A4-41DC-AD02-982A595E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7E7-E1B2-413A-BC88-D9654069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307-4FCA-4DBD-ADBF-B1B60488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A05-FA96-4D6E-BB06-1F654EAA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87B-CD94-4353-8A98-D9847781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2172-F6C9-477E-A83D-02BBF97C223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FBB7-0270-4F83-8F8A-8E4AEB52FD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webmaster.edu@jccm.es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du.jccm.es/ies/alfonsox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Webmaster.edu@jccm.es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u.jccm.es/tipo%20centro/" TargetMode="External"/><Relationship Id="rId2" Type="http://schemas.openxmlformats.org/officeDocument/2006/relationships/hyperlink" Target="http://edu.jccm.es/tipo%20centro/" TargetMode="External"/><Relationship Id="rId3" Type="http://schemas.openxmlformats.org/officeDocument/2006/relationships/hyperlink" Target="http://edu.jccm.es/tipo%20centro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GRAMA WEB DE CENTR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rupo &gt;3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53200" y="1223280"/>
            <a:ext cx="7806600" cy="3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0 COSAS A TENER EN CUENTA ANTES DE HACER UNA WEB DE CENTRO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es una web personal, ni docente, sino la de tu centro educativo, y como tal debe adecuarse a su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señal de identidad y a su ámbito educativ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se deben subir a la red archivos con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recho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autor, ni publicar imágenes o fotografías sin los derechos oportun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eberá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actualizar la aplicación Joomla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cuando se indique para evitar problemas de segurida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i se incluyen en la web algún sistema de participación como foros, chats, sistemas de comentarios, etc., deberás mantener debidamente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administrado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sistema para evitar problemas. Se recomienda que los usuarios que puedan participar estén debidamente registrados e identificad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Implicar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al resto de compañeros, alumnos y comunidad educativa en la actualización de l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62200" y="871920"/>
            <a:ext cx="7788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0 COSAS A TENER EN CUENTA ANTES DE HACER UNA WEB DE CENTRO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Mantener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visible la última actualización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la web en la página de inic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lazar con el portal de educación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la Junta de Comunidades de Castilla-La Mancha con un “banner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se recomienda alquilar un servicio de alojamiento externo al de la Junta, ni un domin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Leer e intentar adecuar la Web a las recomendaciones generales de diseño que se indican en el portal de la Junta y que indicamos a continuació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Una vez que el portal esté funcionando, enviar la URL a </a:t>
            </a:r>
            <a:r>
              <a:rPr b="0" lang="es-E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ebmaster.edu@jccm.e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para que aparezca en el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irectorio de centros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 de Joomla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IDER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04600" y="885600"/>
            <a:ext cx="783252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EÑ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elementos multimedia innecesarios y limitar su uso en la página de inic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eña la web de forma homogénea, estética y sin abusar de imágenes en movimient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las barras de desplazamiento tipo “scroll” sobre todo en horizontal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stablecer una configuración de pantalla a partir de 1024x768 pixel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usar marcos (frames) para la creación de un sitio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i se incluyen videos o sonidos deberá de ser posible detenerlos o cancelarl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No publicar fotografías tal y como se toman de la cámara, es necesario redimensionarla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Distribuir correctamente los elementos (menús, imágenes, textos,etc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Limitar el uso de Flash en la página princip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el uso de mayúsculas, tildes o espacios en blanco en nombres de archivos o carpetas utilizados para crear la págin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04600" y="885600"/>
            <a:ext cx="783252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ACCESIBILID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Facilitar la accesibilida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menú debe permitir el acceso a todas las seccione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l menú principal debe de estar disponible en todas las página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Comprobar la compatibilidad con la mayor parte de los navegadores Web más utilizado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rocurar la máxima estandarización y utilizar simbología unívoca y fácil de comprender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tiempos de descarga excesivos de los contenidos de la We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roporcionar un texto alternativo a todos los elementos gráfic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Evitar la apertura de “ventanas emergentes” o “pop-ups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99920" y="880920"/>
            <a:ext cx="78418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COMENDACIONES GENERALES PARA CREAR UNA WEB DE CENTRO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NTENID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acilitar la orientación del usuario. Indicándole en cada momento dónde está dentro de la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luir un mapa del sitio We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luir obligatoriamente en la página principal la fecha de la última actualiz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elimitar claramente el título de la página principal y del resto de páginas del siti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57520" y="938520"/>
            <a:ext cx="78692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GINAS WEB MAS DESTAC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ÁGINA WEB MÁS VISITAD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edu.jccm.es/ies/alfonsox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ÁGINAS WEB EDUCATIVAS PREMIADA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6  IESO Pascual Serrano (Albacete) http://pagina.jccm.es/edu/ies/alpera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7  IES Ramón y Cajal (Albacet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8  IES Las sabinas (Albacete) http://ieslassabinas.com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9  CEIP Santo Tomás de Villanueva http://edu.jccm.es/cp/tomasvillanueva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TRAS WEB INTERESANT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edu.jccm.es/ies/sefarad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UTORIALES JOOMLA (VÍDEOS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edu.jccm.es/joomla15/index.php/foro/6-preguntas-frecuentes-sobre-joomla/283-video-tutoriales-sobre-joomla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88840" y="2457360"/>
            <a:ext cx="4922280" cy="4081680"/>
            <a:chOff x="2688840" y="2457360"/>
            <a:chExt cx="4922280" cy="4081680"/>
          </a:xfrm>
        </p:grpSpPr>
        <p:sp>
          <p:nvSpPr>
            <p:cNvPr id="99" name="_s36872"/>
            <p:cNvSpPr/>
            <p:nvPr/>
          </p:nvSpPr>
          <p:spPr>
            <a:xfrm>
              <a:off x="3996000" y="278136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_s36873"/>
            <p:cNvSpPr/>
            <p:nvPr/>
          </p:nvSpPr>
          <p:spPr>
            <a:xfrm rot="4320000">
              <a:off x="4668840" y="2976480"/>
              <a:ext cx="2235240" cy="2234880"/>
            </a:xfrm>
            <a:custGeom>
              <a:avLst/>
              <a:gdLst>
                <a:gd name="textAreaLeft" fmla="*/ 0 w 2235240"/>
                <a:gd name="textAreaRight" fmla="*/ 2235240 w 2235240"/>
                <a:gd name="textAreaTop" fmla="*/ 0 h 2234880"/>
                <a:gd name="textAreaBottom" fmla="*/ 2235240 h 22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_s36881"/>
            <p:cNvSpPr/>
            <p:nvPr/>
          </p:nvSpPr>
          <p:spPr>
            <a:xfrm rot="8640000">
              <a:off x="4932720" y="3860280"/>
              <a:ext cx="2234880" cy="2235240"/>
            </a:xfrm>
            <a:custGeom>
              <a:avLst/>
              <a:gdLst>
                <a:gd name="textAreaLeft" fmla="*/ 0 w 2234880"/>
                <a:gd name="textAreaRight" fmla="*/ 2235240 w 2234880"/>
                <a:gd name="textAreaTop" fmla="*/ 0 h 2235240"/>
                <a:gd name="textAreaBottom" fmla="*/ 2235240 h 223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_s36883"/>
            <p:cNvSpPr/>
            <p:nvPr/>
          </p:nvSpPr>
          <p:spPr>
            <a:xfrm rot="12960000">
              <a:off x="3132000" y="386028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_s36875"/>
            <p:cNvSpPr/>
            <p:nvPr/>
          </p:nvSpPr>
          <p:spPr>
            <a:xfrm rot="17280000">
              <a:off x="3252960" y="2974680"/>
              <a:ext cx="2235240" cy="22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_s36870"/>
            <p:cNvSpPr/>
            <p:nvPr/>
          </p:nvSpPr>
          <p:spPr>
            <a:xfrm>
              <a:off x="6248520" y="252900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¿CÓMO FUNCIONA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JOOMLA?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36871"/>
            <p:cNvSpPr/>
            <p:nvPr/>
          </p:nvSpPr>
          <p:spPr>
            <a:xfrm>
              <a:off x="6464520" y="440208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CONSEJOS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GENERAL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_s36874"/>
            <p:cNvSpPr/>
            <p:nvPr/>
          </p:nvSpPr>
          <p:spPr>
            <a:xfrm>
              <a:off x="2864160" y="245736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¿QUÉ HACER PARA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OBTENER DOMINIO?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_s36880"/>
            <p:cNvSpPr/>
            <p:nvPr/>
          </p:nvSpPr>
          <p:spPr>
            <a:xfrm>
              <a:off x="4716720" y="544500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RECOMENDACIONES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DE DISEÑO,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ACCESIBILIDA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Y CONTENIDO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_s36882"/>
            <p:cNvSpPr/>
            <p:nvPr/>
          </p:nvSpPr>
          <p:spPr>
            <a:xfrm>
              <a:off x="3073680" y="4430520"/>
              <a:ext cx="8222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EJEMPLO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JCCM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pone a disposición de los centros educativos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úblicos y concertado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de la comunidad un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ervidor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ara que creen su propia página we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TENCIÓN DE DOMIN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40320" y="876960"/>
            <a:ext cx="77061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ceptar las cláusulas del “acuerdo de uso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nviar un correo electrónico a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ebmaster.edu@jccm.es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solicitando la cuenta de email institucional del centro. En el correo se facilitarán los siguientes dato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Nombre y apellidos del representa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Dirección oficial de correo electrónico del cen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Código del cen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Datos del centro (dirección, población, teléfono,etc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Tamaño del espacio web que se precisa (se establecen 100Mb por IES, y una base de datos MySQ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Mencionar que se va a instalar JOMM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57520" y="938520"/>
            <a:ext cx="77979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La URL que utilizará el centro será del tip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edu.jccm.es</a:t>
            </a:r>
            <a:r>
              <a:rPr b="0" lang="es-E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/tipo centro/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nombre centro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tipo de centro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cp: Colegio Educación Infantil o Primar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ies: Instituto Educación Secundar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oi: Escuela Oficial de Idioma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pr: Centro de Profesores y Recurs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ea: Centro de Educación de Adult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cra: Centros Rurales Agrupad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El nombre del centro será el nombre de éste lo más corto posible sin utilizar espacios, mayúsculas, tildes, ni la letra “ñ”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342900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90920" y="871920"/>
            <a:ext cx="7788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asos a segui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vez enviado el correo, se recibirá una cuenta de correo para el acceso al servidor FTP y la base de datos, IMPRESCINDIBLE para instalar Jomm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stalar la última versión de Joomla disponible con los datos facilitad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nsulta de dudas en el foro (Comunidad de usuarios de Jooml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62200" y="943560"/>
            <a:ext cx="7788600" cy="4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OOM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oomla es un gestor de contenidos para crear portales web que nos va a facilitar la tarea de instalar, administrar y dar forma a una web de centro educativ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a última versión disponible de joomla es la 1.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ttp://ayuda.joomlaspanish.org/ayuda-joomla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IDERACIONES GENER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7:08:52Z</dcterms:created>
  <dc:creator>jj</dc:creator>
  <dc:description/>
  <dc:language>en-US</dc:language>
  <cp:lastModifiedBy>PROPIETARIO</cp:lastModifiedBy>
  <dcterms:modified xsi:type="dcterms:W3CDTF">2010-01-18T17:53:55Z</dcterms:modified>
  <cp:revision>28</cp:revision>
  <dc:subject/>
  <dc:title>Diapositiva 1</dc:title>
</cp:coreProperties>
</file>